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EB7-F3AD-45B5-9900-69677128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AE5-0E08-4BD5-8CB4-952CFB89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FD3-ECB9-4610-A518-AEAA0281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436-3151-4F53-AE3E-97CF5C6E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3D7-EC3C-4661-9685-7FC47821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604-F8F9-4C8C-8111-3FCDC2AF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717-12A8-4471-A179-E73D6C33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F96-1F4B-47A5-A545-8FAECF8C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9DF-0348-4781-A0E0-8398C1B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CF8-78D3-4DAE-AC66-722812DA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920-BAC4-403B-A733-9715929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A99-E55F-400F-B93C-CE9B494A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BF158-3336-4792-A0B9-ACD7457F01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2E9E1-546E-4484-AD78-FCED6227AC2A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1:51:14Z</dcterms:created>
  <dc:creator>최봉수</dc:creator>
  <dc:description/>
  <dc:language>en-US</dc:language>
  <cp:lastModifiedBy>맛있다 군만두</cp:lastModifiedBy>
  <dcterms:modified xsi:type="dcterms:W3CDTF">2024-10-01T02:55:51Z</dcterms:modified>
  <cp:revision>4</cp:revision>
  <dc:subject/>
  <dc:title>슬라이드 1</dc:title>
</cp:coreProperties>
</file>