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B44-250B-4B61-9E0F-C3029048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0C1-1314-4ACB-96BC-BFD4C2DF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5CEB-01C9-481F-A3A4-B5637131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7F3-BAA3-44AE-8428-C043788B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67B-6931-4B43-9CE4-07C568E7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CA1-859F-4643-A43C-C9424979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6F7-F4D9-4963-AD46-79857190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75F-FD7D-451D-90C1-ED7E3A0D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147-542F-4FC1-A845-84CB2ECD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456-4470-4794-A243-3EF2F1D7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BA3-F89C-4BF9-974E-95B0ECE8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59C-BA95-4E69-BA8E-FA3E5E92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A2B42-947F-4E73-83B2-600BF522E1B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FD08B-B7BA-419E-BB84-8812E04FF9B2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1:51:14Z</dcterms:created>
  <dc:creator>최봉수</dc:creator>
  <dc:description/>
  <dc:language>en-US</dc:language>
  <cp:lastModifiedBy>맛있다 군만두</cp:lastModifiedBy>
  <dcterms:modified xsi:type="dcterms:W3CDTF">2024-10-01T02:55:51Z</dcterms:modified>
  <cp:revision>4</cp:revision>
  <dc:subject/>
  <dc:title>슬라이드 1</dc:title>
</cp:coreProperties>
</file>