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ketelbinkie.wav" ContentType="audio/x-wav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this_is_the_end_x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561-3211-4EC0-8A2C-77509C4C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925-4FBD-4AB5-9633-5B5C6BF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D55-624F-4D8C-BCD7-CB74F2F5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212-408C-4A72-9C9F-877DEBBD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403-5528-4542-8D47-E3CCEEDF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5B9-00D5-40FF-888A-2B0066BB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B29-E8D0-47CE-B179-4EB80958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515-4289-4187-92AA-F39452E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947-8222-4308-BD78-96D7D95B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08E-0650-4327-A492-63058015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E79-D3C2-4C2B-8552-6A84AD7D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A2F-88B1-45B2-B70A-7E1A0BB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7B4-A8B7-476A-911D-48E392CFBC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ketelbinki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audio" Target="../media/this_is_the_end_x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304920"/>
            <a:ext cx="8763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owerPoint  Di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presenteerd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KETELBINKI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8000">
    <p:zoom dir="out"/>
    <p:sndAc>
      <p:stSnd>
        <p:snd r:embed="rId8" name="ketelbink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18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5516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j werd gescholden door de st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60213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van de eerste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5589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maar net de pier uit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6095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zeeziek in het ‘foc – sle ‘la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661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jenever en citr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12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weer op de been geb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4843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60213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brengen schade aan de vrach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4450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zieke zeelui zijn nadel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6708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6012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- ie dan sjouwend met zijn k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4343400"/>
            <a:ext cx="1828800" cy="380880"/>
          </a:xfrm>
          <a:prstGeom prst="rect">
            <a:avLst/>
          </a:prstGeom>
          <a:solidFill>
            <a:srgbClr val="765700"/>
          </a:solidFill>
          <a:ln w="9360">
            <a:solidFill>
              <a:srgbClr val="765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etelbin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0" t="0" r="0" b="22440"/>
          <a:stretch/>
        </p:blipFill>
        <p:spPr>
          <a:xfrm>
            <a:off x="380880" y="304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6087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n de kombuis naar voren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6019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was het net een brokkie wan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200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6012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558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neer hij ‘s avonds in zijn kooi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0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a het sjouwen eind’lijk sli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schold de man die ‘wacht – te – kooi’ h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1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om zijn moeder rie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6021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de “Edam “een ouwe sch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206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van Rotterdam vertro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6019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was in de Stille Oce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is – ie op een mooie mo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589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60879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t van zijn kooi goed opgestaa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589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wijl ze brulden om hun kof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1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6012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toen de stuurman met k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616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wonderolie bij hem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5867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oeg hij een voorschot op zijn 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518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 ‘t ouwe mens in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01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zeildoek en met rooster 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02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dien dag op ‘t luik g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127720" cy="505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kapitein lichte zijn pe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6021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prak met grafstem een ge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28080" cy="4919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5373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 ‘n “Een – twee – drie – in Godsnaam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95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ng ‘t ketelbinkie over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506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5445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‘t ouwetje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019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dat niet bij zeelui hoor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4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kakkerlakken in de midsche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12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rattennesten in ‘t vooru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520" y="379440"/>
            <a:ext cx="7924680" cy="529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601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man een extra mokkie ‘schoot – 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6012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‘t ouwe mens een tele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6019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 was het einde van een ‘zeem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17998"/>
          <a:stretch/>
        </p:blipFill>
        <p:spPr>
          <a:xfrm>
            <a:off x="609480" y="380880"/>
            <a:ext cx="7925040" cy="5410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2120" y="6012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76520" y="304920"/>
            <a:ext cx="5790960" cy="6248160"/>
          </a:xfrm>
          <a:custGeom>
            <a:avLst/>
            <a:gdLst>
              <a:gd name="textAreaLeft" fmla="*/ 1321920 w 5790960"/>
              <a:gd name="textAreaRight" fmla="*/ 4469040 w 5790960"/>
              <a:gd name="textAreaTop" fmla="*/ 1426320 h 6248160"/>
              <a:gd name="textAreaBottom" fmla="*/ 4821840 h 624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s_is_the_end_x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153640" cy="5516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hadden we een kleine jo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012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‘ketelbink ‘bij ons aan 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96080" cy="551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51664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oor de eersten keer naar zee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87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ooit van haaien had gehoor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4916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an zijn moeder aan de 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487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943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 schuchter lachend afscheid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601200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43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- ie haar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7924680" cy="5072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601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30:24Z</dcterms:created>
  <dc:creator>Powerpoint Dick</dc:creator>
  <dc:description/>
  <dc:language>en-US</dc:language>
  <cp:lastModifiedBy>Smets</cp:lastModifiedBy>
  <dcterms:modified xsi:type="dcterms:W3CDTF">2008-09-29T20:01:33Z</dcterms:modified>
  <cp:revision>3</cp:revision>
  <dc:subject/>
  <dc:title>Ketelbink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