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ketelbinkie.wav" ContentType="audio/x-wav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30.jpeg" ContentType="image/jpeg"/>
  <Override PartName="/ppt/media/this_is_the_end_x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7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DF0-9E0D-4364-B11D-E2BD2278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C6F-4D9D-41B0-B4DA-679395F2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706-A818-4EC0-86EC-D35249D6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D3D-75DD-44AC-B14C-7103F6C7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77D-663D-4C17-BD16-5701C6F0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BD0-EE98-41B7-B88B-D64D94C7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9A2-4EDB-4EE2-9F8C-271A8A5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687-C512-4648-83C7-A2C65A5D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0A1-2CF0-47DA-B591-D80CF612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3E0-2533-4FDE-ADC2-5FB2C2B0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5AF-BF02-4FF2-B4D1-670D27FF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DEE-26A0-40D9-A7A8-54DBD05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FA4D-50A5-467B-A932-BCD29E33B3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ketelbinki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audio" Target="../media/this_is_the_end_x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304920"/>
            <a:ext cx="87631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PowerPoint  Di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presenteerd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KETELBINKI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8000">
    <p:zoom dir="out"/>
    <p:sndAc>
      <p:stSnd>
        <p:snd r:embed="rId8" name="ketelbinki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18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55166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j werd gescholden door de sto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60213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– ie van de eerste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1976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5589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wij maar net de pier uitw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6095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zeeziek in het ‘foc – sle ‘la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661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met jenever en citr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012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d hij weer op de been geb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4843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60213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brengen schade aan de vrach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4450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zieke zeelui zijn nadel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267080" cy="5181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60120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 - ie dan sjouwend met zijn k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4343400"/>
            <a:ext cx="1828800" cy="380880"/>
          </a:xfrm>
          <a:prstGeom prst="rect">
            <a:avLst/>
          </a:prstGeom>
          <a:solidFill>
            <a:srgbClr val="765700"/>
          </a:solidFill>
          <a:ln w="9360">
            <a:solidFill>
              <a:srgbClr val="765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ketelbin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rcRect l="0" t="0" r="0" b="22440"/>
          <a:stretch/>
        </p:blipFill>
        <p:spPr>
          <a:xfrm>
            <a:off x="380880" y="304920"/>
            <a:ext cx="4114800" cy="518148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608796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n de kombuis naar voren k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60199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was het net een brokkie wanh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53280" cy="5200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6012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53280" cy="5516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558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neer hij ‘s avonds in zijn kooi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095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na het sjouwen eind’lijk sli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53280" cy="551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55166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schold de man die ‘wacht – te – kooi’ h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12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– ie om zijn moeder rie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6021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 de “Edam “een ouwe sch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206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wij van Rotterdam vertro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848720" cy="506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6019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was in de Stille Oce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589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is – ie op een mooie mo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48360" cy="5589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60879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t van zijn kooi goed opgestaa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5897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wijl ze brulden om hun kof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251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6012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toen de stuurman met k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6164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wonderolie bij hem kw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5867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oeg hij een voorschot op zijn 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518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120" y="5935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 ‘t ouwe mens in Rotterdam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01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zeildoek en met rooster 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02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d hij dien dag op ‘t luik ge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127720" cy="5059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5589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kapitein lichte zijn pe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6021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prak met grafstem een ge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28080" cy="4919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" y="5373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met  ‘n “Een – twee – drie – in Godsnaam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950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ng ‘t ketelbinkie overb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01000" cy="506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5445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‘t ouwetje niet durfde 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6019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dat niet bij zeelui hoor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44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 kakkerlakken in de midsche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12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rattennesten in ‘t vooru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520" y="379440"/>
            <a:ext cx="7924680" cy="5294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480" y="6012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man een extra mokkie ‘schoot – an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6012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‘t ouwe mens een tele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6019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 was het einde van een ‘zeeman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0" r="0" b="17998"/>
          <a:stretch/>
        </p:blipFill>
        <p:spPr>
          <a:xfrm>
            <a:off x="609480" y="380880"/>
            <a:ext cx="7925040" cy="5410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2120" y="6012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76520" y="304920"/>
            <a:ext cx="5790960" cy="6248160"/>
          </a:xfrm>
          <a:custGeom>
            <a:avLst/>
            <a:gdLst>
              <a:gd name="textAreaLeft" fmla="*/ 1321920 w 5790960"/>
              <a:gd name="textAreaRight" fmla="*/ 4469040 w 5790960"/>
              <a:gd name="textAreaTop" fmla="*/ 1426320 h 6248160"/>
              <a:gd name="textAreaBottom" fmla="*/ 4821840 h 6248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05092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autoRev="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is_is_the_end_x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153640" cy="5516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55166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en hadden we een kleine jo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6012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 ‘ketelbink ‘bij ons aan b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96080" cy="5516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551664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voor de eersten keer naar zee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87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nooit van haaien had gehoord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4916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5935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van zijn moeder aan de k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487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943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 schuchter lachend afscheid 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7732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601200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943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dat - ie haar niet durfde 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7924680" cy="5072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6012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traatjongen uit Rotterdam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30:24Z</dcterms:created>
  <dc:creator>Powerpoint Dick</dc:creator>
  <dc:description/>
  <dc:language>en-US</dc:language>
  <cp:lastModifiedBy>Smets</cp:lastModifiedBy>
  <dcterms:modified xsi:type="dcterms:W3CDTF">2008-09-29T20:01:33Z</dcterms:modified>
  <cp:revision>3</cp:revision>
  <dc:subject/>
  <dc:title>Ketelbink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