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BC1-5BF4-4F68-8044-61298157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699-90ED-4738-BEE0-21454E55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D55-9530-4B51-9585-1A2EB744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5EF-AAB5-48C7-8EC5-A9FC849C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E3F-F286-41BE-B9B3-F6CCFB1E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623-954D-482A-B5CE-03C8572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52C-C21C-4CF8-8E73-8B8ED194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26A-E77D-4D30-9C30-9A151700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EB5-8662-44AA-9A3D-1FB36718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8D7-69D6-49D2-B25D-E0DE1963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4419-BD2F-4774-A222-F1DC9C17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17A-C5D2-4EDC-8678-95CA7300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B846-EF5F-4878-BA21-0E230468E6F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4:23:04Z</dcterms:modified>
  <cp:revision>25</cp:revision>
  <dc:subject/>
  <dc:title>슬라이드 1</dc:title>
</cp:coreProperties>
</file>