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37FD-777F-420D-9D68-2FE6C93DD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F932-12D7-401F-B92F-DCD14B75E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9A06-AD05-4CD9-99DF-B2B9CF458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734E-17D1-4F6B-AEE2-0F0D2D572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611C-501F-442A-9C2B-DBC60879E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8795-E9C0-4D3D-9779-966E6EC4E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C72A-E6AA-4850-B7E7-3C93142DA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FA0F-992D-4AE7-BBD2-0B7624DE8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00C7-2022-4301-9F85-D90520941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9BF0-84AD-471E-94E5-8088BDD6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F463-6E2E-46BD-AFF3-4884B743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1975-0A07-426C-B4BB-62A658AA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5F671-D28E-4200-AD4E-525357D30F0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1:22:16Z</dcterms:created>
  <dc:creator>All user</dc:creator>
  <dc:description/>
  <dc:language>en-US</dc:language>
  <cp:lastModifiedBy>Seo, Jiwon</cp:lastModifiedBy>
  <dcterms:modified xsi:type="dcterms:W3CDTF">2020-12-31T04:23:04Z</dcterms:modified>
  <cp:revision>25</cp:revision>
  <dc:subject/>
  <dc:title>슬라이드 1</dc:title>
</cp:coreProperties>
</file>