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5BD-D0D8-462A-80CE-A0FA6ABE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9F4-E33C-47AE-BF4A-5096B7D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133-9444-4347-84A3-02B6E122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631-DFDA-478B-ABD7-B2FCDA49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E77-4CEC-4D4B-94CA-659D1AB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4C9-CDCC-493B-B991-3B42727A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23E-08A1-40C7-9D58-01A00E6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40AC-1D36-4C37-BDFD-6E763051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02E-1C6F-4A24-AB49-405AB399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E2B-686D-48DD-AFBE-FE3516D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050-6583-4267-974C-696D61F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145-1231-424C-83A8-66F402F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28476-48FA-4E37-9554-93147752FB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6E996-516D-46E7-870C-70298025619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8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0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11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3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5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6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7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8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9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20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2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5:14:52Z</dcterms:created>
  <dc:creator>최봉수</dc:creator>
  <dc:description/>
  <dc:language>en-US</dc:language>
  <cp:lastModifiedBy>맛있다 군만두</cp:lastModifiedBy>
  <dcterms:modified xsi:type="dcterms:W3CDTF">2023-07-13T08:10:49Z</dcterms:modified>
  <cp:revision>5</cp:revision>
  <dc:subject/>
  <dc:title>슬라이드 1</dc:title>
</cp:coreProperties>
</file>