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23F4-44A3-416A-B695-ADC4F556F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E460-74ED-4F15-BA14-CB1C0930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8FAB-303F-43BC-A95B-DD9903BE0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D4F1-DE02-449E-8C5F-6A7960DBC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F994-A479-434A-9616-3D96569E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7378-30BD-4FA3-BCAF-E5952754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2219-D307-48C1-8A32-767A68A0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D239-8971-41FE-8C38-7B048C5D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40E6-9234-4869-8B25-DE9FC6E5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6601-5197-460A-9DA2-F186444F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B032-54CD-4241-AB22-3C7C02B8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B1CA-7B86-4094-B4F2-47030C91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62B7DC-CCA8-46F7-91D1-28A5CCEFEA4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D75DF3-9172-4DB2-85E1-E465072E119E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2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"/><Relationship Id="rId14" Type="http://schemas.openxmlformats.org/officeDocument/2006/relationships/image" Target="../media/image3.png"/><Relationship Id="rId15" Type="http://schemas.openxmlformats.org/officeDocument/2006/relationships/slide" Target="slide5.xm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2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"/><Relationship Id="rId14" Type="http://schemas.openxmlformats.org/officeDocument/2006/relationships/image" Target="../media/image3.png"/><Relationship Id="rId15" Type="http://schemas.openxmlformats.org/officeDocument/2006/relationships/slide" Target="slide5.xm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2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"/><Relationship Id="rId14" Type="http://schemas.openxmlformats.org/officeDocument/2006/relationships/image" Target="../media/image3.png"/><Relationship Id="rId15" Type="http://schemas.openxmlformats.org/officeDocument/2006/relationships/slide" Target="slide5.xm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2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"/><Relationship Id="rId14" Type="http://schemas.openxmlformats.org/officeDocument/2006/relationships/image" Target="../media/image3.png"/><Relationship Id="rId15" Type="http://schemas.openxmlformats.org/officeDocument/2006/relationships/slide" Target="slide5.xml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" Target="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8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44" name="Picture 9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10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11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47" name="Picture 12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3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4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50" name="Picture 15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6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7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53" name="Picture 18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9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20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56" name="Pictur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22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0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6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6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6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69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72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0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7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7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8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85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88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0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92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95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98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01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04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0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08" name="Picture 6" descr=""/>
            <p:cNvPicPr/>
            <p:nvPr/>
          </p:nvPicPr>
          <p:blipFill>
            <a:blip r:embed="rId2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7"/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11" name="Picture 9" descr=""/>
            <p:cNvPicPr/>
            <p:nvPr/>
          </p:nvPicPr>
          <p:blipFill>
            <a:blip r:embed="rId3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10"/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14" name="Picture 12" descr=""/>
            <p:cNvPicPr/>
            <p:nvPr/>
          </p:nvPicPr>
          <p:blipFill>
            <a:blip r:embed="rId4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13"/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17" name="Picture 15" descr=""/>
            <p:cNvPicPr/>
            <p:nvPr/>
          </p:nvPicPr>
          <p:blipFill>
            <a:blip r:embed="rId5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6"/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20" name="Picture 18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9"/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5:14:52Z</dcterms:created>
  <dc:creator>최봉수</dc:creator>
  <dc:description/>
  <dc:language>en-US</dc:language>
  <cp:lastModifiedBy>맛있다 군만두</cp:lastModifiedBy>
  <dcterms:modified xsi:type="dcterms:W3CDTF">2023-07-13T08:10:49Z</dcterms:modified>
  <cp:revision>5</cp:revision>
  <dc:subject/>
  <dc:title>슬라이드 1</dc:title>
</cp:coreProperties>
</file>