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6F83-D903-4DE2-9D94-FF72EF6BEB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E15B-1018-4B6A-AEF2-D48BDE89B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3934-541B-453B-B835-43338CF3D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92C6-A8AB-4CC6-9C83-ADA560475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1B50-E21B-4837-8720-D549EB00E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440" y="4628880"/>
            <a:ext cx="54831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9646-C1E0-42D1-B2A3-42C0E6FAD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440" y="4628880"/>
            <a:ext cx="54831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508A-E336-4912-AF00-EE049E247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440" y="4628880"/>
            <a:ext cx="54831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A96F-7EE5-45EA-841E-161548811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440" y="4628880"/>
            <a:ext cx="54831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D910-DF94-4E26-8636-C369E510C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50EE-BCB4-4114-ABFD-9D5F068687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2B1E-7FB1-4DE6-AFC1-F424C66CE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20E7-2A22-4D83-8E35-CEE044C95C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A2AB-3937-426C-9BDB-83CF9582BF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9B7F-2AA6-4C89-B1D8-EC253781FC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2762-D50C-4663-BB80-286B1F167F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EE0B-59BD-496F-AA6F-28C213B12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393B-9D7B-472A-8EA1-386218ADF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D0DC-A23D-4FD9-B090-750A68343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FF8F-28E4-4A3A-B389-797657420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5194-31F9-413E-92B7-D002ED543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9B5-892B-4C75-88C5-1268950B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556-B596-4DA7-9D42-7DE6E4B3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35F-759D-485D-8170-9E6AE6FD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162E-23C1-4B64-8056-42914AC7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4A1B-D47F-4FEB-A075-BCE7CAAC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72D-64B6-4A39-ACB3-A4DB7C1E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E49F-A164-44F2-AC04-573008C9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7E5B-D0B9-42AB-84CD-ACC975F9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A236-64CC-4F0E-A29E-32ADC6C6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7A54-DCC9-45AA-889E-D93230DF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411-1626-4531-BFC9-90EBFEC7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9A8-AFA5-470B-BFE3-349EDC6E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0362-D6AA-4C9F-A06D-DFB609EDF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3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051360" y="721800"/>
            <a:ext cx="15193800" cy="9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Bookman Old Style"/>
              </a:rPr>
              <a:t>La loi n° 01-20</a:t>
            </a:r>
            <a:r>
              <a:rPr b="1" lang="en-US" sz="3600" spc="-1" strike="noStrike">
                <a:solidFill>
                  <a:srgbClr val="99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Bookman Old Style"/>
              </a:rPr>
              <a:t>relative à l'aménagement</a:t>
            </a:r>
            <a:r>
              <a:rPr b="1" lang="en-US" sz="3600" spc="-1" strike="noStrike">
                <a:solidFill>
                  <a:srgbClr val="99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Bookman Old Style"/>
              </a:rPr>
              <a:t>et 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Bookman Old Style"/>
              </a:rPr>
              <a:t>développement durable du territoire</a:t>
            </a:r>
            <a:r>
              <a:rPr b="1" lang="en-US" sz="3400" spc="-1" strike="noStrike">
                <a:solidFill>
                  <a:srgbClr val="990000"/>
                </a:solidFill>
                <a:latin typeface="Bookman Old Style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Parmi les objectifs du SNAT 20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Le 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Bookman Old Style"/>
              </a:rPr>
              <a:t>SNAT 2025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vise 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Bookman Old Style"/>
              </a:rPr>
              <a:t>à assure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ookman Old Style"/>
              </a:rPr>
              <a:t>l'exploitation rationnelle de l'espace national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et notamment la répartition de la population et des activités économiques sur l'ensemble du territoire natio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la </a:t>
            </a:r>
            <a:r>
              <a:rPr b="1" lang="en-US" sz="2000" spc="-1" strike="noStrike">
                <a:solidFill>
                  <a:srgbClr val="ff0000"/>
                </a:solidFill>
                <a:latin typeface="Bookman Old Style"/>
              </a:rPr>
              <a:t>valorisation et l'exploitation rationnelle des ressources naturel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la </a:t>
            </a:r>
            <a:r>
              <a:rPr b="1" lang="en-US" sz="2000" spc="-1" strike="noStrike">
                <a:solidFill>
                  <a:srgbClr val="ff0000"/>
                </a:solidFill>
                <a:latin typeface="Bookman Old Style"/>
              </a:rPr>
              <a:t>répartition spatiale appropriée des villes et établissements humains,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à travers la maîtrise de la croissance des agglomérations et une armature urbaine équilibré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le </a:t>
            </a:r>
            <a:r>
              <a:rPr b="1" lang="en-US" sz="2000" spc="-1" strike="noStrike">
                <a:solidFill>
                  <a:srgbClr val="ff0000"/>
                </a:solidFill>
                <a:latin typeface="Bookman Old Style"/>
              </a:rPr>
              <a:t>soutien aux activités économiques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modulé selon les territoi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1052640"/>
            <a:ext cx="914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Le SNAT 2025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ookman Old Style"/>
              </a:rPr>
              <a:t>établit les principes régissant la localisation des grandes infrastructures de transport, des grands équipements et des services collectifs d'intérêt nationa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Bookman Old Style"/>
              </a:rPr>
              <a:t>intègre les différentes politiques de développement économique et social qui concourent à la mise en ouvre de la politique nationale d'aménagement du territoi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ookman Old Style"/>
              </a:rPr>
              <a:t>fixe pour certaines parties du territoire une stratégie adaptée, visant à rétablir les équilibres nécessaires à la durabilité du développement ou à créer et promouvoir les conditions de ce développemen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Bookman Old Style"/>
              </a:rPr>
              <a:t>Le SNAT 2025</a:t>
            </a:r>
            <a:r>
              <a:rPr b="1" lang="en-US" sz="3600" spc="-1" strike="noStrike">
                <a:solidFill>
                  <a:srgbClr val="990000"/>
                </a:solidFill>
                <a:latin typeface="Bookman Old Style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est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approuvé par voie législative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pour une période de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vingt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(20) 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Il fait l’objet d’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évaluations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périodiques et d’une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actualisation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tous les              cinq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(05) ans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, selon les mêmes for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Bookman Old Style"/>
              </a:rPr>
              <a:t>La démarche</a:t>
            </a:r>
            <a:r>
              <a:rPr b="1" lang="en-US" sz="3300" spc="-1" strike="noStrike">
                <a:solidFill>
                  <a:srgbClr val="000000"/>
                </a:solidFill>
                <a:latin typeface="Bookman Old Style"/>
              </a:rPr>
              <a:t> logique du SNAT 2025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050840" y="619200"/>
            <a:ext cx="6400800" cy="358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Bookman Old Style"/>
                <a:ea typeface="Arial"/>
              </a:rPr>
              <a:t>Du Bilan – Diagnostic aux problémat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709720" y="3463920"/>
            <a:ext cx="2594160" cy="349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  <a:ea typeface="Arial"/>
              </a:rPr>
              <a:t>Les scé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838680" y="5178600"/>
            <a:ext cx="4070160" cy="349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  <a:ea typeface="Arial"/>
              </a:rPr>
              <a:t>Le SNAT Proprement 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370320" y="4302000"/>
            <a:ext cx="5270400" cy="349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  <a:ea typeface="Arial"/>
              </a:rPr>
              <a:t>Les lignes directrices du SNAT 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260960" y="6033960"/>
            <a:ext cx="4883040" cy="6087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  <a:ea typeface="Arial"/>
              </a:rPr>
              <a:t>Une stratégie de mise œuvre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Bookman Old Style"/>
                <a:ea typeface="Arial"/>
              </a:rPr>
              <a:t>et de suivi du </a:t>
            </a:r>
            <a:r>
              <a:rPr b="1" lang="en-US" sz="2000" spc="-1" strike="noStrike">
                <a:solidFill>
                  <a:srgbClr val="cc0000"/>
                </a:solidFill>
                <a:latin typeface="Bookman Old Style"/>
                <a:ea typeface="Arial"/>
              </a:rPr>
              <a:t>SNAT 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2971800" y="3843360"/>
            <a:ext cx="365040" cy="684360"/>
            <a:chOff x="2971800" y="3843360"/>
            <a:chExt cx="365040" cy="684360"/>
          </a:xfrm>
        </p:grpSpPr>
        <p:sp>
          <p:nvSpPr>
            <p:cNvPr id="90" name="Line 9"/>
            <p:cNvSpPr/>
            <p:nvPr/>
          </p:nvSpPr>
          <p:spPr>
            <a:xfrm>
              <a:off x="2981520" y="3843360"/>
              <a:ext cx="0" cy="684360"/>
            </a:xfrm>
            <a:prstGeom prst="line">
              <a:avLst/>
            </a:prstGeom>
            <a:ln w="66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0"/>
            <p:cNvSpPr/>
            <p:nvPr/>
          </p:nvSpPr>
          <p:spPr>
            <a:xfrm>
              <a:off x="2971800" y="4501800"/>
              <a:ext cx="365040" cy="0"/>
            </a:xfrm>
            <a:prstGeom prst="line">
              <a:avLst/>
            </a:prstGeom>
            <a:ln w="6660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AutoShape 11"/>
          <p:cNvGrpSpPr/>
          <p:nvPr/>
        </p:nvGrpSpPr>
        <p:grpSpPr>
          <a:xfrm>
            <a:off x="23760" y="1712880"/>
            <a:ext cx="3841920" cy="646200"/>
            <a:chOff x="23760" y="1712880"/>
            <a:chExt cx="3841920" cy="646200"/>
          </a:xfrm>
        </p:grpSpPr>
        <p:pic>
          <p:nvPicPr>
            <p:cNvPr id="93" name="AutoShape 11" descr=""/>
            <p:cNvPicPr/>
            <p:nvPr/>
          </p:nvPicPr>
          <p:blipFill>
            <a:blip r:embed="rId1"/>
            <a:stretch/>
          </p:blipFill>
          <p:spPr>
            <a:xfrm>
              <a:off x="23760" y="1712880"/>
              <a:ext cx="38419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4520" y="1765440"/>
              <a:ext cx="37353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Les Forces et les faiblesses </a:t>
              </a:r>
              <a:br>
                <a:rPr sz="1900"/>
              </a:b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des territoir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AutoShape 12"/>
          <p:cNvGrpSpPr/>
          <p:nvPr/>
        </p:nvGrpSpPr>
        <p:grpSpPr>
          <a:xfrm>
            <a:off x="4479840" y="1530360"/>
            <a:ext cx="4475160" cy="884160"/>
            <a:chOff x="4479840" y="1530360"/>
            <a:chExt cx="4475160" cy="884160"/>
          </a:xfrm>
        </p:grpSpPr>
        <p:pic>
          <p:nvPicPr>
            <p:cNvPr id="96" name="AutoShape 12" descr=""/>
            <p:cNvPicPr/>
            <p:nvPr/>
          </p:nvPicPr>
          <p:blipFill>
            <a:blip r:embed="rId2"/>
            <a:stretch/>
          </p:blipFill>
          <p:spPr>
            <a:xfrm>
              <a:off x="4479840" y="1530360"/>
              <a:ext cx="447516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43560" y="1595520"/>
              <a:ext cx="434484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Les tendances lourdes, les enjeux et les ruptures territoriaux à 202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WordArt 13"/>
          <p:cNvSpPr txBox="1"/>
          <p:nvPr/>
        </p:nvSpPr>
        <p:spPr>
          <a:xfrm>
            <a:off x="5369040" y="4846680"/>
            <a:ext cx="12618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propos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9" name="WordArt 14"/>
          <p:cNvSpPr txBox="1"/>
          <p:nvPr/>
        </p:nvSpPr>
        <p:spPr>
          <a:xfrm>
            <a:off x="5019840" y="3976560"/>
            <a:ext cx="1430280" cy="2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détermin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00" name="WordArt 15"/>
          <p:cNvSpPr txBox="1"/>
          <p:nvPr/>
        </p:nvSpPr>
        <p:spPr>
          <a:xfrm>
            <a:off x="5761080" y="5668920"/>
            <a:ext cx="17683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et préconis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01" name="WordArt 16"/>
          <p:cNvSpPr txBox="1"/>
          <p:nvPr/>
        </p:nvSpPr>
        <p:spPr>
          <a:xfrm>
            <a:off x="285840" y="1306440"/>
            <a:ext cx="128736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identifi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grpSp>
        <p:nvGrpSpPr>
          <p:cNvPr id="102" name="Group 17"/>
          <p:cNvGrpSpPr/>
          <p:nvPr/>
        </p:nvGrpSpPr>
        <p:grpSpPr>
          <a:xfrm>
            <a:off x="906480" y="1015560"/>
            <a:ext cx="6566040" cy="401760"/>
            <a:chOff x="906480" y="1015560"/>
            <a:chExt cx="6566040" cy="401760"/>
          </a:xfrm>
        </p:grpSpPr>
        <p:sp>
          <p:nvSpPr>
            <p:cNvPr id="103" name="Line 18"/>
            <p:cNvSpPr/>
            <p:nvPr/>
          </p:nvSpPr>
          <p:spPr>
            <a:xfrm>
              <a:off x="906480" y="1129680"/>
              <a:ext cx="3287520" cy="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9"/>
            <p:cNvSpPr/>
            <p:nvPr/>
          </p:nvSpPr>
          <p:spPr>
            <a:xfrm>
              <a:off x="950760" y="1117440"/>
              <a:ext cx="0" cy="299880"/>
            </a:xfrm>
            <a:prstGeom prst="line">
              <a:avLst/>
            </a:prstGeom>
            <a:ln w="1396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0"/>
            <p:cNvSpPr/>
            <p:nvPr/>
          </p:nvSpPr>
          <p:spPr>
            <a:xfrm flipV="1">
              <a:off x="4160520" y="1015560"/>
              <a:ext cx="0" cy="11268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1"/>
            <p:cNvSpPr/>
            <p:nvPr/>
          </p:nvSpPr>
          <p:spPr>
            <a:xfrm flipH="1">
              <a:off x="4185000" y="1129680"/>
              <a:ext cx="3287520" cy="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2"/>
            <p:cNvSpPr/>
            <p:nvPr/>
          </p:nvSpPr>
          <p:spPr>
            <a:xfrm>
              <a:off x="7428240" y="1117440"/>
              <a:ext cx="0" cy="299880"/>
            </a:xfrm>
            <a:prstGeom prst="line">
              <a:avLst/>
            </a:prstGeom>
            <a:ln w="1396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WordArt 23"/>
          <p:cNvSpPr txBox="1"/>
          <p:nvPr/>
        </p:nvSpPr>
        <p:spPr>
          <a:xfrm>
            <a:off x="6750000" y="1173240"/>
            <a:ext cx="1289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évalu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grpSp>
        <p:nvGrpSpPr>
          <p:cNvPr id="109" name="Group 24"/>
          <p:cNvGrpSpPr/>
          <p:nvPr/>
        </p:nvGrpSpPr>
        <p:grpSpPr>
          <a:xfrm>
            <a:off x="3475080" y="4756320"/>
            <a:ext cx="365040" cy="639720"/>
            <a:chOff x="3475080" y="4756320"/>
            <a:chExt cx="365040" cy="639720"/>
          </a:xfrm>
        </p:grpSpPr>
        <p:sp>
          <p:nvSpPr>
            <p:cNvPr id="110" name="Line 25"/>
            <p:cNvSpPr/>
            <p:nvPr/>
          </p:nvSpPr>
          <p:spPr>
            <a:xfrm>
              <a:off x="3475080" y="4756320"/>
              <a:ext cx="9720" cy="639720"/>
            </a:xfrm>
            <a:prstGeom prst="line">
              <a:avLst/>
            </a:prstGeom>
            <a:ln w="66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6"/>
            <p:cNvSpPr/>
            <p:nvPr/>
          </p:nvSpPr>
          <p:spPr>
            <a:xfrm>
              <a:off x="3475080" y="5378040"/>
              <a:ext cx="365040" cy="0"/>
            </a:xfrm>
            <a:prstGeom prst="line">
              <a:avLst/>
            </a:prstGeom>
            <a:ln w="6660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7"/>
          <p:cNvGrpSpPr/>
          <p:nvPr/>
        </p:nvGrpSpPr>
        <p:grpSpPr>
          <a:xfrm>
            <a:off x="3976560" y="5578560"/>
            <a:ext cx="274680" cy="731880"/>
            <a:chOff x="3976560" y="5578560"/>
            <a:chExt cx="274680" cy="731880"/>
          </a:xfrm>
        </p:grpSpPr>
        <p:sp>
          <p:nvSpPr>
            <p:cNvPr id="113" name="Line 28"/>
            <p:cNvSpPr/>
            <p:nvPr/>
          </p:nvSpPr>
          <p:spPr>
            <a:xfrm>
              <a:off x="3994560" y="5578560"/>
              <a:ext cx="0" cy="731880"/>
            </a:xfrm>
            <a:prstGeom prst="line">
              <a:avLst/>
            </a:prstGeom>
            <a:ln w="66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9"/>
            <p:cNvSpPr/>
            <p:nvPr/>
          </p:nvSpPr>
          <p:spPr>
            <a:xfrm>
              <a:off x="3976560" y="6299280"/>
              <a:ext cx="274680" cy="0"/>
            </a:xfrm>
            <a:prstGeom prst="line">
              <a:avLst/>
            </a:prstGeom>
            <a:ln w="6660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WordArt 30"/>
          <p:cNvSpPr txBox="1"/>
          <p:nvPr/>
        </p:nvSpPr>
        <p:spPr>
          <a:xfrm>
            <a:off x="3475080" y="3164040"/>
            <a:ext cx="1260360" cy="26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établit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grpSp>
        <p:nvGrpSpPr>
          <p:cNvPr id="116" name="Group 31"/>
          <p:cNvGrpSpPr/>
          <p:nvPr/>
        </p:nvGrpSpPr>
        <p:grpSpPr>
          <a:xfrm>
            <a:off x="1467000" y="868320"/>
            <a:ext cx="5475240" cy="1964880"/>
            <a:chOff x="1467000" y="868320"/>
            <a:chExt cx="5475240" cy="1964880"/>
          </a:xfrm>
        </p:grpSpPr>
        <p:grpSp>
          <p:nvGrpSpPr>
            <p:cNvPr id="117" name="Group 32"/>
            <p:cNvGrpSpPr/>
            <p:nvPr/>
          </p:nvGrpSpPr>
          <p:grpSpPr>
            <a:xfrm>
              <a:off x="4150080" y="868320"/>
              <a:ext cx="1800" cy="1964880"/>
              <a:chOff x="4150080" y="868320"/>
              <a:chExt cx="1800" cy="1964880"/>
            </a:xfrm>
          </p:grpSpPr>
          <p:sp>
            <p:nvSpPr>
              <p:cNvPr id="118" name="Line 33"/>
              <p:cNvSpPr/>
              <p:nvPr/>
            </p:nvSpPr>
            <p:spPr>
              <a:xfrm>
                <a:off x="4151880" y="868320"/>
                <a:ext cx="0" cy="1854000"/>
              </a:xfrm>
              <a:prstGeom prst="line">
                <a:avLst/>
              </a:prstGeom>
              <a:ln w="10152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4"/>
              <p:cNvSpPr/>
              <p:nvPr/>
            </p:nvSpPr>
            <p:spPr>
              <a:xfrm>
                <a:off x="4150080" y="2600280"/>
                <a:ext cx="0" cy="232920"/>
              </a:xfrm>
              <a:prstGeom prst="line">
                <a:avLst/>
              </a:prstGeom>
              <a:ln w="1396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35"/>
            <p:cNvGrpSpPr/>
            <p:nvPr/>
          </p:nvGrpSpPr>
          <p:grpSpPr>
            <a:xfrm>
              <a:off x="1467000" y="2270160"/>
              <a:ext cx="5475240" cy="251640"/>
              <a:chOff x="1467000" y="2270160"/>
              <a:chExt cx="5475240" cy="251640"/>
            </a:xfrm>
          </p:grpSpPr>
          <p:sp>
            <p:nvSpPr>
              <p:cNvPr id="121" name="Line 36"/>
              <p:cNvSpPr/>
              <p:nvPr/>
            </p:nvSpPr>
            <p:spPr>
              <a:xfrm>
                <a:off x="1467000" y="2483640"/>
                <a:ext cx="5475240" cy="0"/>
              </a:xfrm>
              <a:prstGeom prst="line">
                <a:avLst/>
              </a:prstGeom>
              <a:ln w="10152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37"/>
              <p:cNvSpPr/>
              <p:nvPr/>
            </p:nvSpPr>
            <p:spPr>
              <a:xfrm flipV="1">
                <a:off x="1494000" y="2270160"/>
                <a:ext cx="0" cy="250560"/>
              </a:xfrm>
              <a:prstGeom prst="line">
                <a:avLst/>
              </a:prstGeom>
              <a:ln w="10152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38"/>
              <p:cNvSpPr/>
              <p:nvPr/>
            </p:nvSpPr>
            <p:spPr>
              <a:xfrm flipV="1">
                <a:off x="6921000" y="2271240"/>
                <a:ext cx="0" cy="250560"/>
              </a:xfrm>
              <a:prstGeom prst="line">
                <a:avLst/>
              </a:prstGeom>
              <a:ln w="10152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Text Box 39"/>
          <p:cNvSpPr/>
          <p:nvPr/>
        </p:nvSpPr>
        <p:spPr>
          <a:xfrm>
            <a:off x="1828800" y="2814480"/>
            <a:ext cx="2592360" cy="349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  <a:ea typeface="Arial"/>
              </a:rPr>
              <a:t>La problé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40"/>
          <p:cNvSpPr txBox="1"/>
          <p:nvPr/>
        </p:nvSpPr>
        <p:spPr>
          <a:xfrm>
            <a:off x="2593800" y="2514600"/>
            <a:ext cx="12589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Définit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grpSp>
        <p:nvGrpSpPr>
          <p:cNvPr id="126" name="Group 41"/>
          <p:cNvGrpSpPr/>
          <p:nvPr/>
        </p:nvGrpSpPr>
        <p:grpSpPr>
          <a:xfrm>
            <a:off x="2332080" y="3200400"/>
            <a:ext cx="350640" cy="395280"/>
            <a:chOff x="2332080" y="3200400"/>
            <a:chExt cx="350640" cy="395280"/>
          </a:xfrm>
        </p:grpSpPr>
        <p:sp>
          <p:nvSpPr>
            <p:cNvPr id="127" name="Line 42"/>
            <p:cNvSpPr/>
            <p:nvPr/>
          </p:nvSpPr>
          <p:spPr>
            <a:xfrm>
              <a:off x="2341440" y="3200400"/>
              <a:ext cx="0" cy="395280"/>
            </a:xfrm>
            <a:prstGeom prst="line">
              <a:avLst/>
            </a:prstGeom>
            <a:ln w="66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3"/>
            <p:cNvSpPr/>
            <p:nvPr/>
          </p:nvSpPr>
          <p:spPr>
            <a:xfrm>
              <a:off x="2332080" y="3580920"/>
              <a:ext cx="350640" cy="0"/>
            </a:xfrm>
            <a:prstGeom prst="line">
              <a:avLst/>
            </a:prstGeom>
            <a:ln w="6660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hecke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500"/>
                            </p:stCondLst>
                            <p:childTnLst>
                              <p:par>
                                <p:cTn id="3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5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50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500"/>
                            </p:stCondLst>
                            <p:childTnLst>
                              <p:par>
                                <p:cTn id="74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9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500"/>
                            </p:stCondLst>
                            <p:childTnLst>
                              <p:par>
                                <p:cTn id="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25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3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85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500"/>
                            </p:stCondLst>
                            <p:childTnLst>
                              <p:par>
                                <p:cTn id="1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AutoShape 2"/>
          <p:cNvGrpSpPr/>
          <p:nvPr/>
        </p:nvGrpSpPr>
        <p:grpSpPr>
          <a:xfrm>
            <a:off x="60480" y="2908440"/>
            <a:ext cx="4225680" cy="706320"/>
            <a:chOff x="60480" y="2908440"/>
            <a:chExt cx="4225680" cy="706320"/>
          </a:xfrm>
        </p:grpSpPr>
        <p:pic>
          <p:nvPicPr>
            <p:cNvPr id="130" name="AutoShape 2" descr=""/>
            <p:cNvPicPr/>
            <p:nvPr/>
          </p:nvPicPr>
          <p:blipFill>
            <a:blip r:embed="rId1"/>
            <a:stretch/>
          </p:blipFill>
          <p:spPr>
            <a:xfrm>
              <a:off x="60480" y="2908440"/>
              <a:ext cx="422568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03320" y="2946240"/>
              <a:ext cx="41400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1.</a:t>
              </a: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  Comité interministériel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de suivi du SNAT 20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3"/>
          <p:cNvSpPr/>
          <p:nvPr/>
        </p:nvSpPr>
        <p:spPr>
          <a:xfrm>
            <a:off x="0" y="92160"/>
            <a:ext cx="914400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man Old Style"/>
                <a:ea typeface="Arial"/>
              </a:rPr>
              <a:t>De la </a:t>
            </a:r>
            <a:r>
              <a:rPr b="1" lang="en-US" sz="2600" spc="-1" strike="noStrike">
                <a:solidFill>
                  <a:srgbClr val="990000"/>
                </a:solidFill>
                <a:latin typeface="Bookman Old Style"/>
                <a:ea typeface="Arial"/>
              </a:rPr>
              <a:t>méthode</a:t>
            </a:r>
            <a:r>
              <a:rPr b="1" lang="en-US" sz="2600" spc="-1" strike="noStrike">
                <a:solidFill>
                  <a:srgbClr val="000000"/>
                </a:solidFill>
                <a:latin typeface="Bookman Old Style"/>
                <a:ea typeface="Arial"/>
              </a:rPr>
              <a:t> : 3 ans de  concertation pour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Bookman Old Style"/>
                <a:ea typeface="Arial"/>
              </a:rPr>
              <a:t>la construction du </a:t>
            </a:r>
            <a:r>
              <a:rPr b="1" lang="en-US" sz="2600" spc="-1" strike="noStrike">
                <a:solidFill>
                  <a:srgbClr val="990000"/>
                </a:solidFill>
                <a:latin typeface="Bookman Old Style"/>
                <a:ea typeface="Arial"/>
              </a:rPr>
              <a:t>SNAT 202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598320" y="1600200"/>
            <a:ext cx="331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Bookman Old Style"/>
                <a:ea typeface="Arial"/>
              </a:rPr>
              <a:t>I/-</a:t>
            </a:r>
            <a:r>
              <a:rPr b="1" lang="en-US" sz="2200" spc="-1" strike="noStrike">
                <a:solidFill>
                  <a:srgbClr val="000099"/>
                </a:solidFill>
                <a:latin typeface="Bookman Old Style"/>
                <a:ea typeface="Arial"/>
              </a:rPr>
              <a:t>  Au plan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a50021"/>
                </a:solidFill>
                <a:latin typeface="Bookman Old Style"/>
                <a:ea typeface="Arial"/>
              </a:rPr>
              <a:t>cen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4689360" y="1690560"/>
            <a:ext cx="4237200" cy="65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Bookman Old Style"/>
                <a:ea typeface="Arial"/>
              </a:rPr>
              <a:t>II/-</a:t>
            </a:r>
            <a:r>
              <a:rPr b="1" lang="en-US" sz="2200" spc="-1" strike="noStrike">
                <a:solidFill>
                  <a:srgbClr val="000099"/>
                </a:solidFill>
                <a:latin typeface="Bookman Old Style"/>
                <a:ea typeface="Arial"/>
              </a:rPr>
              <a:t> Au plan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a50021"/>
                </a:solidFill>
                <a:latin typeface="Bookman Old Style"/>
                <a:ea typeface="Arial"/>
              </a:rPr>
              <a:t>régional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99"/>
                </a:solidFill>
                <a:latin typeface="Bookman Old Style"/>
                <a:ea typeface="Arial"/>
              </a:rPr>
              <a:t>et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a50021"/>
                </a:solidFill>
                <a:latin typeface="Bookman Old Style"/>
                <a:ea typeface="Arial"/>
              </a:rPr>
              <a:t>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AutoShape 6"/>
          <p:cNvGrpSpPr/>
          <p:nvPr/>
        </p:nvGrpSpPr>
        <p:grpSpPr>
          <a:xfrm>
            <a:off x="4937040" y="5016600"/>
            <a:ext cx="4140360" cy="1847880"/>
            <a:chOff x="4937040" y="5016600"/>
            <a:chExt cx="4140360" cy="1847880"/>
          </a:xfrm>
        </p:grpSpPr>
        <p:pic>
          <p:nvPicPr>
            <p:cNvPr id="136" name="AutoShape 6" descr=""/>
            <p:cNvPicPr/>
            <p:nvPr/>
          </p:nvPicPr>
          <p:blipFill>
            <a:blip r:embed="rId2"/>
            <a:stretch/>
          </p:blipFill>
          <p:spPr>
            <a:xfrm>
              <a:off x="4937040" y="5016600"/>
              <a:ext cx="414036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035680" y="5110200"/>
              <a:ext cx="3943080" cy="16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2.</a:t>
              </a: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Conférences régionales </a:t>
              </a:r>
              <a:br>
                <a:rPr sz="2200"/>
              </a:b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sur l’Aménagement </a:t>
              </a:r>
              <a:br>
                <a:rPr sz="2200"/>
              </a:b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du Territoire 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Djelfa,Saida, Batna, Alger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Oran et Ghardaïa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(Plus de 10 000 participants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AutoShape 7"/>
          <p:cNvGrpSpPr/>
          <p:nvPr/>
        </p:nvGrpSpPr>
        <p:grpSpPr>
          <a:xfrm>
            <a:off x="42840" y="3943440"/>
            <a:ext cx="4572000" cy="1639800"/>
            <a:chOff x="42840" y="3943440"/>
            <a:chExt cx="4572000" cy="1639800"/>
          </a:xfrm>
        </p:grpSpPr>
        <p:pic>
          <p:nvPicPr>
            <p:cNvPr id="139" name="AutoShape 7" descr=""/>
            <p:cNvPicPr/>
            <p:nvPr/>
          </p:nvPicPr>
          <p:blipFill>
            <a:blip r:embed="rId3"/>
            <a:stretch/>
          </p:blipFill>
          <p:spPr>
            <a:xfrm>
              <a:off x="42840" y="3943440"/>
              <a:ext cx="457200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25280" y="4029120"/>
              <a:ext cx="4403880" cy="14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marL="217440" indent="-217440" algn="ctr">
                <a:lnSpc>
                  <a:spcPct val="80000"/>
                </a:lnSpc>
                <a:buClr>
                  <a:srgbClr val="000099"/>
                </a:buClr>
                <a:buFont typeface="Bookman Old Style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Ateliers de travail 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7440" indent="-21744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marL="217440" indent="-217440">
                <a:lnSpc>
                  <a:spcPct val="80000"/>
                </a:lnSpc>
                <a:buClr>
                  <a:srgbClr val="a50021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Sectoriels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(eau, risques, infrastructures, rural, villes nouvelles,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7440" indent="-21744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- </a:t>
              </a:r>
              <a:r>
                <a:rPr b="1" lang="en-US" sz="18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territoriaux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(steppe, montagne, littoral, oasis,…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AutoShape 8"/>
          <p:cNvGrpSpPr/>
          <p:nvPr/>
        </p:nvGrpSpPr>
        <p:grpSpPr>
          <a:xfrm>
            <a:off x="5175360" y="3913200"/>
            <a:ext cx="3779640" cy="714240"/>
            <a:chOff x="5175360" y="3913200"/>
            <a:chExt cx="3779640" cy="714240"/>
          </a:xfrm>
        </p:grpSpPr>
        <p:pic>
          <p:nvPicPr>
            <p:cNvPr id="142" name="AutoShape 8" descr=""/>
            <p:cNvPicPr/>
            <p:nvPr/>
          </p:nvPicPr>
          <p:blipFill>
            <a:blip r:embed="rId4"/>
            <a:stretch/>
          </p:blipFill>
          <p:spPr>
            <a:xfrm>
              <a:off x="5175360" y="3913200"/>
              <a:ext cx="37796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216400" y="3952800"/>
              <a:ext cx="36975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1.</a:t>
              </a: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Comités de suivi</a:t>
              </a: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locaux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des 9 SRAT 20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AutoShape 9"/>
          <p:cNvGrpSpPr/>
          <p:nvPr/>
        </p:nvGrpSpPr>
        <p:grpSpPr>
          <a:xfrm>
            <a:off x="60480" y="5834160"/>
            <a:ext cx="4425840" cy="1030320"/>
            <a:chOff x="60480" y="5834160"/>
            <a:chExt cx="4425840" cy="1030320"/>
          </a:xfrm>
        </p:grpSpPr>
        <p:pic>
          <p:nvPicPr>
            <p:cNvPr id="145" name="AutoShape 9" descr=""/>
            <p:cNvPicPr/>
            <p:nvPr/>
          </p:nvPicPr>
          <p:blipFill>
            <a:blip r:embed="rId5"/>
            <a:stretch/>
          </p:blipFill>
          <p:spPr>
            <a:xfrm>
              <a:off x="60480" y="5834160"/>
              <a:ext cx="442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17360" y="5891040"/>
              <a:ext cx="431496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3. Séminaires de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méthodes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,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de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débats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et de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validation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br>
                <a:rPr sz="2200"/>
              </a:br>
              <a:r>
                <a:rPr b="1" lang="en-US" sz="22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des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orientation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10"/>
          <p:cNvSpPr/>
          <p:nvPr/>
        </p:nvSpPr>
        <p:spPr>
          <a:xfrm>
            <a:off x="6926400" y="2467080"/>
            <a:ext cx="0" cy="504720"/>
          </a:xfrm>
          <a:prstGeom prst="line">
            <a:avLst/>
          </a:prstGeom>
          <a:ln w="127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6926400" y="4664160"/>
            <a:ext cx="0" cy="41112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2228760" y="1965240"/>
            <a:ext cx="22320" cy="685800"/>
          </a:xfrm>
          <a:prstGeom prst="line">
            <a:avLst/>
          </a:prstGeom>
          <a:ln w="127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2236680" y="3637080"/>
            <a:ext cx="6480" cy="33948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2235240" y="5557680"/>
            <a:ext cx="7920" cy="33984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15"/>
          <p:cNvSpPr txBox="1"/>
          <p:nvPr/>
        </p:nvSpPr>
        <p:spPr>
          <a:xfrm>
            <a:off x="1106640" y="2543040"/>
            <a:ext cx="2395440" cy="3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La concertation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2468160" y="770040"/>
            <a:ext cx="1508040" cy="876240"/>
            <a:chOff x="2468160" y="770040"/>
            <a:chExt cx="1508040" cy="876240"/>
          </a:xfrm>
        </p:grpSpPr>
        <p:sp>
          <p:nvSpPr>
            <p:cNvPr id="154" name="Line 17"/>
            <p:cNvSpPr/>
            <p:nvPr/>
          </p:nvSpPr>
          <p:spPr>
            <a:xfrm>
              <a:off x="3943080" y="770040"/>
              <a:ext cx="0" cy="46836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8"/>
            <p:cNvSpPr/>
            <p:nvPr/>
          </p:nvSpPr>
          <p:spPr>
            <a:xfrm flipH="1">
              <a:off x="2468160" y="1209240"/>
              <a:ext cx="1508040" cy="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9"/>
            <p:cNvSpPr/>
            <p:nvPr/>
          </p:nvSpPr>
          <p:spPr>
            <a:xfrm>
              <a:off x="2496600" y="1179000"/>
              <a:ext cx="0" cy="46728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20"/>
          <p:cNvGrpSpPr/>
          <p:nvPr/>
        </p:nvGrpSpPr>
        <p:grpSpPr>
          <a:xfrm>
            <a:off x="4297320" y="777960"/>
            <a:ext cx="1509840" cy="877680"/>
            <a:chOff x="4297320" y="777960"/>
            <a:chExt cx="1509840" cy="877680"/>
          </a:xfrm>
        </p:grpSpPr>
        <p:sp>
          <p:nvSpPr>
            <p:cNvPr id="158" name="Line 21"/>
            <p:cNvSpPr/>
            <p:nvPr/>
          </p:nvSpPr>
          <p:spPr>
            <a:xfrm>
              <a:off x="4330800" y="777960"/>
              <a:ext cx="0" cy="46908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2"/>
            <p:cNvSpPr/>
            <p:nvPr/>
          </p:nvSpPr>
          <p:spPr>
            <a:xfrm>
              <a:off x="4297320" y="1217880"/>
              <a:ext cx="1509840" cy="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3"/>
            <p:cNvSpPr/>
            <p:nvPr/>
          </p:nvSpPr>
          <p:spPr>
            <a:xfrm>
              <a:off x="5779080" y="1187640"/>
              <a:ext cx="0" cy="46800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WordArt 24"/>
          <p:cNvSpPr txBox="1"/>
          <p:nvPr/>
        </p:nvSpPr>
        <p:spPr>
          <a:xfrm>
            <a:off x="5486400" y="2952720"/>
            <a:ext cx="29718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L'écoute : la réappropriation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62" name="WordArt 25"/>
          <p:cNvSpPr txBox="1"/>
          <p:nvPr/>
        </p:nvSpPr>
        <p:spPr>
          <a:xfrm>
            <a:off x="547560" y="898560"/>
            <a:ext cx="2014560" cy="2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Itérative </a:t>
            </a:r>
            <a:endParaRPr b="1" lang="en-US" sz="1800" spc="1" strike="noStrike">
              <a:ln w="0">
                <a:noFill/>
              </a:ln>
              <a:solidFill>
                <a:srgbClr val="ff99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63" name="WordArt 26"/>
          <p:cNvSpPr txBox="1"/>
          <p:nvPr/>
        </p:nvSpPr>
        <p:spPr>
          <a:xfrm>
            <a:off x="6080040" y="868320"/>
            <a:ext cx="201312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Interactive</a:t>
            </a:r>
            <a:endParaRPr b="1" lang="en-US" sz="1800" spc="1" strike="noStrike">
              <a:ln w="0">
                <a:noFill/>
              </a:ln>
              <a:solidFill>
                <a:srgbClr val="ff99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64" name="WordArt 27"/>
          <p:cNvSpPr txBox="1"/>
          <p:nvPr/>
        </p:nvSpPr>
        <p:spPr>
          <a:xfrm>
            <a:off x="6581880" y="3475080"/>
            <a:ext cx="21049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la légitimation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Text Box 2"/>
          <p:cNvGrpSpPr/>
          <p:nvPr/>
        </p:nvGrpSpPr>
        <p:grpSpPr>
          <a:xfrm>
            <a:off x="2054160" y="682560"/>
            <a:ext cx="7096320" cy="762120"/>
            <a:chOff x="2054160" y="682560"/>
            <a:chExt cx="7096320" cy="762120"/>
          </a:xfrm>
        </p:grpSpPr>
        <p:pic>
          <p:nvPicPr>
            <p:cNvPr id="166" name="Text Box 2" descr=""/>
            <p:cNvPicPr/>
            <p:nvPr/>
          </p:nvPicPr>
          <p:blipFill>
            <a:blip r:embed="rId1"/>
            <a:stretch/>
          </p:blipFill>
          <p:spPr>
            <a:xfrm>
              <a:off x="2054160" y="682560"/>
              <a:ext cx="70963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057400" y="685800"/>
              <a:ext cx="7086600" cy="7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8800" bIns="28800" anchor="t">
              <a:spAutoFit/>
            </a:bodyPr>
            <a:p>
              <a:pPr lvl="1" marL="331920" indent="-217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L'épuisement des ressources</a:t>
              </a: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 naturelles </a:t>
              </a:r>
              <a:br>
                <a:rPr sz="2300"/>
              </a:b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et principalement de l'eau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3"/>
          <p:cNvSpPr/>
          <p:nvPr/>
        </p:nvSpPr>
        <p:spPr>
          <a:xfrm>
            <a:off x="0" y="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960" rIns="5796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00"/>
                </a:solidFill>
                <a:latin typeface="Bookman Old Style"/>
                <a:ea typeface="Arial"/>
              </a:rPr>
              <a:t>Les 6 Enjeux Majeurs de l’Algérie de 2025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Text Box 4"/>
          <p:cNvGrpSpPr/>
          <p:nvPr/>
        </p:nvGrpSpPr>
        <p:grpSpPr>
          <a:xfrm>
            <a:off x="2077920" y="1596960"/>
            <a:ext cx="7096320" cy="414360"/>
            <a:chOff x="2077920" y="1596960"/>
            <a:chExt cx="7096320" cy="414360"/>
          </a:xfrm>
        </p:grpSpPr>
        <p:pic>
          <p:nvPicPr>
            <p:cNvPr id="170" name="Text Box 4" descr=""/>
            <p:cNvPicPr/>
            <p:nvPr/>
          </p:nvPicPr>
          <p:blipFill>
            <a:blip r:embed="rId2"/>
            <a:stretch/>
          </p:blipFill>
          <p:spPr>
            <a:xfrm>
              <a:off x="2077920" y="1596960"/>
              <a:ext cx="70963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085840" y="1600200"/>
              <a:ext cx="70851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8800" bIns="28800" anchor="t">
              <a:spAutoFit/>
            </a:bodyPr>
            <a:p>
              <a:pPr lvl="1" marL="331920" indent="-217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Le </a:t>
              </a:r>
              <a:r>
                <a:rPr b="1" lang="fr-FR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décrochage démo-économique</a:t>
              </a:r>
              <a:r>
                <a:rPr b="1" lang="fr-FR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Text Box 5"/>
          <p:cNvGrpSpPr/>
          <p:nvPr/>
        </p:nvGrpSpPr>
        <p:grpSpPr>
          <a:xfrm>
            <a:off x="2023920" y="2462040"/>
            <a:ext cx="7126560" cy="768600"/>
            <a:chOff x="2023920" y="2462040"/>
            <a:chExt cx="7126560" cy="768600"/>
          </a:xfrm>
        </p:grpSpPr>
        <p:pic>
          <p:nvPicPr>
            <p:cNvPr id="173" name="Text Box 5" descr=""/>
            <p:cNvPicPr/>
            <p:nvPr/>
          </p:nvPicPr>
          <p:blipFill>
            <a:blip r:embed="rId3"/>
            <a:stretch/>
          </p:blipFill>
          <p:spPr>
            <a:xfrm>
              <a:off x="2023920" y="2462040"/>
              <a:ext cx="712656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027160" y="2468520"/>
              <a:ext cx="7116840" cy="7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8800" bIns="28800" anchor="t">
              <a:spAutoFit/>
            </a:bodyPr>
            <a:p>
              <a:pPr lvl="1" marL="331920" indent="-217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La crise du rural</a:t>
              </a: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 : </a:t>
              </a:r>
              <a:br>
                <a:rPr sz="2300"/>
              </a:b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le risque d’un territoire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délaissé</a:t>
              </a: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Text Box 6"/>
          <p:cNvGrpSpPr/>
          <p:nvPr/>
        </p:nvGrpSpPr>
        <p:grpSpPr>
          <a:xfrm>
            <a:off x="2054160" y="4492800"/>
            <a:ext cx="7096320" cy="785520"/>
            <a:chOff x="2054160" y="4492800"/>
            <a:chExt cx="7096320" cy="785520"/>
          </a:xfrm>
        </p:grpSpPr>
        <p:pic>
          <p:nvPicPr>
            <p:cNvPr id="176" name="Text Box 6" descr=""/>
            <p:cNvPicPr/>
            <p:nvPr/>
          </p:nvPicPr>
          <p:blipFill>
            <a:blip r:embed="rId4"/>
            <a:stretch/>
          </p:blipFill>
          <p:spPr>
            <a:xfrm>
              <a:off x="2054160" y="4492800"/>
              <a:ext cx="7096320" cy="7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057400" y="4497480"/>
              <a:ext cx="7086600" cy="77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8800" bIns="28800" anchor="t">
              <a:spAutoFit/>
            </a:bodyPr>
            <a:p>
              <a:pPr lvl="1" marL="331920" indent="-217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La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rupture du lien territorial</a:t>
              </a: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 </a:t>
              </a:r>
              <a:br>
                <a:rPr sz="2300"/>
              </a:b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et la non gouvernance territorial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Text Box 7"/>
          <p:cNvGrpSpPr/>
          <p:nvPr/>
        </p:nvGrpSpPr>
        <p:grpSpPr>
          <a:xfrm>
            <a:off x="2054160" y="5529240"/>
            <a:ext cx="6870600" cy="1116000"/>
            <a:chOff x="2054160" y="5529240"/>
            <a:chExt cx="6870600" cy="1116000"/>
          </a:xfrm>
        </p:grpSpPr>
        <p:pic>
          <p:nvPicPr>
            <p:cNvPr id="179" name="Text Box 7" descr=""/>
            <p:cNvPicPr/>
            <p:nvPr/>
          </p:nvPicPr>
          <p:blipFill>
            <a:blip r:embed="rId5"/>
            <a:stretch/>
          </p:blipFill>
          <p:spPr>
            <a:xfrm>
              <a:off x="2054160" y="5529240"/>
              <a:ext cx="68706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057400" y="5532480"/>
              <a:ext cx="685800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8800" bIns="28800" anchor="t">
              <a:spAutoFit/>
            </a:bodyPr>
            <a:p>
              <a:pPr lvl="1" marL="442800" indent="-152280" algn="ctr">
                <a:lnSpc>
                  <a:spcPct val="100000"/>
                </a:lnSpc>
                <a:tabLst>
                  <a:tab algn="l" pos="0"/>
                  <a:tab algn="l" pos="40176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La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divergence par rapport au monde</a:t>
              </a: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 </a:t>
              </a:r>
              <a:br>
                <a:rPr sz="2300"/>
              </a:b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et le décrochage par rapport aux pays développé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8"/>
          <p:cNvSpPr/>
          <p:nvPr/>
        </p:nvSpPr>
        <p:spPr>
          <a:xfrm>
            <a:off x="50040" y="685800"/>
            <a:ext cx="17031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960" rIns="57960" tIns="28800" bIns="28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Le premier </a:t>
            </a:r>
            <a:br>
              <a:rPr sz="2200"/>
            </a:b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enje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52560" y="1600200"/>
            <a:ext cx="205200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960" rIns="57960" tIns="28800" bIns="28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cc"/>
                </a:solidFill>
                <a:latin typeface="Bookman Old Style"/>
                <a:ea typeface="Arial"/>
              </a:rPr>
              <a:t>Le deuxième</a:t>
            </a:r>
            <a:r>
              <a:rPr b="1" lang="en-US" sz="23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enje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61920" y="2468520"/>
            <a:ext cx="192384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960" rIns="57960" tIns="28800" bIns="28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Le troisième</a:t>
            </a:r>
            <a:r>
              <a:rPr b="1" lang="en-US" sz="23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enje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42840" y="4443480"/>
            <a:ext cx="20444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960" rIns="57960" tIns="28800" bIns="28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Le cinquième</a:t>
            </a: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enje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254520" y="5586480"/>
            <a:ext cx="1658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960" rIns="57960" tIns="28800" bIns="28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Le sixième </a:t>
            </a:r>
            <a:br>
              <a:rPr sz="2200"/>
            </a:b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enje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37440" y="3565440"/>
            <a:ext cx="205668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960" rIns="57960" tIns="28800" bIns="28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Le quatrième</a:t>
            </a:r>
            <a:r>
              <a:rPr b="1" lang="en-US" sz="23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enje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Text Box 14"/>
          <p:cNvGrpSpPr/>
          <p:nvPr/>
        </p:nvGrpSpPr>
        <p:grpSpPr>
          <a:xfrm>
            <a:off x="2097000" y="3517920"/>
            <a:ext cx="6735960" cy="768240"/>
            <a:chOff x="2097000" y="3517920"/>
            <a:chExt cx="6735960" cy="768240"/>
          </a:xfrm>
        </p:grpSpPr>
        <p:pic>
          <p:nvPicPr>
            <p:cNvPr id="188" name="Text Box 14" descr=""/>
            <p:cNvPicPr/>
            <p:nvPr/>
          </p:nvPicPr>
          <p:blipFill>
            <a:blip r:embed="rId6"/>
            <a:stretch/>
          </p:blipFill>
          <p:spPr>
            <a:xfrm>
              <a:off x="2097000" y="3517920"/>
              <a:ext cx="67359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103480" y="3521160"/>
              <a:ext cx="6721560" cy="7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8800" bIns="28800" anchor="t">
              <a:spAutoFit/>
            </a:bodyPr>
            <a:p>
              <a:pPr marL="217440" indent="-217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Le basculement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urbain </a:t>
              </a: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: </a:t>
              </a:r>
              <a:br>
                <a:rPr sz="2300"/>
              </a:b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le risque de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déstabilisation</a:t>
              </a: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 sociale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Rectangle 2"/>
          <p:cNvGrpSpPr/>
          <p:nvPr/>
        </p:nvGrpSpPr>
        <p:grpSpPr>
          <a:xfrm>
            <a:off x="268200" y="2054160"/>
            <a:ext cx="3670560" cy="2573280"/>
            <a:chOff x="268200" y="2054160"/>
            <a:chExt cx="3670560" cy="2573280"/>
          </a:xfrm>
        </p:grpSpPr>
        <p:pic>
          <p:nvPicPr>
            <p:cNvPr id="191" name="Rectangle 2" descr=""/>
            <p:cNvPicPr/>
            <p:nvPr/>
          </p:nvPicPr>
          <p:blipFill>
            <a:blip r:embed="rId1"/>
            <a:stretch/>
          </p:blipFill>
          <p:spPr>
            <a:xfrm>
              <a:off x="268200" y="2054160"/>
              <a:ext cx="3670560" cy="25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4680" y="2057400"/>
              <a:ext cx="3657600" cy="25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buClr>
                  <a:srgbClr val="cc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</a:rPr>
                <a:t>D’un point de vue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</a:rPr>
                <a:t>économique</a:t>
              </a: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</a:rPr>
                <a:t> : </a:t>
              </a:r>
              <a:br>
                <a:rPr sz="2300"/>
              </a:b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</a:rPr>
                <a:t>durcissement du contexte :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</a:rPr>
                <a:t>l’ouverture </a:t>
              </a:r>
              <a:br>
                <a:rPr sz="2300"/>
              </a:b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</a:rPr>
                <a:t>des frontières </a:t>
              </a:r>
              <a:br>
                <a:rPr sz="2300"/>
              </a:b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</a:rPr>
                <a:t>et le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</a:rPr>
                <a:t> </a:t>
              </a: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</a:rPr>
                <a:t>risque </a:t>
              </a:r>
              <a:br>
                <a:rPr sz="2300"/>
              </a:b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</a:rPr>
                <a:t>de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</a:rPr>
                <a:t> dériv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3"/>
          <p:cNvSpPr/>
          <p:nvPr/>
        </p:nvSpPr>
        <p:spPr>
          <a:xfrm>
            <a:off x="668160" y="-73080"/>
            <a:ext cx="798516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960" rIns="57960" tIns="29160" bIns="29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00"/>
                </a:solidFill>
                <a:latin typeface="Bookman Old Style"/>
                <a:ea typeface="Arial"/>
              </a:rPr>
              <a:t>Ces 6 grands enjeux se présentent </a:t>
            </a:r>
            <a:br>
              <a:rPr sz="2700"/>
            </a:br>
            <a:r>
              <a:rPr b="1" lang="en-US" sz="2700" spc="-1" strike="noStrike">
                <a:solidFill>
                  <a:srgbClr val="990000"/>
                </a:solidFill>
                <a:latin typeface="Bookman Old Style"/>
                <a:ea typeface="Arial"/>
              </a:rPr>
              <a:t>dans une conjoncture tendue par 3 échéa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4"/>
          <p:cNvGrpSpPr/>
          <p:nvPr/>
        </p:nvGrpSpPr>
        <p:grpSpPr>
          <a:xfrm>
            <a:off x="2262240" y="4863960"/>
            <a:ext cx="4767120" cy="1567080"/>
            <a:chOff x="2262240" y="4863960"/>
            <a:chExt cx="4767120" cy="1567080"/>
          </a:xfrm>
        </p:grpSpPr>
        <p:pic>
          <p:nvPicPr>
            <p:cNvPr id="195" name="Rectangle 4" descr=""/>
            <p:cNvPicPr/>
            <p:nvPr/>
          </p:nvPicPr>
          <p:blipFill>
            <a:blip r:embed="rId2"/>
            <a:stretch/>
          </p:blipFill>
          <p:spPr>
            <a:xfrm>
              <a:off x="2262240" y="4863960"/>
              <a:ext cx="476712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268360" y="4869000"/>
              <a:ext cx="47548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buClr>
                  <a:srgbClr val="cc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</a:rPr>
                <a:t>D’un point de vue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</a:rPr>
                <a:t>écologique</a:t>
              </a: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</a:rPr>
                <a:t> : </a:t>
              </a:r>
              <a:br>
                <a:rPr sz="2300"/>
              </a:b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</a:rPr>
                <a:t>de l’approche du stress hydrique généralisé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Rectangle 5"/>
          <p:cNvGrpSpPr/>
          <p:nvPr/>
        </p:nvGrpSpPr>
        <p:grpSpPr>
          <a:xfrm>
            <a:off x="4657680" y="1871640"/>
            <a:ext cx="4357800" cy="1925640"/>
            <a:chOff x="4657680" y="1871640"/>
            <a:chExt cx="4357800" cy="1925640"/>
          </a:xfrm>
        </p:grpSpPr>
        <p:pic>
          <p:nvPicPr>
            <p:cNvPr id="198" name="Rectangle 5" descr=""/>
            <p:cNvPicPr/>
            <p:nvPr/>
          </p:nvPicPr>
          <p:blipFill>
            <a:blip r:embed="rId3"/>
            <a:stretch/>
          </p:blipFill>
          <p:spPr>
            <a:xfrm>
              <a:off x="4657680" y="1871640"/>
              <a:ext cx="435780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664160" y="1874880"/>
              <a:ext cx="434340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buClr>
                  <a:srgbClr val="cc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</a:rPr>
                <a:t>D’un point de vue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</a:rPr>
                <a:t>social</a:t>
              </a: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</a:rPr>
                <a:t> : avec l’arrivée sur le marché du travail des générations les plus nombreus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WordArt 6"/>
          <p:cNvSpPr txBox="1"/>
          <p:nvPr/>
        </p:nvSpPr>
        <p:spPr>
          <a:xfrm>
            <a:off x="1874880" y="1371600"/>
            <a:ext cx="32076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n-cs"/>
              </a:rPr>
              <a:t>1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201" name="WordArt 7"/>
          <p:cNvSpPr txBox="1"/>
          <p:nvPr/>
        </p:nvSpPr>
        <p:spPr>
          <a:xfrm>
            <a:off x="6950160" y="1325520"/>
            <a:ext cx="32076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n-cs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202" name="AutoShape 8"/>
          <p:cNvSpPr/>
          <p:nvPr/>
        </p:nvSpPr>
        <p:spPr>
          <a:xfrm rot="8814600">
            <a:off x="2468160" y="1143000"/>
            <a:ext cx="1463760" cy="357120"/>
          </a:xfrm>
          <a:custGeom>
            <a:avLst/>
            <a:gdLst>
              <a:gd name="textAreaLeft" fmla="*/ 182880 w 1463760"/>
              <a:gd name="textAreaRight" fmla="*/ 1280880 w 146376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 flipH="1" rot="13234800">
            <a:off x="4892040" y="1143000"/>
            <a:ext cx="1463760" cy="356760"/>
          </a:xfrm>
          <a:custGeom>
            <a:avLst/>
            <a:gdLst>
              <a:gd name="textAreaLeft" fmla="*/ 182880 w 1463760"/>
              <a:gd name="textAreaRight" fmla="*/ 1280880 w 1463760"/>
              <a:gd name="textAreaTop" fmla="*/ 89280 h 356760"/>
              <a:gd name="textAreaBottom" fmla="*/ 267840 h 356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10"/>
          <p:cNvSpPr txBox="1"/>
          <p:nvPr/>
        </p:nvSpPr>
        <p:spPr>
          <a:xfrm>
            <a:off x="4618080" y="3976560"/>
            <a:ext cx="31896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n-cs"/>
              </a:rPr>
              <a:t>3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205" name="AutoShape 11"/>
          <p:cNvSpPr/>
          <p:nvPr/>
        </p:nvSpPr>
        <p:spPr>
          <a:xfrm rot="5400000">
            <a:off x="2810880" y="2634840"/>
            <a:ext cx="3246480" cy="357480"/>
          </a:xfrm>
          <a:custGeom>
            <a:avLst/>
            <a:gdLst>
              <a:gd name="textAreaLeft" fmla="*/ 405720 w 3246480"/>
              <a:gd name="textAreaRight" fmla="*/ 2840760 w 3246480"/>
              <a:gd name="textAreaTop" fmla="*/ 89280 h 357480"/>
              <a:gd name="textAreaBottom" fmla="*/ 2682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2"/>
          <p:cNvSpPr/>
          <p:nvPr/>
        </p:nvSpPr>
        <p:spPr>
          <a:xfrm>
            <a:off x="4664160" y="2671920"/>
            <a:ext cx="22320" cy="40320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"/>
          <p:cNvSpPr/>
          <p:nvPr/>
        </p:nvSpPr>
        <p:spPr>
          <a:xfrm>
            <a:off x="4664160" y="2671920"/>
            <a:ext cx="1859040" cy="41112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4708440" y="2671920"/>
            <a:ext cx="3497400" cy="42228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 flipH="1">
            <a:off x="547200" y="2671920"/>
            <a:ext cx="4116600" cy="39024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 flipH="1">
            <a:off x="3382560" y="2671920"/>
            <a:ext cx="1235160" cy="43632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17640" y="4573440"/>
            <a:ext cx="1450800" cy="2213640"/>
          </a:xfrm>
          <a:custGeom>
            <a:avLst/>
            <a:gdLst>
              <a:gd name="textAreaLeft" fmla="*/ 70560 w 1450800"/>
              <a:gd name="textAreaRight" fmla="*/ 1380240 w 1450800"/>
              <a:gd name="textAreaTop" fmla="*/ 70560 h 2213640"/>
              <a:gd name="textAreaBottom" fmla="*/ 2143080 h 2213640"/>
            </a:gdLst>
            <a:ahLst/>
            <a:rect l="textAreaLeft" t="textAreaTop" r="textAreaRight" b="textAreaBottom"/>
            <a:pathLst>
              <a:path w="21600" h="32955">
                <a:moveTo>
                  <a:pt x="3600" y="0"/>
                </a:moveTo>
                <a:arcTo wR="3600" hR="3600" stAng="16200000" swAng="-5400000"/>
                <a:lnTo>
                  <a:pt x="0" y="29355"/>
                </a:lnTo>
                <a:arcTo wR="3600" hR="3600" stAng="10800000" swAng="-5400000"/>
                <a:lnTo>
                  <a:pt x="18000" y="329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marL="230040" indent="-230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Bookman Old Style"/>
                <a:ea typeface="Arial"/>
              </a:rPr>
              <a:t>1- </a:t>
            </a:r>
            <a:r>
              <a:rPr b="1" lang="en-US" sz="1000" spc="-1" strike="noStrike">
                <a:solidFill>
                  <a:srgbClr val="a50021"/>
                </a:solidFill>
                <a:latin typeface="Bookman Old Style"/>
                <a:ea typeface="Arial"/>
              </a:rPr>
              <a:t>E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Bookman Old Style"/>
                <a:ea typeface="Arial"/>
              </a:rPr>
              <a:t>2-</a:t>
            </a:r>
            <a:r>
              <a:rPr b="1" lang="en-US" sz="1000" spc="-1" strike="noStrike">
                <a:solidFill>
                  <a:srgbClr val="a50021"/>
                </a:solidFill>
                <a:latin typeface="Bookman Old Style"/>
                <a:ea typeface="Arial"/>
              </a:rPr>
              <a:t> S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Bookman Old Style"/>
                <a:ea typeface="Arial"/>
              </a:rPr>
              <a:t>3-</a:t>
            </a:r>
            <a:r>
              <a:rPr b="1" lang="en-US" sz="1000" spc="-1" strike="noStrike">
                <a:solidFill>
                  <a:srgbClr val="a50021"/>
                </a:solidFill>
                <a:latin typeface="Bookman Old Style"/>
                <a:ea typeface="Arial"/>
              </a:rPr>
              <a:t> les espaces protég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Bookman Old Style"/>
                <a:ea typeface="Arial"/>
              </a:rPr>
              <a:t>4-</a:t>
            </a:r>
            <a:r>
              <a:rPr b="1" lang="en-US" sz="1000" spc="-1" strike="noStrike">
                <a:solidFill>
                  <a:srgbClr val="a50021"/>
                </a:solidFill>
                <a:latin typeface="Bookman Old Style"/>
                <a:ea typeface="Arial"/>
              </a:rPr>
              <a:t> Les écosystèmes </a:t>
            </a:r>
            <a:br>
              <a:rPr sz="1000"/>
            </a:br>
            <a:r>
              <a:rPr b="1" lang="en-US" sz="1000" spc="-1" strike="noStrike">
                <a:solidFill>
                  <a:srgbClr val="a50021"/>
                </a:solidFill>
                <a:latin typeface="Bookman Old Style"/>
                <a:ea typeface="Arial"/>
              </a:rPr>
              <a:t>sensibles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4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Bookman Old Style"/>
                <a:ea typeface="Arial"/>
              </a:rPr>
              <a:t>-</a:t>
            </a:r>
            <a:r>
              <a:rPr b="1" lang="en-US" sz="1000" spc="-1" strike="noStrike">
                <a:solidFill>
                  <a:srgbClr val="a50021"/>
                </a:solidFill>
                <a:latin typeface="Bookman Old Style"/>
                <a:ea typeface="Arial"/>
              </a:rPr>
              <a:t> Litto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4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Bookman Old Style"/>
                <a:ea typeface="Arial"/>
              </a:rPr>
              <a:t>-</a:t>
            </a:r>
            <a:r>
              <a:rPr b="1" lang="en-US" sz="1000" spc="-1" strike="noStrike">
                <a:solidFill>
                  <a:srgbClr val="a50021"/>
                </a:solidFill>
                <a:latin typeface="Bookman Old Style"/>
                <a:ea typeface="Arial"/>
              </a:rPr>
              <a:t> Montag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4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50021"/>
                </a:solidFill>
                <a:latin typeface="Bookman Old Style"/>
                <a:ea typeface="Arial"/>
              </a:rPr>
              <a:t>- Step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4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Bookman Old Style"/>
                <a:ea typeface="Arial"/>
              </a:rPr>
              <a:t>-</a:t>
            </a:r>
            <a:r>
              <a:rPr b="1" lang="en-US" sz="1000" spc="-1" strike="noStrike">
                <a:solidFill>
                  <a:srgbClr val="a50021"/>
                </a:solidFill>
                <a:latin typeface="Bookman Old Style"/>
                <a:ea typeface="Arial"/>
              </a:rPr>
              <a:t> système oas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8"/>
          <p:cNvGrpSpPr/>
          <p:nvPr/>
        </p:nvGrpSpPr>
        <p:grpSpPr>
          <a:xfrm>
            <a:off x="-228600" y="3156120"/>
            <a:ext cx="1874880" cy="847440"/>
            <a:chOff x="-228600" y="3156120"/>
            <a:chExt cx="1874880" cy="847440"/>
          </a:xfrm>
        </p:grpSpPr>
        <p:sp>
          <p:nvSpPr>
            <p:cNvPr id="213" name="AutoShape 9"/>
            <p:cNvSpPr/>
            <p:nvPr/>
          </p:nvSpPr>
          <p:spPr>
            <a:xfrm rot="5400000">
              <a:off x="267480" y="2873160"/>
              <a:ext cx="847440" cy="1413000"/>
            </a:xfrm>
            <a:custGeom>
              <a:avLst/>
              <a:gdLst>
                <a:gd name="textAreaLeft" fmla="*/ 0 w 847440"/>
                <a:gd name="textAreaRight" fmla="*/ 847800 w 847440"/>
                <a:gd name="textAreaTop" fmla="*/ 0 h 1413000"/>
                <a:gd name="textAreaBottom" fmla="*/ 1413360 h 141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-228600" y="3156120"/>
              <a:ext cx="187488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1</a:t>
              </a: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- Le système </a:t>
              </a:r>
              <a:br>
                <a:rPr sz="1300"/>
              </a:b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de la durabilité</a:t>
              </a:r>
              <a:r>
                <a:rPr b="1" lang="en-US" sz="14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1"/>
          <p:cNvGrpSpPr/>
          <p:nvPr/>
        </p:nvGrpSpPr>
        <p:grpSpPr>
          <a:xfrm>
            <a:off x="2560680" y="3156120"/>
            <a:ext cx="2009880" cy="847080"/>
            <a:chOff x="2560680" y="3156120"/>
            <a:chExt cx="2009880" cy="847080"/>
          </a:xfrm>
        </p:grpSpPr>
        <p:sp>
          <p:nvSpPr>
            <p:cNvPr id="216" name="AutoShape 12"/>
            <p:cNvSpPr/>
            <p:nvPr/>
          </p:nvSpPr>
          <p:spPr>
            <a:xfrm rot="5400000">
              <a:off x="3133080" y="2949120"/>
              <a:ext cx="845280" cy="126252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1262520"/>
                <a:gd name="textAreaBottom" fmla="*/ 1262880 h 12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3"/>
            <p:cNvSpPr/>
            <p:nvPr/>
          </p:nvSpPr>
          <p:spPr>
            <a:xfrm>
              <a:off x="2560680" y="3156120"/>
              <a:ext cx="2009880" cy="75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3</a:t>
              </a: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- Le système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démo-</a:t>
              </a:r>
              <a:br>
                <a:rPr sz="1300"/>
              </a:b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économique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4"/>
          <p:cNvGrpSpPr/>
          <p:nvPr/>
        </p:nvGrpSpPr>
        <p:grpSpPr>
          <a:xfrm>
            <a:off x="4237200" y="3156120"/>
            <a:ext cx="1798560" cy="865080"/>
            <a:chOff x="4237200" y="3156120"/>
            <a:chExt cx="1798560" cy="865080"/>
          </a:xfrm>
        </p:grpSpPr>
        <p:sp>
          <p:nvSpPr>
            <p:cNvPr id="219" name="AutoShape 15"/>
            <p:cNvSpPr/>
            <p:nvPr/>
          </p:nvSpPr>
          <p:spPr>
            <a:xfrm rot="5400000">
              <a:off x="4734720" y="2752920"/>
              <a:ext cx="845640" cy="165204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1652040"/>
                <a:gd name="textAreaBottom" fmla="*/ 1652400 h 165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6"/>
            <p:cNvSpPr/>
            <p:nvPr/>
          </p:nvSpPr>
          <p:spPr>
            <a:xfrm>
              <a:off x="4237200" y="3156120"/>
              <a:ext cx="179856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4-</a:t>
              </a:r>
              <a:r>
                <a:rPr b="1" lang="en-US" sz="14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Le système urbai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et la ques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rura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AutoShape 17"/>
          <p:cNvSpPr/>
          <p:nvPr/>
        </p:nvSpPr>
        <p:spPr>
          <a:xfrm>
            <a:off x="2825640" y="4657680"/>
            <a:ext cx="1562040" cy="851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marL="230040" indent="-23004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1- 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Démograph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Emplo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3- 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Développement </a:t>
            </a:r>
            <a:br>
              <a:rPr sz="1100"/>
            </a:b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soc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8"/>
          <p:cNvGrpSpPr/>
          <p:nvPr/>
        </p:nvGrpSpPr>
        <p:grpSpPr>
          <a:xfrm>
            <a:off x="6094440" y="3137040"/>
            <a:ext cx="1677960" cy="866160"/>
            <a:chOff x="6094440" y="3137040"/>
            <a:chExt cx="1677960" cy="866160"/>
          </a:xfrm>
        </p:grpSpPr>
        <p:sp>
          <p:nvSpPr>
            <p:cNvPr id="223" name="AutoShape 19"/>
            <p:cNvSpPr/>
            <p:nvPr/>
          </p:nvSpPr>
          <p:spPr>
            <a:xfrm rot="5400000">
              <a:off x="6537960" y="2823480"/>
              <a:ext cx="846360" cy="151272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6094440" y="3137040"/>
              <a:ext cx="167796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8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5-</a:t>
              </a: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Le système relationnel des transports et de communic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1"/>
          <p:cNvGrpSpPr/>
          <p:nvPr/>
        </p:nvGrpSpPr>
        <p:grpSpPr>
          <a:xfrm>
            <a:off x="7772400" y="3135240"/>
            <a:ext cx="1325520" cy="846360"/>
            <a:chOff x="7772400" y="3135240"/>
            <a:chExt cx="1325520" cy="846360"/>
          </a:xfrm>
        </p:grpSpPr>
        <p:sp>
          <p:nvSpPr>
            <p:cNvPr id="226" name="AutoShape 22"/>
            <p:cNvSpPr/>
            <p:nvPr/>
          </p:nvSpPr>
          <p:spPr>
            <a:xfrm rot="5400000">
              <a:off x="8003520" y="2922840"/>
              <a:ext cx="846360" cy="127116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1271160"/>
                <a:gd name="textAreaBottom" fmla="*/ 1271160 h 12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3"/>
            <p:cNvSpPr/>
            <p:nvPr/>
          </p:nvSpPr>
          <p:spPr>
            <a:xfrm>
              <a:off x="7772400" y="3158280"/>
              <a:ext cx="132552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6-</a:t>
              </a: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Le système</a:t>
              </a:r>
              <a:br>
                <a:rPr sz="1300"/>
              </a:b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productif économiqu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24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ookman Old Style"/>
              </a:rPr>
              <a:t>Une approche systémique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Bookman Old Style"/>
              </a:rPr>
              <a:t>et décloisonnement du terri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5"/>
          <p:cNvSpPr/>
          <p:nvPr/>
        </p:nvSpPr>
        <p:spPr>
          <a:xfrm>
            <a:off x="4538520" y="4627440"/>
            <a:ext cx="1481400" cy="10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marL="236520" indent="-23652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1-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 Le système urb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2-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 La vil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3-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 Le milieu rural</a:t>
            </a:r>
            <a:br>
              <a:rPr sz="13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6"/>
          <p:cNvSpPr/>
          <p:nvPr/>
        </p:nvSpPr>
        <p:spPr>
          <a:xfrm>
            <a:off x="7674120" y="4606920"/>
            <a:ext cx="1422360" cy="99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marL="230040" indent="-23004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1-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 L’agriculture, pê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2-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 L’industr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3-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 Les services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27"/>
          <p:cNvGrpSpPr/>
          <p:nvPr/>
        </p:nvGrpSpPr>
        <p:grpSpPr>
          <a:xfrm>
            <a:off x="547560" y="3978360"/>
            <a:ext cx="320760" cy="658800"/>
            <a:chOff x="547560" y="3978360"/>
            <a:chExt cx="320760" cy="658800"/>
          </a:xfrm>
        </p:grpSpPr>
        <p:sp>
          <p:nvSpPr>
            <p:cNvPr id="232" name="AutoShape 28"/>
            <p:cNvSpPr/>
            <p:nvPr/>
          </p:nvSpPr>
          <p:spPr>
            <a:xfrm rot="5400000">
              <a:off x="563400" y="4046040"/>
              <a:ext cx="289440" cy="1537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81" y="0"/>
                  </a:lnTo>
                  <a:lnTo>
                    <a:pt x="21600" y="10800"/>
                  </a:lnTo>
                  <a:lnTo>
                    <a:pt x="1618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9"/>
            <p:cNvSpPr/>
            <p:nvPr/>
          </p:nvSpPr>
          <p:spPr>
            <a:xfrm>
              <a:off x="547560" y="4193640"/>
              <a:ext cx="320760" cy="443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30"/>
          <p:cNvGrpSpPr/>
          <p:nvPr/>
        </p:nvGrpSpPr>
        <p:grpSpPr>
          <a:xfrm>
            <a:off x="3382920" y="3978360"/>
            <a:ext cx="320760" cy="658800"/>
            <a:chOff x="3382920" y="3978360"/>
            <a:chExt cx="320760" cy="658800"/>
          </a:xfrm>
        </p:grpSpPr>
        <p:sp>
          <p:nvSpPr>
            <p:cNvPr id="235" name="AutoShape 31"/>
            <p:cNvSpPr/>
            <p:nvPr/>
          </p:nvSpPr>
          <p:spPr>
            <a:xfrm rot="5400000">
              <a:off x="3398760" y="4046040"/>
              <a:ext cx="289440" cy="1537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81" y="0"/>
                  </a:lnTo>
                  <a:lnTo>
                    <a:pt x="21600" y="10800"/>
                  </a:lnTo>
                  <a:lnTo>
                    <a:pt x="1618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2"/>
            <p:cNvSpPr/>
            <p:nvPr/>
          </p:nvSpPr>
          <p:spPr>
            <a:xfrm>
              <a:off x="3382920" y="4193640"/>
              <a:ext cx="320760" cy="443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3"/>
          <p:cNvGrpSpPr/>
          <p:nvPr/>
        </p:nvGrpSpPr>
        <p:grpSpPr>
          <a:xfrm>
            <a:off x="4937040" y="3978360"/>
            <a:ext cx="319320" cy="658440"/>
            <a:chOff x="4937040" y="3978360"/>
            <a:chExt cx="319320" cy="658440"/>
          </a:xfrm>
        </p:grpSpPr>
        <p:sp>
          <p:nvSpPr>
            <p:cNvPr id="238" name="AutoShape 34"/>
            <p:cNvSpPr/>
            <p:nvPr/>
          </p:nvSpPr>
          <p:spPr>
            <a:xfrm rot="5400000">
              <a:off x="4951800" y="4046760"/>
              <a:ext cx="289440" cy="15228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5"/>
            <p:cNvSpPr/>
            <p:nvPr/>
          </p:nvSpPr>
          <p:spPr>
            <a:xfrm>
              <a:off x="4937040" y="4192200"/>
              <a:ext cx="319320" cy="4446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36"/>
          <p:cNvGrpSpPr/>
          <p:nvPr/>
        </p:nvGrpSpPr>
        <p:grpSpPr>
          <a:xfrm>
            <a:off x="8275680" y="3978360"/>
            <a:ext cx="318960" cy="658440"/>
            <a:chOff x="8275680" y="3978360"/>
            <a:chExt cx="318960" cy="658440"/>
          </a:xfrm>
        </p:grpSpPr>
        <p:sp>
          <p:nvSpPr>
            <p:cNvPr id="241" name="AutoShape 37"/>
            <p:cNvSpPr/>
            <p:nvPr/>
          </p:nvSpPr>
          <p:spPr>
            <a:xfrm rot="5400000">
              <a:off x="8290800" y="4047120"/>
              <a:ext cx="289440" cy="1519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8"/>
            <p:cNvSpPr/>
            <p:nvPr/>
          </p:nvSpPr>
          <p:spPr>
            <a:xfrm>
              <a:off x="8275680" y="4192200"/>
              <a:ext cx="318960" cy="4446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Text Box 39"/>
          <p:cNvGrpSpPr/>
          <p:nvPr/>
        </p:nvGrpSpPr>
        <p:grpSpPr>
          <a:xfrm>
            <a:off x="85680" y="781200"/>
            <a:ext cx="8882280" cy="1219320"/>
            <a:chOff x="85680" y="781200"/>
            <a:chExt cx="8882280" cy="1219320"/>
          </a:xfrm>
        </p:grpSpPr>
        <p:pic>
          <p:nvPicPr>
            <p:cNvPr id="244" name="Text Box 39" descr=""/>
            <p:cNvPicPr/>
            <p:nvPr/>
          </p:nvPicPr>
          <p:blipFill>
            <a:blip r:embed="rId1"/>
            <a:stretch/>
          </p:blipFill>
          <p:spPr>
            <a:xfrm>
              <a:off x="85680" y="781200"/>
              <a:ext cx="888228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92160" y="787320"/>
              <a:ext cx="8869320" cy="12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8800" bIns="28800" anchor="t">
              <a:spAutoFit/>
            </a:bodyPr>
            <a:p>
              <a:pPr algn="ctr">
                <a:lnSpc>
                  <a:spcPct val="85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Qui s’intéresse aux</a:t>
              </a:r>
              <a:r>
                <a:rPr b="1" lang="en-US" sz="1900" spc="-1" strike="noStrike">
                  <a:solidFill>
                    <a:srgbClr val="000066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9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interactions</a:t>
              </a: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,</a:t>
              </a:r>
              <a:r>
                <a:rPr b="1" lang="en-US" sz="1900" spc="-1" strike="noStrike">
                  <a:solidFill>
                    <a:srgbClr val="000066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aux</a:t>
              </a:r>
              <a:r>
                <a:rPr b="1" lang="en-US" sz="1900" spc="-1" strike="noStrike">
                  <a:solidFill>
                    <a:srgbClr val="000066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9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enchaînements</a:t>
              </a:r>
              <a:r>
                <a:rPr b="1" lang="en-US" sz="1900" spc="-1" strike="noStrike">
                  <a:solidFill>
                    <a:srgbClr val="000066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et aux effets des filières et</a:t>
              </a:r>
              <a:r>
                <a:rPr b="1" lang="en-US" sz="19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l’aspect relationnel des problèm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Le territoire est toujours </a:t>
              </a:r>
              <a:r>
                <a:rPr b="1" lang="en-US" sz="19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l’articulation</a:t>
              </a: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9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entre les systèmes</a:t>
              </a: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</a:t>
              </a:r>
              <a:br>
                <a:rPr sz="1900"/>
              </a:b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qui y sont représentés : </a:t>
              </a:r>
              <a:r>
                <a:rPr b="1" lang="en-US" sz="19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eau, sol, population,villes</a:t>
              </a: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…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AutoShape 40"/>
          <p:cNvSpPr/>
          <p:nvPr/>
        </p:nvSpPr>
        <p:spPr>
          <a:xfrm>
            <a:off x="5946840" y="4638600"/>
            <a:ext cx="1662120" cy="851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marL="236520" indent="-23652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1- 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Trans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Communication NT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3- 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Énerg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41"/>
          <p:cNvGrpSpPr/>
          <p:nvPr/>
        </p:nvGrpSpPr>
        <p:grpSpPr>
          <a:xfrm>
            <a:off x="6765840" y="3978360"/>
            <a:ext cx="320760" cy="658800"/>
            <a:chOff x="6765840" y="3978360"/>
            <a:chExt cx="320760" cy="658800"/>
          </a:xfrm>
        </p:grpSpPr>
        <p:sp>
          <p:nvSpPr>
            <p:cNvPr id="248" name="AutoShape 42"/>
            <p:cNvSpPr/>
            <p:nvPr/>
          </p:nvSpPr>
          <p:spPr>
            <a:xfrm rot="5400000">
              <a:off x="6781680" y="4046040"/>
              <a:ext cx="289440" cy="1537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81" y="0"/>
                  </a:lnTo>
                  <a:lnTo>
                    <a:pt x="21600" y="10800"/>
                  </a:lnTo>
                  <a:lnTo>
                    <a:pt x="1618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3"/>
            <p:cNvSpPr/>
            <p:nvPr/>
          </p:nvSpPr>
          <p:spPr>
            <a:xfrm>
              <a:off x="6765840" y="4193640"/>
              <a:ext cx="320760" cy="443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44"/>
          <p:cNvGrpSpPr/>
          <p:nvPr/>
        </p:nvGrpSpPr>
        <p:grpSpPr>
          <a:xfrm>
            <a:off x="1098720" y="3146400"/>
            <a:ext cx="2011320" cy="846000"/>
            <a:chOff x="1098720" y="3146400"/>
            <a:chExt cx="2011320" cy="846000"/>
          </a:xfrm>
        </p:grpSpPr>
        <p:sp>
          <p:nvSpPr>
            <p:cNvPr id="251" name="AutoShape 45"/>
            <p:cNvSpPr/>
            <p:nvPr/>
          </p:nvSpPr>
          <p:spPr>
            <a:xfrm rot="5400000">
              <a:off x="1673640" y="2938320"/>
              <a:ext cx="846000" cy="1262160"/>
            </a:xfrm>
            <a:custGeom>
              <a:avLst/>
              <a:gdLst>
                <a:gd name="textAreaLeft" fmla="*/ 0 w 846000"/>
                <a:gd name="textAreaRight" fmla="*/ 846360 w 846000"/>
                <a:gd name="textAreaTop" fmla="*/ 0 h 1262160"/>
                <a:gd name="textAreaBottom" fmla="*/ 1262520 h 126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46"/>
            <p:cNvSpPr/>
            <p:nvPr/>
          </p:nvSpPr>
          <p:spPr>
            <a:xfrm>
              <a:off x="1098720" y="3146400"/>
              <a:ext cx="20113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2-</a:t>
              </a: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Le système patrimoni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AutoShape 47"/>
          <p:cNvSpPr/>
          <p:nvPr/>
        </p:nvSpPr>
        <p:spPr>
          <a:xfrm>
            <a:off x="1413000" y="4645080"/>
            <a:ext cx="1387440" cy="948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marL="230040" indent="-23004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1- 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Patrimo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historiqu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Archéolog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savoirs faire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8"/>
          <p:cNvGrpSpPr/>
          <p:nvPr/>
        </p:nvGrpSpPr>
        <p:grpSpPr>
          <a:xfrm>
            <a:off x="1967040" y="3984480"/>
            <a:ext cx="318960" cy="658440"/>
            <a:chOff x="1967040" y="3984480"/>
            <a:chExt cx="318960" cy="658440"/>
          </a:xfrm>
        </p:grpSpPr>
        <p:sp>
          <p:nvSpPr>
            <p:cNvPr id="255" name="AutoShape 49"/>
            <p:cNvSpPr/>
            <p:nvPr/>
          </p:nvSpPr>
          <p:spPr>
            <a:xfrm rot="5400000">
              <a:off x="1982160" y="4053240"/>
              <a:ext cx="289440" cy="1519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50"/>
            <p:cNvSpPr/>
            <p:nvPr/>
          </p:nvSpPr>
          <p:spPr>
            <a:xfrm>
              <a:off x="1967040" y="4198320"/>
              <a:ext cx="318960" cy="4446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Line 51"/>
          <p:cNvSpPr/>
          <p:nvPr/>
        </p:nvSpPr>
        <p:spPr>
          <a:xfrm flipH="1">
            <a:off x="1920960" y="2660760"/>
            <a:ext cx="2651040" cy="44748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2"/>
          <p:cNvSpPr/>
          <p:nvPr/>
        </p:nvSpPr>
        <p:spPr>
          <a:xfrm>
            <a:off x="1967040" y="2244600"/>
            <a:ext cx="5256000" cy="408960"/>
          </a:xfrm>
          <a:prstGeom prst="rect">
            <a:avLst/>
          </a:prstGeom>
          <a:blipFill rotWithShape="0">
            <a:blip r:embed="rId2">
              <a:alphaModFix amt="8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Bookman Old Style"/>
                <a:ea typeface="Arial"/>
              </a:rPr>
              <a:t>Le SNAT distingue </a:t>
            </a:r>
            <a:r>
              <a:rPr b="1" lang="en-US" sz="2300" spc="-1" strike="noStrike">
                <a:solidFill>
                  <a:srgbClr val="cc0000"/>
                </a:solidFill>
                <a:latin typeface="Bookman Old Style"/>
                <a:ea typeface="Arial"/>
              </a:rPr>
              <a:t>6 systèm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45760" y="3065400"/>
            <a:ext cx="8273880" cy="868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ookman Old Style"/>
              </a:rPr>
              <a:t>4</a:t>
            </a:r>
            <a:r>
              <a:rPr b="1" lang="en-US" sz="4000" spc="-1" strike="noStrike">
                <a:solidFill>
                  <a:srgbClr val="a50021"/>
                </a:solidFill>
                <a:latin typeface="Bookman Old Style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images</a:t>
            </a:r>
            <a:r>
              <a:rPr b="1" lang="en-US" sz="4000" spc="-1" strike="noStrike">
                <a:solidFill>
                  <a:srgbClr val="000066"/>
                </a:solidFill>
                <a:latin typeface="Bookman Old Style"/>
              </a:rPr>
              <a:t> de l’Algérie </a:t>
            </a: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2025</a:t>
            </a: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 :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2340000" y="1341360"/>
            <a:ext cx="44337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Bookman Old Style"/>
                <a:ea typeface="Arial"/>
              </a:rPr>
              <a:t>Les scénarios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595440" y="4048200"/>
            <a:ext cx="8273880" cy="1036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Bookman Old Style"/>
              </a:rPr>
              <a:t>un large spectre des situations possibles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2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Clr clrSpc="hsl" dir="cw">
                                      <p:cBhvr>
                                        <p:cTn id="50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0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200"/>
                            </p:stCondLst>
                            <p:childTnLst>
                              <p:par>
                                <p:cTn id="5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5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0" y="836640"/>
            <a:ext cx="91440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Bookman Old Style"/>
              </a:rPr>
              <a:t>Scénario 1</a:t>
            </a: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 :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’équilibre volontar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Bookman Old Style"/>
              </a:rPr>
              <a:t>Scénario 2</a:t>
            </a: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 :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a dynamique de l’équi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Bookman Old Style"/>
              </a:rPr>
              <a:t>Scénario 3</a:t>
            </a: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 :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le territoire compétiti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Une vision libérale de l’aménagement du terri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Bookman Old Style"/>
              </a:rPr>
              <a:t>Scénario 4</a:t>
            </a: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 :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e territoire tendanciel disper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ookman Old Style"/>
              </a:rPr>
              <a:t>Le Scénario acceptable </a:t>
            </a:r>
            <a:r>
              <a:rPr b="1" lang="en-US" sz="3200" spc="-1" strike="noStrike">
                <a:solidFill>
                  <a:srgbClr val="000066"/>
                </a:solidFill>
                <a:latin typeface="Bookman Old Style"/>
              </a:rPr>
              <a:t>« souhaité » :                     « Le parti d’Aménagement » :</a:t>
            </a:r>
            <a:r>
              <a:rPr b="1" lang="en-US" sz="3200" spc="-1" strike="noStrike">
                <a:solidFill>
                  <a:srgbClr val="990000"/>
                </a:solidFill>
                <a:latin typeface="Bookman Old Style"/>
              </a:rPr>
              <a:t>                        équilibre territorial et compéti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défin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Bookman Old Style"/>
              </a:rPr>
              <a:t>les orientations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de la politique nationale de l’aménagement et du développement  durable du territoi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Bookman Old Style"/>
              </a:rPr>
              <a:t>la création de conditions favorables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au développement de la richesse nationale et de l’emplo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Bookman Old Style"/>
              </a:rPr>
              <a:t>l'égalité des chances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de promotion et d'épanouissement entre tous les citoyen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l'incitation à la </a:t>
            </a:r>
            <a:r>
              <a:rPr b="1" lang="en-US" sz="2200" spc="-1" strike="noStrike">
                <a:solidFill>
                  <a:srgbClr val="ff0000"/>
                </a:solidFill>
                <a:latin typeface="Bookman Old Style"/>
              </a:rPr>
              <a:t>répartition appropriée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entre les régions et les territoires, des bases et moyens de développement en visant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Bookman Old Style"/>
              </a:rPr>
              <a:t>l'allègement des pressions sur le littoral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, les métropoles et grandes villes et la promotion des zones de montagne, des régions des Hauts Plateaux et du Su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116000" y="260280"/>
            <a:ext cx="80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0" y="0"/>
            <a:ext cx="82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47840" y="0"/>
            <a:ext cx="813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46080" y="91800"/>
            <a:ext cx="9144000" cy="547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Bookman Old Style"/>
              </a:rPr>
              <a:t>L’architecture du SNAT 20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3200400" y="2743200"/>
            <a:ext cx="25146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Bookman Old Style"/>
                <a:ea typeface="Arial"/>
              </a:rPr>
              <a:t>0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Bookman Old Style"/>
                <a:ea typeface="Arial"/>
              </a:rPr>
              <a:t>LIGNES DIRECTR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2124000" y="765000"/>
            <a:ext cx="4845240" cy="7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Le SNAT est charpenté </a:t>
            </a:r>
            <a:endParaRPr b="1" lang="en-US" sz="1800" spc="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autour de</a:t>
            </a:r>
            <a:endParaRPr b="1" lang="en-US" sz="1800" spc="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68" name="AutoShape 5"/>
          <p:cNvSpPr/>
          <p:nvPr/>
        </p:nvSpPr>
        <p:spPr>
          <a:xfrm rot="5400000">
            <a:off x="3975480" y="1875600"/>
            <a:ext cx="917640" cy="54756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Text Box 6"/>
          <p:cNvGrpSpPr/>
          <p:nvPr/>
        </p:nvGrpSpPr>
        <p:grpSpPr>
          <a:xfrm>
            <a:off x="-6480" y="1682640"/>
            <a:ext cx="2347920" cy="1121040"/>
            <a:chOff x="-6480" y="1682640"/>
            <a:chExt cx="2347920" cy="1121040"/>
          </a:xfrm>
        </p:grpSpPr>
        <p:pic>
          <p:nvPicPr>
            <p:cNvPr id="270" name="Text Box 6" descr=""/>
            <p:cNvPicPr/>
            <p:nvPr/>
          </p:nvPicPr>
          <p:blipFill>
            <a:blip r:embed="rId2"/>
            <a:stretch/>
          </p:blipFill>
          <p:spPr>
            <a:xfrm>
              <a:off x="-6480" y="1682640"/>
              <a:ext cx="234792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0" y="1690560"/>
              <a:ext cx="2332080" cy="11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9160" bIns="29160" anchor="t">
              <a:spAutoFit/>
            </a:bodyPr>
            <a:p>
              <a:pPr marL="217440" indent="-217440" algn="ctr">
                <a:lnSpc>
                  <a:spcPct val="100000"/>
                </a:lnSpc>
                <a:spcBef>
                  <a:spcPts val="1437"/>
                </a:spcBef>
                <a:buClr>
                  <a:srgbClr val="cc0000"/>
                </a:buClr>
                <a:buFont typeface="Bookman Old Styl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Aller vers </a:t>
              </a:r>
              <a:br>
                <a:rPr sz="2300"/>
              </a:b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un territoire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durabl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Text Box 7"/>
          <p:cNvGrpSpPr/>
          <p:nvPr/>
        </p:nvGrpSpPr>
        <p:grpSpPr>
          <a:xfrm>
            <a:off x="4748040" y="4614840"/>
            <a:ext cx="3988080" cy="1463040"/>
            <a:chOff x="4748040" y="4614840"/>
            <a:chExt cx="3988080" cy="1463040"/>
          </a:xfrm>
        </p:grpSpPr>
        <p:pic>
          <p:nvPicPr>
            <p:cNvPr id="273" name="Text Box 7" descr=""/>
            <p:cNvPicPr/>
            <p:nvPr/>
          </p:nvPicPr>
          <p:blipFill>
            <a:blip r:embed="rId3"/>
            <a:stretch/>
          </p:blipFill>
          <p:spPr>
            <a:xfrm>
              <a:off x="4748040" y="4614840"/>
              <a:ext cx="39880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754520" y="4618080"/>
              <a:ext cx="3976560" cy="14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9160" bIns="29160" anchor="t">
              <a:spAutoFit/>
            </a:bodyPr>
            <a:p>
              <a:pPr marL="217440" indent="-217440"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3.</a:t>
              </a: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 Créer les conditions de l’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attractivité</a:t>
              </a: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 </a:t>
              </a:r>
              <a:br>
                <a:rPr sz="2300"/>
              </a:b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et de la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compétitivité</a:t>
              </a: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 des territoir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Text Box 8"/>
          <p:cNvGrpSpPr/>
          <p:nvPr/>
        </p:nvGrpSpPr>
        <p:grpSpPr>
          <a:xfrm>
            <a:off x="128520" y="4614840"/>
            <a:ext cx="2986200" cy="1463040"/>
            <a:chOff x="128520" y="4614840"/>
            <a:chExt cx="2986200" cy="1463040"/>
          </a:xfrm>
        </p:grpSpPr>
        <p:pic>
          <p:nvPicPr>
            <p:cNvPr id="276" name="Text Box 8" descr=""/>
            <p:cNvPicPr/>
            <p:nvPr/>
          </p:nvPicPr>
          <p:blipFill>
            <a:blip r:embed="rId4"/>
            <a:stretch/>
          </p:blipFill>
          <p:spPr>
            <a:xfrm>
              <a:off x="128520" y="4614840"/>
              <a:ext cx="298620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136440" y="4618080"/>
              <a:ext cx="2973600" cy="14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9160" bIns="29160" anchor="t">
              <a:spAutoFit/>
            </a:bodyPr>
            <a:p>
              <a:pPr marL="217440" indent="-217440"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2.</a:t>
              </a: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 Créer les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dynamiques </a:t>
              </a:r>
              <a:br>
                <a:rPr sz="2300"/>
              </a:b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de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rééquilibrage</a:t>
              </a: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 </a:t>
              </a:r>
              <a:br>
                <a:rPr sz="2300"/>
              </a:b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du territoire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AutoShape 9"/>
          <p:cNvSpPr/>
          <p:nvPr/>
        </p:nvSpPr>
        <p:spPr>
          <a:xfrm rot="12348600">
            <a:off x="2107800" y="2631240"/>
            <a:ext cx="1187640" cy="357480"/>
          </a:xfrm>
          <a:custGeom>
            <a:avLst/>
            <a:gdLst>
              <a:gd name="textAreaLeft" fmla="*/ 148320 w 1187640"/>
              <a:gd name="textAreaRight" fmla="*/ 1039320 w 1187640"/>
              <a:gd name="textAreaTop" fmla="*/ 89280 h 357480"/>
              <a:gd name="textAreaBottom" fmla="*/ 2682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0"/>
          <p:cNvSpPr/>
          <p:nvPr/>
        </p:nvSpPr>
        <p:spPr>
          <a:xfrm flipH="1" rot="9249000">
            <a:off x="5468400" y="2476080"/>
            <a:ext cx="1195560" cy="357120"/>
          </a:xfrm>
          <a:custGeom>
            <a:avLst/>
            <a:gdLst>
              <a:gd name="textAreaLeft" fmla="*/ 149400 w 1195560"/>
              <a:gd name="textAreaRight" fmla="*/ 1046160 w 119556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1"/>
          <p:cNvSpPr/>
          <p:nvPr/>
        </p:nvSpPr>
        <p:spPr>
          <a:xfrm rot="8209800">
            <a:off x="2057040" y="4068720"/>
            <a:ext cx="1352520" cy="357120"/>
          </a:xfrm>
          <a:custGeom>
            <a:avLst/>
            <a:gdLst>
              <a:gd name="textAreaLeft" fmla="*/ 168840 w 1352520"/>
              <a:gd name="textAreaRight" fmla="*/ 1183680 w 135252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Text Box 12"/>
          <p:cNvGrpSpPr/>
          <p:nvPr/>
        </p:nvGrpSpPr>
        <p:grpSpPr>
          <a:xfrm>
            <a:off x="6626160" y="1639800"/>
            <a:ext cx="2432160" cy="1466280"/>
            <a:chOff x="6626160" y="1639800"/>
            <a:chExt cx="2432160" cy="1466280"/>
          </a:xfrm>
        </p:grpSpPr>
        <p:pic>
          <p:nvPicPr>
            <p:cNvPr id="282" name="Text Box 12" descr=""/>
            <p:cNvPicPr/>
            <p:nvPr/>
          </p:nvPicPr>
          <p:blipFill>
            <a:blip r:embed="rId5"/>
            <a:stretch/>
          </p:blipFill>
          <p:spPr>
            <a:xfrm>
              <a:off x="6626160" y="1639800"/>
              <a:ext cx="243216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629400" y="1646280"/>
              <a:ext cx="2422440" cy="14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9160" bIns="29160" anchor="t">
              <a:spAutoFit/>
            </a:bodyPr>
            <a:p>
              <a:pPr marL="217440" indent="-217440"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4.</a:t>
              </a: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 Réaliser l’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équité</a:t>
              </a: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 sociale </a:t>
              </a:r>
              <a:br>
                <a:rPr sz="2300"/>
              </a:b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et territorial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13"/>
          <p:cNvSpPr/>
          <p:nvPr/>
        </p:nvSpPr>
        <p:spPr>
          <a:xfrm rot="2830200">
            <a:off x="5415480" y="4005720"/>
            <a:ext cx="1143000" cy="43344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5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000"/>
                            </p:stCondLst>
                            <p:childTnLst>
                              <p:par>
                                <p:cTn id="5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9000"/>
                            </p:stCondLst>
                            <p:childTnLst>
                              <p:par>
                                <p:cTn id="5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6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6616800"/>
            <a:ext cx="1810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0"/>
            <a:ext cx="91440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ookman Old Style"/>
              </a:rPr>
              <a:t>Les 04 lignes directrices se déclinent en 20 Programmes d’Action Territoriale :           « Les PAT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2494080"/>
                <a:gridCol w="6649920"/>
              </a:tblGrid>
              <a:tr h="433440">
                <a:tc>
                  <a:txBody>
                    <a:bodyPr lIns="57960" rIns="57960" tIns="29160" bIns="2916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Bookman Old Style"/>
                          <a:ea typeface="Times New Roman"/>
                        </a:rPr>
                        <a:t>Lignes directr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Bookman Old Style"/>
                          <a:ea typeface="Times New Roman"/>
                        </a:rPr>
                        <a:t>Programmes d’Action Territoriale "PAT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388800">
                <a:tc rowSpan="5">
                  <a:txBody>
                    <a:bodyPr lIns="57960" rIns="57960" tIns="29160" bIns="291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1 /-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Bookman Old Style"/>
                          <a:ea typeface="Times New Roman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Vers un territoire du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.1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Bookman Old Style"/>
                          <a:ea typeface="Times New Roman"/>
                        </a:rPr>
                        <a:t> : la durabilité de la ressource en ea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2 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Bookman Old Style"/>
                          <a:ea typeface="Times New Roman"/>
                        </a:rPr>
                        <a:t>: la conservation des sols et la lutte contre la désert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3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Bookman Old Style"/>
                          <a:ea typeface="Times New Roman"/>
                        </a:rPr>
                        <a:t> : les écosystèm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.4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Bookman Old Style"/>
                          <a:ea typeface="Times New Roman"/>
                        </a:rPr>
                        <a:t> : les risques maje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8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5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Bookman Old Style"/>
                          <a:ea typeface="Times New Roman"/>
                        </a:rPr>
                        <a:t> : le patrimoine culture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1640">
                <a:tc rowSpan="5">
                  <a:txBody>
                    <a:bodyPr lIns="57960" rIns="57960" tIns="29160" bIns="2916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2 /-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Bookman Old Style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Créer les dynamiques du rééquilibrage territo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6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Bookman Old Style"/>
                          <a:ea typeface="Times New Roman"/>
                        </a:rPr>
                        <a:t> : le freinage de la littoralisation et l’équilibrage du litt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7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Bookman Old Style"/>
                          <a:ea typeface="Times New Roman"/>
                        </a:rPr>
                        <a:t> : l’Option Hauts Platea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8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Bookman Old Style"/>
                          <a:ea typeface="Times New Roman"/>
                        </a:rPr>
                        <a:t> : l’Option développement du S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9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Bookman Old Style"/>
                          <a:ea typeface="Times New Roman"/>
                        </a:rPr>
                        <a:t> : la délocalisation des activités et la déconcentration administr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10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Bookman Old Style"/>
                          <a:ea typeface="Times New Roman"/>
                        </a:rPr>
                        <a:t> : un système urbain hiérarchisé et articul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horz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6616800"/>
            <a:ext cx="1810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24000" y="260280"/>
          <a:ext cx="8548560" cy="5732640"/>
        </p:xfrm>
        <a:graphic>
          <a:graphicData uri="http://schemas.openxmlformats.org/drawingml/2006/table">
            <a:tbl>
              <a:tblPr/>
              <a:tblGrid>
                <a:gridCol w="2330280"/>
                <a:gridCol w="6218280"/>
              </a:tblGrid>
              <a:tr h="788760">
                <a:tc rowSpan="7">
                  <a:txBody>
                    <a:bodyPr lIns="57960" rIns="57960" tIns="29160" bIns="2916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3 /-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 Créer les conditions de l’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attractivité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et de la 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compétitivité 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des territo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11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 : la modernisation et le maillage des infrastructures des travaux publics, de transport, de logistique et de commun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12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 : la métropolis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13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 : les pôles de compétitivité et d’excellence "POC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fr-FR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14</a:t>
                      </a: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 : les nouveaux espaces de croissance :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               les 14 Régions-Progra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15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 : le développement  lo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16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 : l’ouverture des territoires à l’intern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73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17 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: le Maghr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2040">
                <a:tc rowSpan="3">
                  <a:txBody>
                    <a:bodyPr lIns="57960" rIns="57960" tIns="29160" bIns="2916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4/-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 Réaliser l’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équité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 territori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18 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: le renouvellement urbain et la politique de la v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19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 : le renouveau rur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20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 : le rattrapage et la mise à niveau des zones à handica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DEA0-D038-49CF-B702-B327A9A3D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Rectangle 2"/>
          <p:cNvGrpSpPr/>
          <p:nvPr/>
        </p:nvGrpSpPr>
        <p:grpSpPr>
          <a:xfrm>
            <a:off x="36360" y="2036880"/>
            <a:ext cx="4133880" cy="1120680"/>
            <a:chOff x="36360" y="2036880"/>
            <a:chExt cx="4133880" cy="1120680"/>
          </a:xfrm>
        </p:grpSpPr>
        <p:pic>
          <p:nvPicPr>
            <p:cNvPr id="292" name="Rectangle 2" descr=""/>
            <p:cNvPicPr/>
            <p:nvPr/>
          </p:nvPicPr>
          <p:blipFill>
            <a:blip r:embed="rId1"/>
            <a:stretch/>
          </p:blipFill>
          <p:spPr>
            <a:xfrm>
              <a:off x="36360" y="2036880"/>
              <a:ext cx="41338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4280" y="2041560"/>
              <a:ext cx="41166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lnSpc>
                  <a:spcPct val="100000"/>
                </a:lnSpc>
                <a:buClr>
                  <a:srgbClr val="cc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99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99"/>
                  </a:solidFill>
                  <a:latin typeface="Bookman Old Style"/>
                </a:rPr>
                <a:t>Mobilisant les </a:t>
              </a:r>
              <a:r>
                <a:rPr b="1" lang="en-US" sz="1700" spc="-1" strike="noStrike">
                  <a:solidFill>
                    <a:srgbClr val="a50021"/>
                  </a:solidFill>
                  <a:latin typeface="Bookman Old Style"/>
                </a:rPr>
                <a:t>capacités</a:t>
              </a:r>
              <a:r>
                <a:rPr b="1" lang="en-US" sz="1700" spc="-1" strike="noStrike">
                  <a:solidFill>
                    <a:srgbClr val="000099"/>
                  </a:solidFill>
                  <a:latin typeface="Bookman Old Style"/>
                </a:rPr>
                <a:t> </a:t>
              </a:r>
              <a:br>
                <a:rPr sz="1700"/>
              </a:br>
              <a:r>
                <a:rPr b="1" lang="en-US" sz="1700" spc="-1" strike="noStrike">
                  <a:solidFill>
                    <a:srgbClr val="000099"/>
                  </a:solidFill>
                  <a:latin typeface="Bookman Old Style"/>
                </a:rPr>
                <a:t>   des territoires </a:t>
              </a:r>
              <a:r>
                <a:rPr b="1" lang="en-US" sz="1700" spc="-1" strike="noStrike">
                  <a:solidFill>
                    <a:srgbClr val="a50021"/>
                  </a:solidFill>
                  <a:latin typeface="Bookman Old Style"/>
                </a:rPr>
                <a:t>naturelles</a:t>
              </a:r>
              <a:r>
                <a:rPr b="1" lang="en-US" sz="1700" spc="-1" strike="noStrike">
                  <a:solidFill>
                    <a:srgbClr val="000099"/>
                  </a:solidFill>
                  <a:latin typeface="Bookman Old Style"/>
                </a:rPr>
                <a:t>,  </a:t>
              </a:r>
              <a:br>
                <a:rPr sz="1700"/>
              </a:br>
              <a:r>
                <a:rPr b="1" lang="en-US" sz="1700" spc="-1" strike="noStrike">
                  <a:solidFill>
                    <a:srgbClr val="000099"/>
                  </a:solidFill>
                  <a:latin typeface="Bookman Old Style"/>
                </a:rPr>
                <a:t>   </a:t>
              </a:r>
              <a:r>
                <a:rPr b="1" lang="en-US" sz="1700" spc="-1" strike="noStrike">
                  <a:solidFill>
                    <a:srgbClr val="a50021"/>
                  </a:solidFill>
                  <a:latin typeface="Bookman Old Style"/>
                </a:rPr>
                <a:t>humaines</a:t>
              </a:r>
              <a:r>
                <a:rPr b="1" lang="en-US" sz="1700" spc="-1" strike="noStrike">
                  <a:solidFill>
                    <a:srgbClr val="000099"/>
                  </a:solidFill>
                  <a:latin typeface="Bookman Old Style"/>
                </a:rPr>
                <a:t> et </a:t>
              </a:r>
              <a:r>
                <a:rPr b="1" lang="en-US" sz="1700" spc="-1" strike="noStrike">
                  <a:solidFill>
                    <a:srgbClr val="a50021"/>
                  </a:solidFill>
                  <a:latin typeface="Bookman Old Style"/>
                </a:rPr>
                <a:t>productives</a:t>
              </a:r>
              <a:r>
                <a:rPr b="1" lang="en-US" sz="1700" spc="-1" strike="noStrike">
                  <a:solidFill>
                    <a:srgbClr val="000099"/>
                  </a:solidFill>
                  <a:latin typeface="Bookman Old Style"/>
                </a:rPr>
                <a:t>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3"/>
          <p:cNvSpPr/>
          <p:nvPr/>
        </p:nvSpPr>
        <p:spPr>
          <a:xfrm>
            <a:off x="228600" y="46080"/>
            <a:ext cx="882324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Bookman Old Style"/>
                <a:ea typeface="Arial"/>
              </a:rPr>
              <a:t>Le SNAT 2025 aide à développer 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Bookman Old Style"/>
                <a:ea typeface="Arial"/>
              </a:rPr>
              <a:t>une économie territor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Text Box 4"/>
          <p:cNvGrpSpPr/>
          <p:nvPr/>
        </p:nvGrpSpPr>
        <p:grpSpPr>
          <a:xfrm>
            <a:off x="5022720" y="2036880"/>
            <a:ext cx="4127760" cy="1309680"/>
            <a:chOff x="5022720" y="2036880"/>
            <a:chExt cx="4127760" cy="1309680"/>
          </a:xfrm>
        </p:grpSpPr>
        <p:pic>
          <p:nvPicPr>
            <p:cNvPr id="296" name="Text Box 4" descr=""/>
            <p:cNvPicPr/>
            <p:nvPr/>
          </p:nvPicPr>
          <p:blipFill>
            <a:blip r:embed="rId2"/>
            <a:stretch/>
          </p:blipFill>
          <p:spPr>
            <a:xfrm>
              <a:off x="5022720" y="2036880"/>
              <a:ext cx="41277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029200" y="2041560"/>
              <a:ext cx="4114800" cy="12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buClr>
                  <a:srgbClr val="a50021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Répartissant de manièr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 </a:t>
              </a:r>
              <a:r>
                <a:rPr b="1" lang="en-US" sz="20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équilibrée</a:t>
              </a: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leur </a:t>
              </a:r>
              <a:r>
                <a:rPr b="1" lang="en-US" sz="20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croissance</a:t>
              </a: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 à travers des </a:t>
              </a:r>
              <a:r>
                <a:rPr b="1" lang="en-US" sz="20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chaînes</a:t>
              </a: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d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 </a:t>
              </a:r>
              <a:r>
                <a:rPr b="1" lang="en-US" sz="20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croissance</a:t>
              </a: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Text Box 5"/>
          <p:cNvGrpSpPr/>
          <p:nvPr/>
        </p:nvGrpSpPr>
        <p:grpSpPr>
          <a:xfrm>
            <a:off x="774720" y="3651120"/>
            <a:ext cx="7369200" cy="701640"/>
            <a:chOff x="774720" y="3651120"/>
            <a:chExt cx="7369200" cy="701640"/>
          </a:xfrm>
        </p:grpSpPr>
        <p:pic>
          <p:nvPicPr>
            <p:cNvPr id="299" name="Text Box 5" descr=""/>
            <p:cNvPicPr/>
            <p:nvPr/>
          </p:nvPicPr>
          <p:blipFill>
            <a:blip r:embed="rId3"/>
            <a:stretch/>
          </p:blipFill>
          <p:spPr>
            <a:xfrm>
              <a:off x="774720" y="3651120"/>
              <a:ext cx="736920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777960" y="3657600"/>
              <a:ext cx="73612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Optimisant</a:t>
              </a: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leurs </a:t>
              </a:r>
              <a:r>
                <a:rPr b="1" lang="en-US" sz="2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atouts</a:t>
              </a: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et leurs </a:t>
              </a:r>
              <a:r>
                <a:rPr b="1" lang="en-US" sz="2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potentialités</a:t>
              </a: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et </a:t>
              </a:r>
              <a:r>
                <a:rPr b="1" lang="en-US" sz="2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renforçant</a:t>
              </a: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leurs </a:t>
              </a:r>
              <a:r>
                <a:rPr b="1" lang="en-US" sz="2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vocations</a:t>
              </a: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6"/>
          <p:cNvGrpSpPr/>
          <p:nvPr/>
        </p:nvGrpSpPr>
        <p:grpSpPr>
          <a:xfrm>
            <a:off x="2479680" y="749880"/>
            <a:ext cx="958320" cy="1325520"/>
            <a:chOff x="2479680" y="749880"/>
            <a:chExt cx="958320" cy="1325520"/>
          </a:xfrm>
        </p:grpSpPr>
        <p:sp>
          <p:nvSpPr>
            <p:cNvPr id="302" name="AutoShape 7"/>
            <p:cNvSpPr/>
            <p:nvPr/>
          </p:nvSpPr>
          <p:spPr>
            <a:xfrm rot="7243200">
              <a:off x="2901960" y="958320"/>
              <a:ext cx="597600" cy="1962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8"/>
            <p:cNvSpPr/>
            <p:nvPr/>
          </p:nvSpPr>
          <p:spPr>
            <a:xfrm rot="1842600">
              <a:off x="2685600" y="1115640"/>
              <a:ext cx="411120" cy="91908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9"/>
          <p:cNvGrpSpPr/>
          <p:nvPr/>
        </p:nvGrpSpPr>
        <p:grpSpPr>
          <a:xfrm>
            <a:off x="5660640" y="777960"/>
            <a:ext cx="974160" cy="1324080"/>
            <a:chOff x="5660640" y="777960"/>
            <a:chExt cx="974160" cy="1324080"/>
          </a:xfrm>
        </p:grpSpPr>
        <p:sp>
          <p:nvSpPr>
            <p:cNvPr id="305" name="AutoShape 10"/>
            <p:cNvSpPr/>
            <p:nvPr/>
          </p:nvSpPr>
          <p:spPr>
            <a:xfrm rot="3488400">
              <a:off x="5600520" y="987840"/>
              <a:ext cx="602640" cy="19368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27" y="0"/>
                  </a:lnTo>
                  <a:lnTo>
                    <a:pt x="21600" y="10800"/>
                  </a:lnTo>
                  <a:lnTo>
                    <a:pt x="1612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1"/>
            <p:cNvSpPr/>
            <p:nvPr/>
          </p:nvSpPr>
          <p:spPr>
            <a:xfrm rot="19688400">
              <a:off x="6019560" y="1139040"/>
              <a:ext cx="400320" cy="9270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2"/>
          <p:cNvGrpSpPr/>
          <p:nvPr/>
        </p:nvGrpSpPr>
        <p:grpSpPr>
          <a:xfrm>
            <a:off x="4206960" y="868320"/>
            <a:ext cx="484200" cy="2559600"/>
            <a:chOff x="4206960" y="868320"/>
            <a:chExt cx="484200" cy="2559600"/>
          </a:xfrm>
        </p:grpSpPr>
        <p:sp>
          <p:nvSpPr>
            <p:cNvPr id="308" name="AutoShape 13"/>
            <p:cNvSpPr/>
            <p:nvPr/>
          </p:nvSpPr>
          <p:spPr>
            <a:xfrm rot="5400000">
              <a:off x="3886560" y="1315080"/>
              <a:ext cx="1124640" cy="230760"/>
            </a:xfrm>
            <a:custGeom>
              <a:avLst/>
              <a:gdLst>
                <a:gd name="textAreaLeft" fmla="*/ 0 w 1124640"/>
                <a:gd name="textAreaRight" fmla="*/ 1125000 w 112464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"/>
            <p:cNvSpPr/>
            <p:nvPr/>
          </p:nvSpPr>
          <p:spPr>
            <a:xfrm>
              <a:off x="4206960" y="1699560"/>
              <a:ext cx="484200" cy="172836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15"/>
          <p:cNvGrpSpPr/>
          <p:nvPr/>
        </p:nvGrpSpPr>
        <p:grpSpPr>
          <a:xfrm>
            <a:off x="4160880" y="4486320"/>
            <a:ext cx="509040" cy="1045800"/>
            <a:chOff x="4160880" y="4486320"/>
            <a:chExt cx="509040" cy="1045800"/>
          </a:xfrm>
        </p:grpSpPr>
        <p:sp>
          <p:nvSpPr>
            <p:cNvPr id="311" name="AutoShape 16"/>
            <p:cNvSpPr/>
            <p:nvPr/>
          </p:nvSpPr>
          <p:spPr>
            <a:xfrm rot="5400000">
              <a:off x="4189320" y="4591440"/>
              <a:ext cx="457920" cy="24768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90" y="0"/>
                  </a:lnTo>
                  <a:lnTo>
                    <a:pt x="21600" y="10800"/>
                  </a:lnTo>
                  <a:lnTo>
                    <a:pt x="1609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7"/>
            <p:cNvSpPr/>
            <p:nvPr/>
          </p:nvSpPr>
          <p:spPr>
            <a:xfrm>
              <a:off x="4160880" y="4827960"/>
              <a:ext cx="509040" cy="70416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 Box 18"/>
          <p:cNvSpPr/>
          <p:nvPr/>
        </p:nvSpPr>
        <p:spPr>
          <a:xfrm>
            <a:off x="960480" y="5599080"/>
            <a:ext cx="7361280" cy="7585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Bookman Old Style"/>
                <a:ea typeface="Arial"/>
              </a:rPr>
              <a:t>Une</a:t>
            </a:r>
            <a:r>
              <a:rPr b="1" lang="en-US" sz="2300" spc="-1" strike="noStrike">
                <a:solidFill>
                  <a:srgbClr val="a50021"/>
                </a:solidFill>
                <a:latin typeface="Bookman Old Style"/>
                <a:ea typeface="Arial"/>
              </a:rPr>
              <a:t> </a:t>
            </a:r>
            <a:r>
              <a:rPr b="1" lang="en-US" sz="2300" spc="-1" strike="noStrike">
                <a:solidFill>
                  <a:srgbClr val="000099"/>
                </a:solidFill>
                <a:latin typeface="Bookman Old Style"/>
                <a:ea typeface="Arial"/>
              </a:rPr>
              <a:t>assise territoriale</a:t>
            </a:r>
            <a:r>
              <a:rPr b="1" lang="en-US" sz="2300" spc="-1" strike="noStrike">
                <a:solidFill>
                  <a:srgbClr val="a50021"/>
                </a:solidFill>
                <a:latin typeface="Bookman Old Style"/>
                <a:ea typeface="Arial"/>
              </a:rPr>
              <a:t> capable </a:t>
            </a:r>
            <a:r>
              <a:rPr b="1" lang="en-US" sz="2300" spc="-1" strike="noStrike">
                <a:solidFill>
                  <a:srgbClr val="000099"/>
                </a:solidFill>
                <a:latin typeface="Bookman Old Style"/>
                <a:ea typeface="Arial"/>
              </a:rPr>
              <a:t>de</a:t>
            </a:r>
            <a:r>
              <a:rPr b="1" lang="en-US" sz="2300" spc="-1" strike="noStrike">
                <a:solidFill>
                  <a:srgbClr val="a50021"/>
                </a:solidFill>
                <a:latin typeface="Bookman Old Style"/>
                <a:ea typeface="Arial"/>
              </a:rPr>
              <a:t> structurer </a:t>
            </a:r>
            <a:br>
              <a:rPr sz="2300"/>
            </a:br>
            <a:r>
              <a:rPr b="1" lang="en-US" sz="2300" spc="-1" strike="noStrike">
                <a:solidFill>
                  <a:srgbClr val="000099"/>
                </a:solidFill>
                <a:latin typeface="Bookman Old Style"/>
                <a:ea typeface="Arial"/>
              </a:rPr>
              <a:t>et</a:t>
            </a:r>
            <a:r>
              <a:rPr b="1" lang="en-US" sz="2300" spc="-1" strike="noStrike">
                <a:solidFill>
                  <a:srgbClr val="a50021"/>
                </a:solidFill>
                <a:latin typeface="Bookman Old Style"/>
                <a:ea typeface="Arial"/>
              </a:rPr>
              <a:t> booster </a:t>
            </a:r>
            <a:r>
              <a:rPr b="1" lang="en-US" sz="2300" spc="-1" strike="noStrike">
                <a:solidFill>
                  <a:srgbClr val="000099"/>
                </a:solidFill>
                <a:latin typeface="Bookman Old Style"/>
                <a:ea typeface="Arial"/>
              </a:rPr>
              <a:t>ses</a:t>
            </a:r>
            <a:r>
              <a:rPr b="1" lang="en-US" sz="2300" spc="-1" strike="noStrike">
                <a:solidFill>
                  <a:srgbClr val="a50021"/>
                </a:solidFill>
                <a:latin typeface="Bookman Old Style"/>
                <a:ea typeface="Arial"/>
              </a:rPr>
              <a:t> dynamiq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000"/>
                            </p:stCondLst>
                            <p:childTnLst>
                              <p:par>
                                <p:cTn id="6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000"/>
                            </p:stCondLst>
                            <p:childTnLst>
                              <p:par>
                                <p:cTn id="6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500"/>
                            </p:stCondLst>
                            <p:childTnLst>
                              <p:par>
                                <p:cTn id="6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6500"/>
                            </p:stCondLst>
                            <p:childTnLst>
                              <p:par>
                                <p:cTn id="6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7000"/>
                            </p:stCondLst>
                            <p:childTnLst>
                              <p:par>
                                <p:cTn id="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4F23-B5A6-42F0-AEB8-9558B6737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685800" y="136440"/>
            <a:ext cx="768024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990000"/>
                </a:solidFill>
                <a:latin typeface="Bookman Old Style"/>
                <a:ea typeface="Arial"/>
              </a:rPr>
              <a:t>La Région-Program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184320" y="3624120"/>
            <a:ext cx="3308040" cy="249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man Old Style"/>
                <a:ea typeface="Arial"/>
              </a:rPr>
              <a:t>Un territoire </a:t>
            </a:r>
            <a:r>
              <a:rPr b="1" lang="en-US" sz="2000" spc="-1" strike="noStrike">
                <a:solidFill>
                  <a:srgbClr val="a50021"/>
                </a:solidFill>
                <a:latin typeface="Bookman Old Style"/>
                <a:ea typeface="Arial"/>
              </a:rPr>
              <a:t>d’influence et de polarisation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Bookman Old Style"/>
                <a:ea typeface="Arial"/>
              </a:rPr>
              <a:t>autour des :</a:t>
            </a:r>
            <a:r>
              <a:rPr b="1" lang="en-US" sz="2700" spc="-1" strike="noStrike">
                <a:solidFill>
                  <a:srgbClr val="000066"/>
                </a:solidFill>
                <a:latin typeface="Bookman Old Styl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Bookman Old Style"/>
                <a:ea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Bookman Old Style"/>
                <a:ea typeface="Arial"/>
              </a:rPr>
              <a:t>Métro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Bookman Old Style"/>
                <a:ea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Bookman Old Style"/>
                <a:ea typeface="Arial"/>
              </a:rPr>
              <a:t>Villes relais du Te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Bookman Old Style"/>
                <a:ea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Bookman Old Style"/>
                <a:ea typeface="Arial"/>
              </a:rPr>
              <a:t>Villes d’équilibre des   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Bookman Old Style"/>
                <a:ea typeface="Arial"/>
              </a:rPr>
              <a:t>  Hauts Plate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Bookman Old Style"/>
                <a:ea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Bookman Old Style"/>
                <a:ea typeface="Arial"/>
              </a:rPr>
              <a:t>Villes de développement 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Bookman Old Style"/>
                <a:ea typeface="Arial"/>
              </a:rPr>
              <a:t>  du Sud</a:t>
            </a:r>
            <a:r>
              <a:rPr b="1" lang="en-US" sz="2000" spc="-1" strike="noStrike">
                <a:solidFill>
                  <a:srgbClr val="000066"/>
                </a:solidFill>
                <a:latin typeface="Bookman Old Style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1536840" y="1814400"/>
            <a:ext cx="411120" cy="1096560"/>
            <a:chOff x="1536840" y="1814400"/>
            <a:chExt cx="411120" cy="1096560"/>
          </a:xfrm>
        </p:grpSpPr>
        <p:sp>
          <p:nvSpPr>
            <p:cNvPr id="318" name="AutoShape 5"/>
            <p:cNvSpPr/>
            <p:nvPr/>
          </p:nvSpPr>
          <p:spPr>
            <a:xfrm rot="5400000">
              <a:off x="1501560" y="1956960"/>
              <a:ext cx="481680" cy="196200"/>
            </a:xfrm>
            <a:custGeom>
              <a:avLst/>
              <a:gdLst>
                <a:gd name="textAreaLeft" fmla="*/ 0 w 481680"/>
                <a:gd name="textAreaRight" fmla="*/ 482040 w 48168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"/>
            <p:cNvSpPr/>
            <p:nvPr/>
          </p:nvSpPr>
          <p:spPr>
            <a:xfrm>
              <a:off x="1536840" y="2170440"/>
              <a:ext cx="411120" cy="740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7"/>
          <p:cNvSpPr/>
          <p:nvPr/>
        </p:nvSpPr>
        <p:spPr>
          <a:xfrm>
            <a:off x="3657600" y="3946680"/>
            <a:ext cx="2881440" cy="1764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man Old Style"/>
                <a:ea typeface="Arial"/>
              </a:rPr>
              <a:t>Une chaîne de croissance établissant complémentarités et échanges avec les autres espaces du territoi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8"/>
          <p:cNvGrpSpPr/>
          <p:nvPr/>
        </p:nvGrpSpPr>
        <p:grpSpPr>
          <a:xfrm>
            <a:off x="4389480" y="1816200"/>
            <a:ext cx="411120" cy="2023200"/>
            <a:chOff x="4389480" y="1816200"/>
            <a:chExt cx="411120" cy="2023200"/>
          </a:xfrm>
        </p:grpSpPr>
        <p:sp>
          <p:nvSpPr>
            <p:cNvPr id="322" name="AutoShape 9"/>
            <p:cNvSpPr/>
            <p:nvPr/>
          </p:nvSpPr>
          <p:spPr>
            <a:xfrm rot="5400000">
              <a:off x="4150800" y="2162520"/>
              <a:ext cx="888840" cy="19620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0"/>
            <p:cNvSpPr/>
            <p:nvPr/>
          </p:nvSpPr>
          <p:spPr>
            <a:xfrm>
              <a:off x="4389480" y="2473200"/>
              <a:ext cx="411120" cy="13662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1"/>
          <p:cNvGrpSpPr/>
          <p:nvPr/>
        </p:nvGrpSpPr>
        <p:grpSpPr>
          <a:xfrm>
            <a:off x="1646280" y="1176120"/>
            <a:ext cx="6170400" cy="638280"/>
            <a:chOff x="1646280" y="1176120"/>
            <a:chExt cx="6170400" cy="638280"/>
          </a:xfrm>
        </p:grpSpPr>
        <p:sp>
          <p:nvSpPr>
            <p:cNvPr id="325" name="Line 12"/>
            <p:cNvSpPr/>
            <p:nvPr/>
          </p:nvSpPr>
          <p:spPr>
            <a:xfrm>
              <a:off x="1646280" y="1814400"/>
              <a:ext cx="6170400" cy="0"/>
            </a:xfrm>
            <a:prstGeom prst="line">
              <a:avLst/>
            </a:prstGeom>
            <a:ln w="127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13"/>
            <p:cNvSpPr/>
            <p:nvPr/>
          </p:nvSpPr>
          <p:spPr>
            <a:xfrm rot="16200000">
              <a:off x="4320000" y="1381320"/>
              <a:ext cx="593640" cy="18324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14"/>
          <p:cNvSpPr/>
          <p:nvPr/>
        </p:nvSpPr>
        <p:spPr>
          <a:xfrm>
            <a:off x="6877080" y="3624120"/>
            <a:ext cx="2220840" cy="11541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Bookman Old Style"/>
                <a:ea typeface="Arial"/>
              </a:rPr>
              <a:t>d’intégration au niveau spatial par l’entraînement territorial et la dif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5"/>
          <p:cNvGrpSpPr/>
          <p:nvPr/>
        </p:nvGrpSpPr>
        <p:grpSpPr>
          <a:xfrm>
            <a:off x="7512120" y="1847880"/>
            <a:ext cx="411120" cy="1096560"/>
            <a:chOff x="7512120" y="1847880"/>
            <a:chExt cx="411120" cy="1096560"/>
          </a:xfrm>
        </p:grpSpPr>
        <p:sp>
          <p:nvSpPr>
            <p:cNvPr id="329" name="AutoShape 16"/>
            <p:cNvSpPr/>
            <p:nvPr/>
          </p:nvSpPr>
          <p:spPr>
            <a:xfrm rot="5400000">
              <a:off x="7476840" y="1990440"/>
              <a:ext cx="481680" cy="196200"/>
            </a:xfrm>
            <a:custGeom>
              <a:avLst/>
              <a:gdLst>
                <a:gd name="textAreaLeft" fmla="*/ 0 w 481680"/>
                <a:gd name="textAreaRight" fmla="*/ 482040 w 48168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7"/>
            <p:cNvSpPr/>
            <p:nvPr/>
          </p:nvSpPr>
          <p:spPr>
            <a:xfrm>
              <a:off x="7512120" y="2203920"/>
              <a:ext cx="411120" cy="740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WordArt 18"/>
          <p:cNvSpPr txBox="1"/>
          <p:nvPr/>
        </p:nvSpPr>
        <p:spPr>
          <a:xfrm>
            <a:off x="4160880" y="777960"/>
            <a:ext cx="114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est :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32" name="WordArt 19"/>
          <p:cNvSpPr txBox="1"/>
          <p:nvPr/>
        </p:nvSpPr>
        <p:spPr>
          <a:xfrm>
            <a:off x="457200" y="3017880"/>
            <a:ext cx="2239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Un espace constant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33" name="WordArt 20"/>
          <p:cNvSpPr txBox="1"/>
          <p:nvPr/>
        </p:nvSpPr>
        <p:spPr>
          <a:xfrm>
            <a:off x="6858000" y="3110040"/>
            <a:ext cx="21495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Un espace levier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checker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0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500"/>
                            </p:stCondLst>
                            <p:childTnLst>
                              <p:par>
                                <p:cTn id="6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500"/>
                            </p:stCondLst>
                            <p:childTnLst>
                              <p:par>
                                <p:cTn id="6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5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8000"/>
                            </p:stCondLst>
                            <p:childTnLst>
                              <p:par>
                                <p:cTn id="6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9000"/>
                            </p:stCondLst>
                            <p:childTnLst>
                              <p:par>
                                <p:cTn id="6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Reg_Prog"/>
          <p:cNvPicPr/>
          <p:nvPr/>
        </p:nvPicPr>
        <p:blipFill>
          <a:blip r:embed="rId1"/>
          <a:stretch/>
        </p:blipFill>
        <p:spPr>
          <a:xfrm>
            <a:off x="197964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50560" y="6857640"/>
            <a:ext cx="8893080" cy="80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82440" y="-603360"/>
            <a:ext cx="9864720" cy="864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Bookman Old Style"/>
              </a:rPr>
              <a:t>Les Régions –Programme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 u="sng">
                <a:solidFill>
                  <a:srgbClr val="ff0000"/>
                </a:solidFill>
                <a:uFillTx/>
                <a:latin typeface="Bookman Old Style"/>
              </a:rPr>
              <a:t>Instituées par la loi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  Elles sont au nombre de neuf (</a:t>
            </a:r>
            <a:r>
              <a:rPr b="1" lang="en-US" sz="3600" spc="-1" strike="noStrike">
                <a:solidFill>
                  <a:srgbClr val="ff0000"/>
                </a:solidFill>
                <a:latin typeface="Bookman Old Style"/>
              </a:rPr>
              <a:t>09) 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et sont constituées à partir de regroupements de wilayas limitrophes et présentant des caractéristiques physiques et des vocations de développement similaires ou complémentaires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.</a:t>
            </a:r>
            <a:br>
              <a:rPr sz="3600"/>
            </a:br>
            <a:br>
              <a:rPr sz="47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5A04-BE5C-4632-BFFB-140871AFF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Rectangle 2"/>
          <p:cNvGrpSpPr/>
          <p:nvPr/>
        </p:nvGrpSpPr>
        <p:grpSpPr>
          <a:xfrm>
            <a:off x="-6480" y="469800"/>
            <a:ext cx="8796600" cy="835200"/>
            <a:chOff x="-6480" y="469800"/>
            <a:chExt cx="8796600" cy="835200"/>
          </a:xfrm>
        </p:grpSpPr>
        <p:pic>
          <p:nvPicPr>
            <p:cNvPr id="340" name="Rectangle 2" descr=""/>
            <p:cNvPicPr/>
            <p:nvPr/>
          </p:nvPicPr>
          <p:blipFill>
            <a:blip r:embed="rId1"/>
            <a:stretch/>
          </p:blipFill>
          <p:spPr>
            <a:xfrm>
              <a:off x="-6480" y="469800"/>
              <a:ext cx="879660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0" y="476280"/>
              <a:ext cx="8785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</a:rPr>
                <a:t>Ni un nouveau découpage administratif, Ni de nouvelles institution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3"/>
          <p:cNvSpPr/>
          <p:nvPr/>
        </p:nvSpPr>
        <p:spPr>
          <a:xfrm>
            <a:off x="274680" y="174600"/>
            <a:ext cx="8548560" cy="3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Bookman Old Style"/>
                <a:ea typeface="Arial"/>
              </a:rPr>
              <a:t>Les Régions-Programme ne son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Text Box 4"/>
          <p:cNvGrpSpPr/>
          <p:nvPr/>
        </p:nvGrpSpPr>
        <p:grpSpPr>
          <a:xfrm>
            <a:off x="-6480" y="3492360"/>
            <a:ext cx="8882280" cy="635040"/>
            <a:chOff x="-6480" y="3492360"/>
            <a:chExt cx="8882280" cy="635040"/>
          </a:xfrm>
        </p:grpSpPr>
        <p:pic>
          <p:nvPicPr>
            <p:cNvPr id="344" name="Text Box 4" descr=""/>
            <p:cNvPicPr/>
            <p:nvPr/>
          </p:nvPicPr>
          <p:blipFill>
            <a:blip r:embed="rId3"/>
            <a:stretch/>
          </p:blipFill>
          <p:spPr>
            <a:xfrm>
              <a:off x="-6480" y="3492360"/>
              <a:ext cx="888228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0" y="3500280"/>
              <a:ext cx="8872560" cy="61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Elles constituent un cadre d’études et de planification  </a:t>
              </a:r>
              <a:br>
                <a:rPr sz="2300"/>
              </a:br>
              <a:r>
                <a:rPr b="1" lang="en-US" sz="2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de projets à partir de problématiques communes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Rectangle 5"/>
          <p:cNvGrpSpPr/>
          <p:nvPr/>
        </p:nvGrpSpPr>
        <p:grpSpPr>
          <a:xfrm>
            <a:off x="36360" y="4657680"/>
            <a:ext cx="9114120" cy="1693800"/>
            <a:chOff x="36360" y="4657680"/>
            <a:chExt cx="9114120" cy="1693800"/>
          </a:xfrm>
        </p:grpSpPr>
        <p:pic>
          <p:nvPicPr>
            <p:cNvPr id="347" name="Rectangle 5" descr=""/>
            <p:cNvPicPr/>
            <p:nvPr/>
          </p:nvPicPr>
          <p:blipFill>
            <a:blip r:embed="rId4"/>
            <a:stretch/>
          </p:blipFill>
          <p:spPr>
            <a:xfrm>
              <a:off x="36360" y="4657680"/>
              <a:ext cx="911412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42840" y="4665600"/>
              <a:ext cx="910116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noAutofit/>
            </a:bodyPr>
            <a:p>
              <a:pPr marL="343080" indent="-343080" algn="just">
                <a:lnSpc>
                  <a:spcPct val="100000"/>
                </a:lnSpc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</a:rPr>
                <a:t>Un cadre territorial dédié à la construction d’un projet de développement viable et partagé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</a:rPr>
                <a:t>Une assise territoriale bâtie sur le critère de polarisation par les vill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Rectangle 6"/>
          <p:cNvGrpSpPr/>
          <p:nvPr/>
        </p:nvGrpSpPr>
        <p:grpSpPr>
          <a:xfrm>
            <a:off x="-6480" y="1620720"/>
            <a:ext cx="8948880" cy="1524240"/>
            <a:chOff x="-6480" y="1620720"/>
            <a:chExt cx="8948880" cy="1524240"/>
          </a:xfrm>
        </p:grpSpPr>
        <p:pic>
          <p:nvPicPr>
            <p:cNvPr id="350" name="Rectangle 6" descr=""/>
            <p:cNvPicPr/>
            <p:nvPr/>
          </p:nvPicPr>
          <p:blipFill>
            <a:blip r:embed="rId7"/>
            <a:stretch/>
          </p:blipFill>
          <p:spPr>
            <a:xfrm>
              <a:off x="-6480" y="1620720"/>
              <a:ext cx="894888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0" y="1628640"/>
              <a:ext cx="893592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noAutofit/>
            </a:bodyPr>
            <a:p>
              <a:pPr marL="343080" indent="-343080" algn="just">
                <a:lnSpc>
                  <a:spcPct val="100000"/>
                </a:lnSpc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Bookman Old Style"/>
                </a:rPr>
                <a:t>Il ne s’agit pas d’un regroupement d’ordre institutionnel mais d’une</a:t>
              </a:r>
              <a:r>
                <a:rPr b="1" lang="fr-FR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fr-FR" sz="2000" spc="-1" strike="noStrike">
                  <a:solidFill>
                    <a:srgbClr val="a50021"/>
                  </a:solidFill>
                  <a:latin typeface="Bookman Old Style"/>
                </a:rPr>
                <a:t>configuration géographique du territoire</a:t>
              </a:r>
              <a:r>
                <a:rPr b="1" lang="fr-FR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fr-FR" sz="2000" spc="-1" strike="noStrike">
                  <a:solidFill>
                    <a:srgbClr val="000099"/>
                  </a:solidFill>
                  <a:latin typeface="Bookman Old Style"/>
                </a:rPr>
                <a:t>pour  déboucher</a:t>
              </a:r>
              <a:r>
                <a:rPr b="1" lang="fr-FR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fr-FR" sz="2000" spc="-1" strike="noStrike">
                  <a:solidFill>
                    <a:srgbClr val="000099"/>
                  </a:solidFill>
                  <a:latin typeface="Bookman Old Style"/>
                </a:rPr>
                <a:t>sur une carte de découpage en Régions-Programme en tant</a:t>
              </a:r>
              <a:r>
                <a:rPr b="1" lang="fr-FR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fr-FR" sz="2000" spc="-1" strike="noStrike">
                  <a:solidFill>
                    <a:srgbClr val="000099"/>
                  </a:solidFill>
                  <a:latin typeface="Bookman Old Style"/>
                </a:rPr>
                <a:t>qu’</a:t>
              </a:r>
              <a:r>
                <a:rPr b="1" lang="fr-FR" sz="2000" spc="-1" strike="noStrike">
                  <a:solidFill>
                    <a:srgbClr val="a50021"/>
                  </a:solidFill>
                  <a:latin typeface="Bookman Old Style"/>
                </a:rPr>
                <a:t>espace</a:t>
              </a:r>
              <a:r>
                <a:rPr b="1" lang="fr-FR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fr-FR" sz="2000" spc="-1" strike="noStrike">
                  <a:solidFill>
                    <a:srgbClr val="000099"/>
                  </a:solidFill>
                  <a:latin typeface="Bookman Old Style"/>
                </a:rPr>
                <a:t>de concertation, de projets et de programmes communs à plusieurs wilaya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6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4000"/>
                            </p:stCondLst>
                            <p:childTnLst>
                              <p:par>
                                <p:cTn id="7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Bookman Old Style"/>
              </a:rPr>
              <a:t>la Région-Programme Nord-Es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constituée par les wilayas : Annaba, El Taref, Constantine, Skikda, Guelma, Souk Ahras, Jijel, Mila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Bookman Old Style"/>
              </a:rPr>
              <a:t>la Région-Programme Nord-Centre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constituée par les wilayas : Alger, Boumerdès, Tipaza, Blida, Ain Defla, Chlef, Médéa, Bouira, Béjaia, Tizi Ouz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Bookman Old Style"/>
              </a:rPr>
              <a:t>la Région-Programme Nord-Oues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constituée par les wilayas : Oran, Mostaganem, Ain Témouchent, Mascara, Sidi Bel Abbès,Tlemcen, Relizane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Bookman Old Style"/>
              </a:rPr>
              <a:t>la Région-Programme Hauts-Plateaux-Es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constituée par les wilayas : Tébessa, Oum El Bouaghi, Khenchela, Batna, Sétif, Bordj Bou Arrérid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Bookman Old Style"/>
              </a:rPr>
              <a:t>la Région-Programme Hauts Plateaux-Cent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constituée par les wilayas : Djelfa, M’Sila, Laghou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Bookman Old Style"/>
              </a:rPr>
              <a:t>la Région-Programme Hauts Plateaux-Oues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constituée par les wilayas : Tiaret, Tissemsilt, Saida, Naama, El Bayad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2054160"/>
            <a:ext cx="80773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Bookman Old Style"/>
              </a:rPr>
              <a:t>Instruments d’Aménagement et de Développement Durable du Territoire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le Schéma National d‘Aménagement du Territoire (SN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les Schémas Régionaux d‘Aménagement du Territoire (SRA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les Plans d‘Aménagement du Territoire de Wilaya (PA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les Schémas Directeurs d‘Aménagement d‘Aires Métropolitaines (SDA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le Schéma Directeur d‘Aménagement du Littoral (SD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le Schéma Directeur de Protection des Terres et de Lutte contre la Déser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Bookman Old Style"/>
              </a:rPr>
              <a:t>la Région-Programme Sud-Es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constituée par les wilayas : Biskra, Ouargla,  El Oued, Ghardaïa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Bookman Old Style"/>
              </a:rPr>
              <a:t>la Région-Programme  Sud-Oues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constituée par les wilayas : Adrar, Bechar, Tindouf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Bookman Old Style"/>
              </a:rPr>
              <a:t>la Région-Programme Grand-Sud (Hoggar – Tassili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constituée par les wilayas : Illizi, Tamanr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A71D-8B51-4AF5-BDB5-74A345EA6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1050840" y="411120"/>
            <a:ext cx="71326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CarteRegions"/>
          <p:cNvPicPr/>
          <p:nvPr/>
        </p:nvPicPr>
        <p:blipFill>
          <a:blip r:embed="rId1"/>
          <a:srcRect l="0" t="2590" r="0" b="1933"/>
          <a:stretch/>
        </p:blipFill>
        <p:spPr>
          <a:xfrm>
            <a:off x="1403280" y="863640"/>
            <a:ext cx="6193080" cy="599436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4"/>
          <p:cNvSpPr/>
          <p:nvPr/>
        </p:nvSpPr>
        <p:spPr>
          <a:xfrm>
            <a:off x="1279440" y="6446880"/>
            <a:ext cx="9082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d4d4d"/>
                </a:solidFill>
                <a:latin typeface="Times New Roman"/>
                <a:ea typeface="바탕"/>
              </a:rPr>
              <a:t>Grand Su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0" y="-46080"/>
            <a:ext cx="91440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Bookman Old Style"/>
                <a:ea typeface="Arial"/>
              </a:rPr>
              <a:t>Les 9 Régions-Programme actuelles </a:t>
            </a:r>
            <a:br>
              <a:rPr sz="2800"/>
            </a:br>
            <a:r>
              <a:rPr b="1" lang="fr-FR" sz="2800" spc="-1" strike="noStrike">
                <a:solidFill>
                  <a:srgbClr val="990000"/>
                </a:solidFill>
                <a:latin typeface="Bookman Old Style"/>
                <a:ea typeface="Arial"/>
              </a:rPr>
              <a:t>définies par la l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Bookman Old Style"/>
              </a:rPr>
              <a:t>Pour chaque Région-Programme</a:t>
            </a:r>
            <a:r>
              <a:rPr b="1" lang="fr-FR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90000"/>
                </a:solidFill>
                <a:latin typeface="Bookman Old Style"/>
              </a:rPr>
              <a:t>un Schéma Régional d’Aménagement du Territoire (SRAT)</a:t>
            </a:r>
            <a:r>
              <a:rPr b="1" lang="fr-FR" sz="3600" spc="-1" strike="noStrike">
                <a:solidFill>
                  <a:srgbClr val="99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Bookman Old Style"/>
              </a:rPr>
              <a:t>a été institué</a:t>
            </a:r>
            <a:r>
              <a:rPr b="1" lang="fr-FR" sz="36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Bookman Old Style"/>
              </a:rPr>
              <a:t>Le SRAT établit 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es atouts, vocations principales et vulnérabilités spécifiques de l'espace considéré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es actions de dynamisation de l'économie régionale, par le soutien au développement des activités et de l'emploi les projets économiques porteurs d'industrialisation et d'emploi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es prescriptions d'organisation de l'armature urbaine et le développement harmonieux des villes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es actions et traitements spécifiques que nécessitent les espaces écologiquement ou économiquement fragiles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a programmation de la réalisation des grandes infrastructures et des services collectifs d'intérêt national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a programmation de la réalisation des grandes infrastructures et des services collectifs d'intérêt national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es actions de préservation et de valorisation des patrimoines culturel, historique et archéolog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s </a:t>
            </a: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18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schémas directeurs des grandes infrastructures et des services collectifs d'intérêt nat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s espaces naturels des aires protégé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 l'eau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u transp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* les routes et autorou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* le chemin de f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* les aéropor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* les 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 développement agrico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 développement de la pêche et des produits halieutiqu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s réseaux d'énerg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s services et infrastructures de communication, de télécommunication et d'inform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s établissements universitaires et des structures de recherch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 la form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 la santé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'aménagement touristiq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s biens et des services et grands équipements culturel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s sports et grands équipements sportif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s zones industrielles et d'activité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s zones archéologiques et histor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'</a:t>
            </a:r>
            <a:r>
              <a:rPr b="1" lang="en-US" sz="2400" spc="-1" strike="noStrike">
                <a:solidFill>
                  <a:srgbClr val="990000"/>
                </a:solidFill>
                <a:latin typeface="Bookman Old Style"/>
              </a:rPr>
              <a:t>élaboration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et la</a:t>
            </a:r>
            <a:r>
              <a:rPr b="1" lang="en-US" sz="2400" spc="-1" strike="noStrike">
                <a:solidFill>
                  <a:srgbClr val="990000"/>
                </a:solidFill>
                <a:latin typeface="Bookman Old Style"/>
              </a:rPr>
              <a:t> révision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des schémas directeurs sectoriels des grandes infrastructures et services collectifs d'intérêt national, font l'objet d'une </a:t>
            </a:r>
            <a:r>
              <a:rPr b="1" lang="en-US" sz="2400" spc="-1" strike="noStrike">
                <a:solidFill>
                  <a:srgbClr val="990000"/>
                </a:solidFill>
                <a:latin typeface="Bookman Old Style"/>
              </a:rPr>
              <a:t>coordination intersectorielle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au titre de l'aménagement du territo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man Old Style"/>
              </a:rPr>
              <a:t>Les schémas directeurs sont approuvés par voie réglement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89042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Le Schéma National d‘Aménagement du Territoire (SNAT 20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2781000"/>
            <a:ext cx="9144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Traduit et développe les orientations stratégiques fondamentales d'aménagement et de développement durable du territoire nation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Constitue le cadre de référence pour l'action des pouvoirs publ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Espace réservé de la dat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4771-BE69-4DB0-A0E2-F7179FD6AD1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D780-2BF8-457B-9FFF-B586D9B38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0360" y="1050840"/>
            <a:ext cx="8917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 rtl="1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2268360"/>
                <a:tab algn="l" pos="4537080"/>
                <a:tab algn="l" pos="6805440"/>
                <a:tab algn="l" pos="9074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C’est à travers le </a:t>
            </a: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SNAT 2025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, que l’État définit son </a:t>
            </a: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grand projet territorial visant à restaurer l’équité, l’équilibre et l’attractivité</a:t>
            </a:r>
            <a:r>
              <a:rPr b="1" lang="en-US" sz="2800" spc="-1" strike="noStrike">
                <a:solidFill>
                  <a:srgbClr val="a50021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du territoire dans toutes ses composantes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92160" y="3611520"/>
            <a:ext cx="882324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Il intègre dans un contexte de </a:t>
            </a: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globalisation et de compétitivité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au niveau mondial,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l’insertion et le rayonnement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de l’Algérie</a:t>
            </a:r>
            <a:r>
              <a:rPr b="1" lang="en-US" sz="2800" spc="-1" strike="noStrike">
                <a:solidFill>
                  <a:srgbClr val="0000cc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dans ses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espaces naturels d’appartenance et d’évolution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Bookman Old Style"/>
              </a:rPr>
              <a:t>(</a:t>
            </a:r>
            <a:r>
              <a:rPr b="1" i="1" lang="en-US" sz="2800" spc="-1" strike="noStrike">
                <a:solidFill>
                  <a:srgbClr val="000066"/>
                </a:solidFill>
                <a:latin typeface="Bookman Old Style"/>
              </a:rPr>
              <a:t>Maghreb,</a:t>
            </a:r>
            <a:r>
              <a:rPr b="1" lang="en-US" sz="28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Bookman Old Style"/>
              </a:rPr>
              <a:t>Euro- Méditerranée,</a:t>
            </a:r>
            <a:r>
              <a:rPr b="1" lang="en-US" sz="28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Bookman Old Style"/>
              </a:rPr>
              <a:t>Afrique</a:t>
            </a:r>
            <a:r>
              <a:rPr b="1" lang="en-US" sz="2800" spc="-1" strike="noStrike">
                <a:solidFill>
                  <a:srgbClr val="000066"/>
                </a:solidFill>
                <a:latin typeface="Bookman Old Style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8:55:48Z</dcterms:created>
  <dc:creator>BERADI AHMED</dc:creator>
  <dc:description/>
  <dc:language>en-US</dc:language>
  <cp:lastModifiedBy>abdelkader</cp:lastModifiedBy>
  <dcterms:modified xsi:type="dcterms:W3CDTF">2008-07-02T19:51:17Z</dcterms:modified>
  <cp:revision>3</cp:revision>
  <dc:subject/>
  <dc:title> </dc:title>
</cp:coreProperties>
</file>