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99E5-BFF6-47BC-8E7D-EE737147A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7134-37CC-4CFF-8DE7-E6028989A2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DA7-C2B2-4A71-9F96-7167B87E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549-EC19-4634-B25C-DF219E74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E319-EC22-416C-8BCF-9E9C7FDF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67E3-98B0-4503-8634-BC0F9123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FB20-5347-4508-AF9D-6CF46E00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31F1-3893-48A9-A5C4-ADCEE868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6A45-2C33-4EEA-8A53-41F16AC6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A50D-92AE-4476-9D13-FFD662DD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B7FA-2E08-4020-905E-64391000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EA9F-D948-4DE0-BC8A-4130ACD9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8FB9-2048-4E4D-AEBB-0AB2B8F3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E8F-D80C-47FD-9664-C65B3381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B96A-BE2B-472D-AD48-2E898425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600A-B4CB-46C5-953B-D61AFC5D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591D-4253-42D9-9604-FDC193DF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9BFC-4A40-4F0F-9353-D8AB7FE2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259D-B04A-4430-AB5B-E8553657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81F0-8A55-467A-A20B-0796363F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A2C-A4AF-45A3-AA10-DE674402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0834-83C3-4DE6-9CC2-FEE0992E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36A-7FB1-4C87-865C-BC23B24F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3E8-5BC9-4757-A4CC-4C86D062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7C87-3438-435C-B2CE-F44DABCA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62BD-1358-4053-B400-060FC8F7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E622-291C-44F7-ABA2-4F1014576F3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RY WIDYASTON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59AA-24E8-4EEB-AAE7-F96A55DFDE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41E6-FE9C-47A4-84A0-1A480F2A22FA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ERRY WIDYASTON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18A8-E642-44C2-ADAB-0A6995909B6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3399ff"/>
                </a:solidFill>
                <a:latin typeface="Impact"/>
              </a:rPr>
              <a:t>PENYELENGGARAAN</a:t>
            </a:r>
            <a:r>
              <a:rPr b="1" lang="en-US" sz="6000" spc="-1" strike="noStrike">
                <a:solidFill>
                  <a:srgbClr val="3399ff"/>
                </a:solidFill>
                <a:latin typeface="Impact"/>
              </a:rPr>
              <a:t> </a:t>
            </a:r>
            <a:br>
              <a:rPr sz="6000"/>
            </a:br>
            <a:r>
              <a:rPr b="0" lang="en-US" sz="6000" spc="-1" strike="noStrike">
                <a:solidFill>
                  <a:srgbClr val="3399ff"/>
                </a:solidFill>
                <a:latin typeface="Impact"/>
              </a:rPr>
              <a:t>SISTEM KREDIT SEMESTER</a:t>
            </a:r>
            <a:br>
              <a:rPr sz="6000"/>
            </a:br>
            <a:br>
              <a:rPr sz="4000"/>
            </a:br>
            <a:r>
              <a:rPr b="0" lang="id-ID" sz="4000" spc="-1" strike="noStrike">
                <a:solidFill>
                  <a:srgbClr val="00ffff"/>
                </a:solidFill>
                <a:latin typeface="Arial Rounded MT Bold"/>
              </a:rPr>
              <a:t>(WORKSHOP  RSBI)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id-ID" sz="2800" spc="-1" strike="noStrike">
                <a:solidFill>
                  <a:srgbClr val="ffff00"/>
                </a:solidFill>
                <a:latin typeface="Comic Sans MS"/>
              </a:rPr>
              <a:t>SMA NEGERI 3 BANDUNG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PEMBINA UTAMA MADYA, GOL IV/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KEPALA BIDANG KURIKULUM PENDIDIKAN MENENGAH</a:t>
            </a:r>
            <a:br>
              <a:rPr sz="2000"/>
            </a:br>
            <a:r>
              <a:rPr b="0" lang="en-US" sz="2800" spc="-1" strike="noStrike">
                <a:solidFill>
                  <a:srgbClr val="3399ff"/>
                </a:solidFill>
                <a:latin typeface="Arial Rounded MT Bold"/>
              </a:rPr>
              <a:t>PUSAT KURIKULUM BALITBANG KEMENDIKNAS</a:t>
            </a:r>
            <a:br>
              <a:rPr sz="2800"/>
            </a:br>
            <a:r>
              <a:rPr b="0" lang="en-US" sz="2800" spc="-1" strike="noStrike">
                <a:solidFill>
                  <a:srgbClr val="3399ff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03C2-0257-4E6D-8781-42B5BE2F1AF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ff"/>
                </a:solidFill>
                <a:latin typeface="Impact"/>
              </a:rPr>
              <a:t>SISTEM KREDIT SEMESTER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ffff"/>
                </a:solidFill>
                <a:latin typeface="Comic Sans MS"/>
              </a:rPr>
              <a:t>ADALAH SISTEM PENYELENGGARAAN PROGRAM PENDIDIKAN YG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ESERTA DIDIKNYA MENENTUKAN SENDIRI: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(1)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ff00"/>
                </a:solidFill>
                <a:latin typeface="Comic Sans MS"/>
              </a:rPr>
              <a:t>BEBAN BELAJAR </a:t>
            </a:r>
            <a:r>
              <a:rPr b="1" lang="en-US" sz="3600" spc="-1" strike="noStrike">
                <a:solidFill>
                  <a:srgbClr val="66ffff"/>
                </a:solidFill>
                <a:latin typeface="Comic Sans MS"/>
              </a:rPr>
              <a:t>DAN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(2)</a:t>
            </a:r>
            <a:r>
              <a:rPr b="1" lang="en-US" sz="36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ff00"/>
                </a:solidFill>
                <a:latin typeface="Comic Sans MS"/>
              </a:rPr>
              <a:t>MATA PELAJARAN </a:t>
            </a:r>
            <a:r>
              <a:rPr b="1" lang="en-US" sz="3600" spc="-1" strike="noStrike">
                <a:solidFill>
                  <a:srgbClr val="66ffff"/>
                </a:solidFill>
                <a:latin typeface="Comic Sans MS"/>
              </a:rPr>
              <a:t>YG DIIKUTI SETIAP SEMESTER PADA SATUAN PENDIDIK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1" lang="id-ID" sz="3600" spc="-1" strike="noStrike">
                <a:solidFill>
                  <a:srgbClr val="ffffff"/>
                </a:solidFill>
                <a:latin typeface="Agency FB"/>
              </a:rPr>
              <a:t>WALI</a:t>
            </a:r>
            <a:r>
              <a:rPr b="1" lang="en-US" sz="3600" spc="-1" strike="noStrike">
                <a:solidFill>
                  <a:srgbClr val="ffffff"/>
                </a:solidFill>
                <a:latin typeface="Agency FB"/>
              </a:rPr>
              <a:t> AKADEMI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ight Arrow 7"/>
          <p:cNvSpPr/>
          <p:nvPr/>
        </p:nvSpPr>
        <p:spPr>
          <a:xfrm>
            <a:off x="914400" y="5562720"/>
            <a:ext cx="4572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C244-075E-471F-9CFF-FA37BE68682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ff"/>
                </a:solidFill>
                <a:latin typeface="Impact"/>
              </a:rPr>
              <a:t>TUJUAN PENERAPAN SK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MEMBERI KESEMPATAN KEPADA PESERTA DIDIK UNTUK MENYELESAIKAN STUDI </a:t>
            </a:r>
            <a:r>
              <a:rPr b="0" lang="en-US" sz="4000" spc="-1" strike="noStrike">
                <a:solidFill>
                  <a:srgbClr val="ffff00"/>
                </a:solidFill>
                <a:latin typeface="Impact"/>
              </a:rPr>
              <a:t>SESUAI DG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-74304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Impact"/>
              </a:rPr>
              <a:t>KEMAMPUAN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-74304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Impact"/>
              </a:rPr>
              <a:t>BAKAT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-74304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Impact"/>
              </a:rPr>
              <a:t>MINAT, </a:t>
            </a:r>
            <a:r>
              <a:rPr b="1" lang="en-US" sz="4000" spc="-1" strike="noStrike">
                <a:solidFill>
                  <a:srgbClr val="00ff00"/>
                </a:solidFill>
                <a:latin typeface="Comic Sans MS"/>
              </a:rPr>
              <a:t>D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-74304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Impact"/>
              </a:rPr>
              <a:t>KECEPATAN BELAJARNYA</a:t>
            </a:r>
            <a:r>
              <a:rPr b="0" lang="en-US" sz="4000" spc="-1" strike="noStrike">
                <a:solidFill>
                  <a:srgbClr val="ffff00"/>
                </a:solidFill>
                <a:latin typeface="Impact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Impact"/>
              </a:rPr>
              <a:t>PROGRAM PENDIDIKAN SESUAI DG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Impact"/>
              </a:rPr>
              <a:t>KEMAMPUAN, BAKAT, &amp; MINAT SISWA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057400"/>
            <a:ext cx="78487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Arial Rounded MT Bold"/>
              </a:rPr>
              <a:t>IP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Arial Rounded MT Bold"/>
              </a:rPr>
              <a:t>I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Arial Rounded MT Bold"/>
              </a:rPr>
              <a:t>BAHAS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Arial Rounded MT Bold"/>
              </a:rPr>
              <a:t>KEAGAMA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3C07-E77F-42B2-B585-43D48C099EB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Chevron 10"/>
          <p:cNvSpPr/>
          <p:nvPr/>
        </p:nvSpPr>
        <p:spPr>
          <a:xfrm>
            <a:off x="4419720" y="2286000"/>
            <a:ext cx="380880" cy="2438280"/>
          </a:xfrm>
          <a:custGeom>
            <a:avLst/>
            <a:gdLst>
              <a:gd name="textAreaLeft" fmla="*/ 0 w 380880"/>
              <a:gd name="textAreaRight" fmla="*/ 381240 w 38088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4952880" y="236232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ESERTA DIDIK DAPAT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ENENTUKAN SENDIRI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(1)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BEBAN BELAJAR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AN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(2)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MATA PELAJARAN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YG DIIKUTI SETIAP SEME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Impact"/>
              </a:rPr>
              <a:t>PROGRAM PENDIDIKAN SESUAI DG KECEPATAN BELAJAR SISW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SISWA DAPAT MENYELESAIKAN STUDI DI SMA, SELAMA </a:t>
            </a:r>
            <a:r>
              <a:rPr b="0" lang="en-US" sz="3200" spc="-1" strike="noStrike">
                <a:solidFill>
                  <a:srgbClr val="ff0000"/>
                </a:solidFill>
                <a:latin typeface="Showcard Gothic"/>
              </a:rPr>
              <a:t>KURANG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 ATAU </a:t>
            </a:r>
            <a:r>
              <a:rPr b="0" lang="en-US" sz="3200" spc="-1" strike="noStrike">
                <a:solidFill>
                  <a:srgbClr val="00ff00"/>
                </a:solidFill>
                <a:latin typeface="Showcard Gothic"/>
              </a:rPr>
              <a:t>LEBIH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 DARI </a:t>
            </a:r>
            <a:r>
              <a:rPr b="0" lang="en-US" sz="3200" spc="-1" strike="noStrike">
                <a:solidFill>
                  <a:srgbClr val="ffffff"/>
                </a:solidFill>
                <a:latin typeface="Showcard Gothic"/>
              </a:rPr>
              <a:t>3 (TIGA) TAH</a:t>
            </a:r>
            <a:r>
              <a:rPr b="0" lang="id-ID" sz="3200" spc="-1" strike="noStrike">
                <a:solidFill>
                  <a:srgbClr val="ffffff"/>
                </a:solidFill>
                <a:latin typeface="Showcard Gothic"/>
              </a:rPr>
              <a:t>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8BA6-BE5E-4ECC-B975-EA4BBB1F2E5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Impact"/>
              </a:rPr>
              <a:t>PENETAPAN BEBAN BELAJAR 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Comic Sans MS"/>
              </a:rPr>
              <a:t>PADA SISTEM PAKET, BEBAN BELAJAR  MENGGUNAKAN JAM PEMBELAJARAN SETIAP MINGGU SETIAP SEMESTER DG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Comic Sans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ISTEM TATAP MUKA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(T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Showcard Gothic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 Rounded MT Bold"/>
              </a:rPr>
              <a:t>{@ 45  menit  }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Comic Sans MS"/>
              <a:buAutoNum type="arabi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ENUGASAN TERSTRUKTU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(TT);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&amp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Comic Sans MS"/>
              <a:buAutoNum type="arabi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KEGIATAN MANDIRI TIDAK TERSTRUKTU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(KM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TT + KM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US" sz="3600" spc="-1" strike="noStrike">
                <a:solidFill>
                  <a:srgbClr val="00ff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maks  60%  dari waktu  TM</a:t>
            </a:r>
            <a:r>
              <a:rPr b="0" lang="en-US" sz="3600" spc="-1" strike="noStrike">
                <a:solidFill>
                  <a:srgbClr val="00ff00"/>
                </a:solidFill>
                <a:latin typeface="Impact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Showcard Gothic"/>
              </a:rPr>
              <a:t>KONVERSI SISTEM PAKET KE SKS  PADA SM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1 JAM PELAJARAN DALAM SISTEM PAK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 1 TM+ 1 TT + 1 KM = TM + 60% (TM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 45’ + 60% (45’)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= 45 + 27 = 72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 Narrow"/>
              </a:rPr>
              <a:t>1 JAM PELAJARAN DALAM SK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ff00"/>
                </a:solidFill>
                <a:latin typeface="Arial Narrow"/>
              </a:rPr>
              <a:t>= 1 TM + 1 TT + 1 KM = 45’ + 45’ + 45’ = 135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JAD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ritannic Bold"/>
              </a:rPr>
              <a:t>1 jam sks = 1,88 jam sistem pak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1EB6-4508-4767-BE61-B71B6F90813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86D4-5A4C-43E3-8BE8-3BCA628F8B2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 Rounded MT Bold"/>
              </a:rPr>
              <a:t>BERDASAR KETENTUAN TSB, MK JUMLAH BEBAN BELAJAR SISTEM PAKET</a:t>
            </a: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 Rounded MT Bold"/>
              </a:rPr>
              <a:t>	</a:t>
            </a:r>
            <a:r>
              <a:rPr b="1" lang="en-US" sz="4400" spc="-1" strike="noStrike">
                <a:solidFill>
                  <a:srgbClr val="66ffff"/>
                </a:solidFill>
                <a:latin typeface="Arial Rounded MT Bold"/>
              </a:rPr>
              <a:t>di SMA: 114 - 1</a:t>
            </a:r>
            <a:r>
              <a:rPr b="1" lang="id-ID" sz="4400" spc="-1" strike="noStrike">
                <a:solidFill>
                  <a:srgbClr val="66ffff"/>
                </a:solidFill>
                <a:latin typeface="Arial Rounded MT Bold"/>
              </a:rPr>
              <a:t>26</a:t>
            </a:r>
            <a:r>
              <a:rPr b="1" lang="en-US" sz="4400" spc="-1" strike="noStrike">
                <a:solidFill>
                  <a:srgbClr val="66ffff"/>
                </a:solidFill>
                <a:latin typeface="Arial Rounded MT Bold"/>
              </a:rPr>
              <a:t> sk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 Rounded MT Bol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66ffff"/>
                </a:solidFill>
                <a:latin typeface="Comic Sans MS"/>
              </a:rPr>
              <a:t>	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905120" y="365760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Showcard Gothic"/>
              </a:rPr>
              <a:t>KOMPOSISI </a:t>
            </a:r>
            <a:br>
              <a:rPr sz="4000"/>
            </a:br>
            <a:r>
              <a:rPr b="0" lang="en-US" sz="4000" spc="-1" strike="noStrike">
                <a:solidFill>
                  <a:srgbClr val="3399ff"/>
                </a:solidFill>
                <a:latin typeface="Showcard Gothic"/>
              </a:rPr>
              <a:t>STRUKTUR KURIKULU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Impact"/>
              </a:rPr>
              <a:t>KOMPONEN KURIKULU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Rounded MT Bold"/>
              </a:rPr>
              <a:t>MATA PELAJARAN </a:t>
            </a:r>
            <a:r>
              <a:rPr b="0" lang="en-US" sz="3200" spc="-1" strike="noStrike">
                <a:solidFill>
                  <a:srgbClr val="00ff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Arial Rounded MT Bold"/>
              </a:rPr>
              <a:t>= 8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MUATAN LOKAL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= 1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Rounded MT Bold"/>
              </a:rPr>
              <a:t>PENGEMBANGAN DIRI</a:t>
            </a:r>
            <a:r>
              <a:rPr b="0" lang="en-US" sz="3200" spc="-1" strike="noStrike">
                <a:solidFill>
                  <a:srgbClr val="00ff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Arial Rounded MT Bold"/>
              </a:rPr>
              <a:t>= 1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BD4E-0D99-437B-891B-D6ADCE91A95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b2b2b2"/>
                </a:solidFill>
                <a:latin typeface="Arial"/>
              </a:rPr>
              <a:t>STRUKTUR KURIKULUM PAKET PROGRAM IPA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6320" y="914400"/>
          <a:ext cx="8991360" cy="6553080"/>
        </p:xfrm>
        <a:graphic>
          <a:graphicData uri="http://schemas.openxmlformats.org/drawingml/2006/table">
            <a:tbl>
              <a:tblPr/>
              <a:tblGrid>
                <a:gridCol w="2106360"/>
                <a:gridCol w="1170000"/>
                <a:gridCol w="868320"/>
                <a:gridCol w="982800"/>
                <a:gridCol w="984240"/>
                <a:gridCol w="912960"/>
                <a:gridCol w="912600"/>
                <a:gridCol w="1054080"/>
              </a:tblGrid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mpon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s 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t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s 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t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s X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t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s X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t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s X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t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s X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t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56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. Mata Pelajar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didikan Aga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d. Kewarganegara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hasa Indones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hasa Inggr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atemat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isik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im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iolog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ejara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Geograf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Ekonom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osiolog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eni Buday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jask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I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etr/Bahasa As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. Muatan Lok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gembangan Dir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*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*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*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*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*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*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*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35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0000"/>
                </a:solidFill>
                <a:latin typeface="Impact"/>
              </a:rPr>
              <a:t>KONVERSI  PAKET KE SKS IPA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8600" y="685800"/>
          <a:ext cx="8686800" cy="6902280"/>
        </p:xfrm>
        <a:graphic>
          <a:graphicData uri="http://schemas.openxmlformats.org/drawingml/2006/table">
            <a:tbl>
              <a:tblPr/>
              <a:tblGrid>
                <a:gridCol w="2664000"/>
                <a:gridCol w="1755720"/>
                <a:gridCol w="1350720"/>
                <a:gridCol w="1457280"/>
                <a:gridCol w="1459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KOMPON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BEBAN BELAJAR</a:t>
                      </a: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 PAK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BEBAN BELAJAR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S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MIN-MA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Jumlah sks yang ditetapk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506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A. MATA PELAJAR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Pend. Aga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Pend. Kewarganegara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Bahasa Indones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Bahasa Inggr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Matemat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Fis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Kim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Biolog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Sejara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Geograf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Ekonom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Sosiolog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Seni Buday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Penjas, Olahraga dan Kesehat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TI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Keterampilan/ Bhs. Asin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3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-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-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2-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2-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2-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0-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0-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0-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3-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-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-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-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-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-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-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B. MUATAN LOK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6-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C. PENGEMBANGAN DIR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12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6,4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6-7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2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123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110-1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b2b2b2"/>
                </a:solidFill>
                <a:latin typeface="Arial"/>
              </a:rPr>
              <a:t>DASAR HUKU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1828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1. Undang-Undang Nomor 20 Tahun 2003 tentang Sistem Pendidikan Nasional pada Pasal 1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ya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aturan Pemerintah Republik Indonesia Nomor19 Tahun 2005 tentang Standar Nasional Pendidikan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pada pasal 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3. Peraturan Menteri Pendidikan Nasional Nomor 22 Tahun 2006 tentang Standar Isi Untuk Satuan Pendidikan Dasar dan Menenga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4. Peraturan Menteri Pendidikan Nasional Nomor 23 Tahun 2006 tentang Standar Kompetisi Lulusan Untuk Satuan Pendidikan Dasar dan Menenga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aturan Ment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 Pendidikan Nasional Nomor 24 Tahun 2006 tentang Pelaksanaan Peraturan Mentri Pendidikan Nasional Nomor 22 tahun 2006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6. Peraturan Menteri No. 78 tahun 2009 tentang Penyelenggaraan Sekolah Bertaraf Internasional pada jenjang Pendidikan Dasar dan Menenga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349"/>
              </a:spcBef>
              <a:buClr>
                <a:srgbClr val="ffffcc"/>
              </a:buClr>
              <a:buSzPct val="7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ED36-8CDC-434B-9A17-8C8B1C5F100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id-ID" sz="1800" spc="-1" strike="noStrike">
                <a:solidFill>
                  <a:srgbClr val="b2b2b2"/>
                </a:solidFill>
                <a:latin typeface="Arial"/>
              </a:rPr>
              <a:t>MODEL STRUKTUR KURIKULUM SKS 4 Smt IPA</a:t>
            </a:r>
            <a:br>
              <a:rPr sz="1800"/>
            </a:b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66680" y="627120"/>
          <a:ext cx="7239240" cy="8364600"/>
        </p:xfrm>
        <a:graphic>
          <a:graphicData uri="http://schemas.openxmlformats.org/drawingml/2006/table">
            <a:tbl>
              <a:tblPr/>
              <a:tblGrid>
                <a:gridCol w="1809720"/>
                <a:gridCol w="1810080"/>
                <a:gridCol w="904680"/>
                <a:gridCol w="905040"/>
                <a:gridCol w="904680"/>
                <a:gridCol w="905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mpon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l sks yg Ditetapk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okasi Wakt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10199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ATA PELAJAR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mt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mt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mt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mt 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didikan Aga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d. Kewarganegara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hasa Indones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hasa Inggr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atematik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isik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im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iolog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ejara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Geograf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Ekonom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osiolog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eni Buday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jask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I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etr/Bahasa As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. Muatan Lok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C. Pengembangan Dir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*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*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*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</a:tbl>
          </a:graphicData>
        </a:graphic>
      </p:graphicFrame>
      <p:sp>
        <p:nvSpPr>
          <p:cNvPr id="16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AFF6-B045-4102-BB20-8FD4089591F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b2b2b2"/>
                </a:solidFill>
                <a:latin typeface="Arial"/>
              </a:rPr>
              <a:t>MODEL PEMBAGIAN MATA PELAJARAN PADA SEMESTER GASAL DAN GENAP PROGRAM IPA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-304920" y="1600200"/>
          <a:ext cx="9677520" cy="5908680"/>
        </p:xfrm>
        <a:graphic>
          <a:graphicData uri="http://schemas.openxmlformats.org/drawingml/2006/table">
            <a:tbl>
              <a:tblPr/>
              <a:tblGrid>
                <a:gridCol w="484200"/>
                <a:gridCol w="2741760"/>
                <a:gridCol w="565200"/>
                <a:gridCol w="1369800"/>
                <a:gridCol w="403200"/>
                <a:gridCol w="2419560"/>
                <a:gridCol w="484200"/>
                <a:gridCol w="1209600"/>
              </a:tblGrid>
              <a:tr h="422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MESTER GAS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MESTER GENAP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ata Pelajar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Jm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k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yara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ata Pelajar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Jm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k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yara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didikan Agama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didikan Agama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didikan Kewarganegaraan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didikan Kewarganegaraan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hasa Indonesia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hasa Indonesia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Bhs. Ind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hasa Indonesia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Bhs. Ind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hasa Indonesia 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Bhs. Ind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hasa Inggris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hasa Inggris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Bhs. Ing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hasa Inggris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Bhs. Ing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hasa Inggris 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Bhs. Ing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atematika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atematika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Mat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atematika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Mat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atematika 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Mat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isika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isika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Fis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isika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Fisika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isika 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Fis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imia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imia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Kim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9144000" cy="7005600"/>
        </p:xfrm>
        <a:graphic>
          <a:graphicData uri="http://schemas.openxmlformats.org/drawingml/2006/table">
            <a:tbl>
              <a:tblPr/>
              <a:tblGrid>
                <a:gridCol w="533520"/>
                <a:gridCol w="2209680"/>
                <a:gridCol w="685800"/>
                <a:gridCol w="1143000"/>
                <a:gridCol w="533520"/>
                <a:gridCol w="2057400"/>
                <a:gridCol w="685800"/>
                <a:gridCol w="1295280"/>
              </a:tblGrid>
              <a:tr h="53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MESTER GAS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MESTER GENAP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ata Pelajar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Jm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k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yara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ata Pelajar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Jm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k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yara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imia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Kimia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imia 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Kim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iologi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iologi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Biologi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iologi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Biologi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iologi 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Biologi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ejarah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ejarah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Geograf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eni Budaya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Ekonom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eni Budaya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osiolog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jaskes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eni Budaya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jaskes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jaskes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IK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IK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TIK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IK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TIK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eterampilan/Bahasa Asing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eterampilan/Bahasa Asing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Ket?Bhs. Asing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eterampilan/Bahasa Asing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Ketr/Bhs. Asing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uatan Lokal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uatan Lokal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gembangan Diri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uatan Lokal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gembangan Diri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gembangan Diri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</a:tbl>
          </a:graphicData>
        </a:graphic>
      </p:graphicFrame>
      <p:sp>
        <p:nvSpPr>
          <p:cNvPr id="1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BA93-2E08-4213-8762-8D49CF72CD0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b2b2b2"/>
                </a:solidFill>
                <a:latin typeface="Arial"/>
              </a:rPr>
              <a:t>PENILAIA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Nilai Mata Pelaja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Menentukan Ketuntasan Mata Pelaja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Indeks Prest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Menentukan Pengambilan Beban Belaj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40F0-91E5-4627-90F6-C71845C7040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b2b2b2"/>
                </a:solidFill>
                <a:latin typeface="Arial"/>
              </a:rPr>
              <a:t>KRITERIA PENGAMBILAN BEBAN BELAJA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52352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Semester 1 semua peserta didik memperoleh beban belajar yang s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Semester Berikutnya tergantung perolehan Indeks Prestasi(IP) semester sebelum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IP=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(N X s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id-ID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B4CC-2E16-4BEC-A783-0009ADB3F0B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Symbol"/>
                <a:ea typeface="Symbol"/>
              </a:rPr>
              <a:t></a:t>
            </a:r>
            <a:r>
              <a:rPr b="0" lang="en-US" sz="4000" spc="-1" strike="noStrike">
                <a:solidFill>
                  <a:srgbClr val="66ffff"/>
                </a:solidFill>
                <a:latin typeface="Impact"/>
              </a:rPr>
              <a:t> </a:t>
            </a:r>
            <a:r>
              <a:rPr b="0" lang="en-US" sz="4000" spc="-1" strike="noStrike">
                <a:solidFill>
                  <a:srgbClr val="66ffff"/>
                </a:solidFill>
                <a:latin typeface="Impact"/>
              </a:rPr>
              <a:t>sks MAKSIMAL YG DAPAT DIAMBIL </a:t>
            </a:r>
            <a:br>
              <a:rPr sz="4000"/>
            </a:br>
            <a:r>
              <a:rPr b="0" lang="en-US" sz="4000" spc="-1" strike="noStrike">
                <a:solidFill>
                  <a:srgbClr val="66ffff"/>
                </a:solidFill>
                <a:latin typeface="Impact"/>
              </a:rPr>
              <a:t>SISWA SM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IP &gt; 8,5       dapat mengambil  ≤ 36 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IP 7,1 – 8,5 dapat mengambil  ≤ 28 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P 6,0 – 7,0 dapat mengambil  ≤ 20 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P 5,0 – 5,9 dapat mengambil  ≤ 14 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P &lt; 5,0       dapat mengambil  ≤ 10 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A664-8F5B-4B3D-BF4A-049F576B3C2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14E9-7F45-4081-9A23-6EF6E25595B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SEKOLAH  MELAKSANAKAN SMT PENDEK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UNT</a:t>
            </a:r>
            <a:r>
              <a:rPr b="1" lang="id-ID" sz="2400" spc="-1" strike="noStrike">
                <a:solidFill>
                  <a:srgbClr val="ff0000"/>
                </a:solidFill>
                <a:latin typeface="Comic Sans MS"/>
              </a:rPr>
              <a:t>UK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ERBAIKAN NILAI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YG TL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ff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DITEMPUH PD SMT SEBELUMNY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ff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PENYELENGGARAAN SMT PENDEK PD </a:t>
            </a:r>
            <a:r>
              <a:rPr b="1" lang="id-ID" sz="2400" spc="-1" strike="noStrike">
                <a:solidFill>
                  <a:srgbClr val="00ff00"/>
                </a:solidFill>
                <a:latin typeface="Comic Sans MS"/>
              </a:rPr>
              <a:t>AKHI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id-ID" sz="2400" spc="-1" strike="noStrike">
                <a:solidFill>
                  <a:srgbClr val="00ff00"/>
                </a:solidFill>
                <a:latin typeface="Comic Sans MS"/>
              </a:rPr>
              <a:t>\SEMESTER YANG BERSANGKUTAN SELAMA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ff00"/>
                </a:solidFill>
                <a:latin typeface="Comic Sans MS"/>
              </a:rPr>
              <a:t>   </a:t>
            </a:r>
            <a:r>
              <a:rPr b="1" lang="id-ID" sz="2400" spc="-1" strike="noStrike">
                <a:solidFill>
                  <a:srgbClr val="00ff00"/>
                </a:solidFill>
                <a:latin typeface="Comic Sans MS"/>
              </a:rPr>
              <a:t>MINGG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680C-2ACC-4FAD-87F7-2A229922E72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KOLAH WAJIB MENERAPKAN SISTEM KREDIT SEMESTER DG BENAR, MELIPUTI: TATAP MUK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(TM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, TUGAS TERSTRUKTU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(TT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, &amp; KEGIATAN MANDIRI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(KM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1 sks = 45’ TM + 45’ TT + 45’ KM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PENETAP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T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 DPT DILAKUKAN DG 2 CAR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DIINTEGRASIKAN LANGSUNG DALAM </a:t>
            </a: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TM</a:t>
            </a: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,</a:t>
            </a:r>
            <a:r>
              <a:rPr b="0" lang="en-US" sz="3200" spc="-1" strike="noStrike">
                <a:solidFill>
                  <a:srgbClr val="b2b2b2"/>
                </a:solidFill>
                <a:latin typeface="Impact"/>
              </a:rPr>
              <a:t>  </a:t>
            </a:r>
            <a:r>
              <a:rPr b="1" lang="en-US" sz="2800" spc="-1" strike="noStrike">
                <a:solidFill>
                  <a:srgbClr val="b2b2b2"/>
                </a:solidFill>
                <a:latin typeface="Comic Sans MS"/>
              </a:rPr>
              <a:t>MISALNYA MATEMATIKA 2 sks, DILAKSANAKAN (2 X 45’) + (2 X 45’) = 180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DILAKSANAKAN TERSENDIRI</a:t>
            </a:r>
            <a:r>
              <a:rPr b="0" lang="en-US" sz="3200" spc="-1" strike="noStrike">
                <a:solidFill>
                  <a:srgbClr val="66ffff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STLH SEMUA KEGIATAN </a:t>
            </a: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TM</a:t>
            </a: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 DISELESAIKAN DALAM 1 HARI</a:t>
            </a:r>
            <a:r>
              <a:rPr b="0" lang="en-US" sz="3200" spc="-1" strike="noStrike">
                <a:solidFill>
                  <a:srgbClr val="66ffff"/>
                </a:solidFill>
                <a:latin typeface="Impact"/>
              </a:rPr>
              <a:t>, </a:t>
            </a:r>
            <a:r>
              <a:rPr b="1" lang="en-US" sz="2800" spc="-1" strike="noStrike">
                <a:solidFill>
                  <a:srgbClr val="66ffff"/>
                </a:solidFill>
                <a:latin typeface="Comic Sans MS"/>
              </a:rPr>
              <a:t>MISALNYA 1 HARI MATA PELAJARAN MATEMATIKA 2 sks &amp; FISIKA 2 sks. TM MATEMATIKA DILAKSANAKAN 2 X 45’ = 90’  DILANJUTKAN TM FISIKA 2 X 45’ = 90’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Comic Sans MS"/>
              </a:rPr>
              <a:t>KEMUDIAN  DITERUSKAN TT MATEMATIKA 90’, DAN TT FISIKA 90’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4FBF-1446-46F1-B2B2-0B1118FCF0B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b2b2b2"/>
                </a:solidFill>
                <a:latin typeface="Arial"/>
              </a:rPr>
              <a:t>ATURAN PENJURUSA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jurusan 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dapa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lak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sanakan pad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mester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 pertama tahun pertam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arat Penjurusa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3200" spc="-1" strike="noStrike">
                <a:solidFill>
                  <a:srgbClr val="ffffff"/>
                </a:solidFill>
                <a:latin typeface="Arial"/>
              </a:rPr>
              <a:t>Program I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Penjurusan program IPA dipertimbangkan berdasarkan nila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a Pelajaran Khas jurusan, yaitu :  Fisika, Kimia, dan Biologi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5931-C6D2-44C9-8B5C-9E43CEAC68C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b2b2b2"/>
                </a:solidFill>
                <a:latin typeface="Arial"/>
              </a:rPr>
              <a:t>UU SISDIKNAS TAHUN 2003  PASAL 12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Ayat 1b menyatakan bahwa:“Setiap peserta didik pada setiap satuan pendidikan berhak mendapatkan pelayanan pendidikan sesuai dengan bakat, minat, dan kemampuannya”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Ayat  1f menyatak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ahwa</a:t>
            </a: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: “Peserta didik pada setiap satuan pendidikan berhak menyelesaikan pendidikan sesuai dengan kecepatan belajar masing-masing dan tidak menyimpang dari ketentuan batas waktu yang ditetapkan”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41EE-B4DD-4358-AF21-453B87DEFB9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3200" spc="-1" strike="noStrike">
                <a:solidFill>
                  <a:srgbClr val="ffffff"/>
                </a:solidFill>
                <a:latin typeface="Arial"/>
              </a:rPr>
              <a:t>Program 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Penjurusan Program IPS dipertimbangkan berdasarkan nilai mata pelajara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has jurusan 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ekonomi, sosiolog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dan geografi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F136-ECCD-40AF-8E3C-02408F7B8FC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b2b2b2"/>
                </a:solidFill>
                <a:latin typeface="Arial"/>
              </a:rPr>
              <a:t>ATURAN KELULUSA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A. Kelulusan siswa dari tingkat satuan pendidikan dilakukan setiap akhir seme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swa program IPA dan IPS dinyatakan lulus dari tingkat satuan pendidikan apabila memenuhi ketentuan sebagai beriku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1.  Menyelesaikan seluruh program pembelaja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2. Memperoleh nilai minimal baik pada penilaian akhir untuk seluruh mata pelajaran kelompok mata pelajaran agama dan akhlak mulia, kelompok mata pelajaran kewarganegaraa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D59A-E905-475D-9E64-45B13B24125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dan kepribadian, kelompok mata pelajaran estetika dan kelompok mata pelajaran jasmani, olah raga dan kesehatan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lus  Ujian Na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lus Ujian Sekol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8515-1FCA-4879-94AD-5EA4B18DBE0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b2b2b2"/>
                </a:solidFill>
                <a:latin typeface="Arial"/>
              </a:rPr>
              <a:t>DAFTAR PUSTAK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Badan Standar Nasional Pendidikan(2010), Panduan Penyelenggaraan Sistem Kredit Semester. Jakar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Dr. Herry Widyastono (2010), Penyelenggaraan Sistem Kredit Semester S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3.   Dr. Herry Widyastono dan Firman Syah Noor M.Pd,  (2010), Panduan Teknis Pengembangan Kurikulum SBI. Jakarta : Depdik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3C9A-F5A8-484E-BED7-6FFC3797A7C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D740-555F-4469-80E3-5F5D2CCBEC1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152280" y="2514600"/>
            <a:ext cx="861084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500" spc="-1" strike="noStrike">
                <a:solidFill>
                  <a:srgbClr val="00ffff"/>
                </a:solidFill>
                <a:latin typeface="Rage Italic"/>
              </a:rPr>
              <a:t>Terima Kasih</a:t>
            </a:r>
            <a:endParaRPr b="0" lang="en-US" sz="125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b2b2b2"/>
                </a:solidFill>
                <a:latin typeface="Arial"/>
              </a:rPr>
              <a:t>IMPLEMENTASI PAKE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94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Sistem Paket kurang memberi kesempatan pada peserta didik pada setiap satuan pendidikan untuk menyelesaikan pendidikan sesuai dengan kecepatan belajar masing-mas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92FD-3D68-4F73-92E6-65E17D8F828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76212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ban belajar dengan S</a:t>
            </a: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istem Paket hanya memberi satu kemungkinan, yaitu seluruh peserta didi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jib </a:t>
            </a: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menggunakan cara yang sama untuk menyelesaikan program belajarnya. Implikasi dari hal tersebut yaitu antara la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hwa </a:t>
            </a: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peserta didik yang pandai akan dipaksa untuk mengikuti peserta didik lainnya yang memiliki kemampua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 kecepatan belajar standar</a:t>
            </a: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Sistem Paket kurang dap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akomodasi</a:t>
            </a: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 kemajemukan potensi peserta didi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5465-E42F-4CFF-B36B-3CFD9916C7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Melalui Paket, peserta didik tida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dimungkinkan untuk menyelesaikan program pendidikannya lebih cepa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i periode belajar yang ditentukan dalam setiap satuan pendidikan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Sistem pembelajaran semacam itu dianggap kura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kan ruang yang 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demokrat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i pengembangan potensi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 peserta didi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ang mencakup 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kemampuan, bakat, dan min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A8DB-59A7-4AAF-AE69-398315AB32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BF7E-81B0-4398-A514-9C7056951CD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Showcard Gothic"/>
              </a:rPr>
              <a:t>KATEGORI SEKOLAH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457200" y="2971800"/>
            <a:ext cx="8229600" cy="3124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981080" y="1905120"/>
            <a:ext cx="670572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5181480" y="1143000"/>
            <a:ext cx="3505320" cy="76212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457200" y="41148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SEKOLAH KATEGORI STAND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3048120" y="20574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KOLAH KATEGORI MANDIRI </a:t>
            </a: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(SEKOLAH STANDAR NASIONAL / SS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5334120" y="11430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SEKOLAH BERTARAF INTERNASIONAL (SBI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914400" y="1600200"/>
            <a:ext cx="533520" cy="990720"/>
          </a:xfrm>
          <a:prstGeom prst="upArrow">
            <a:avLst>
              <a:gd name="adj1" fmla="val 50000"/>
              <a:gd name="adj2" fmla="val 46424"/>
            </a:avLst>
          </a:prstGeom>
          <a:gradFill rotWithShape="0">
            <a:gsLst>
              <a:gs pos="0">
                <a:srgbClr val="0066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1981080" y="1143000"/>
            <a:ext cx="320040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SEKOLAH BERBASIS KEUNGGULA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LOKAL (SBK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981080" y="13716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985A-68BC-4255-87A2-A60B83164F3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800" spc="-1" strike="noStrike">
                <a:solidFill>
                  <a:srgbClr val="00b0f0"/>
                </a:solidFill>
                <a:latin typeface="Showcard Gothic"/>
              </a:rPr>
              <a:t>PP 19 TAHUN 2005</a:t>
            </a:r>
            <a:br>
              <a:rPr sz="4800"/>
            </a:br>
            <a:r>
              <a:rPr b="1" lang="id-ID" sz="2800" spc="-1" strike="noStrike">
                <a:solidFill>
                  <a:srgbClr val="0070c0"/>
                </a:solidFill>
                <a:latin typeface="Agency FB"/>
              </a:rPr>
              <a:t>TENTANG STANDAR NASIONAL PENDIDIKAN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EBAN BELAJA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MA/SMK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PADA JALUR PENDIDIKAN FORMAL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KATEGORI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ANDA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DAPAT</a:t>
            </a: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INYATAKAN DALAM </a:t>
            </a:r>
            <a:r>
              <a:rPr b="1" lang="en-US" sz="3200" spc="-1" strike="noStrike">
                <a:solidFill>
                  <a:srgbClr val="ffff00"/>
                </a:solidFill>
                <a:latin typeface="Showcard Gothic"/>
              </a:rPr>
              <a:t>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EBAN BELAJA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MA/SMK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PADA JALUR PENDIDIKAN FORMAL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KATEGORI MANDIRI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[&amp;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ERTARAF INTERNASIONAL]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Arial Rounded MT Bold"/>
              </a:rPr>
              <a:t>DINYATAKAN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DALAM </a:t>
            </a:r>
            <a:r>
              <a:rPr b="0" lang="en-US" sz="3200" spc="-1" strike="noStrike">
                <a:solidFill>
                  <a:srgbClr val="00ff00"/>
                </a:solidFill>
                <a:latin typeface="Showcard Gothic"/>
              </a:rPr>
              <a:t>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B3D3-B455-4ACA-87BF-515E9A3FF8D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101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b0f0"/>
                </a:solidFill>
                <a:latin typeface="Showcard Gothic"/>
              </a:rPr>
              <a:t>PERMENDIKNAS TAHUN 2006</a:t>
            </a:r>
            <a:br>
              <a:rPr sz="4000"/>
            </a:br>
            <a:r>
              <a:rPr b="0" lang="id-ID" sz="4000" spc="-1" strike="noStrike">
                <a:solidFill>
                  <a:srgbClr val="00b0f0"/>
                </a:solidFill>
                <a:latin typeface="Showcard Gothic"/>
              </a:rPr>
              <a:t>Nomor 22 ttg StaNDAR iSI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Satuan pendidikan pada semua jenis dan jenjang pendidikan menyelenggarakan program pendidikan dengan menggunakan sistem paket atau sistem kredit seme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uan pendidikan SMA/MA/SMALB dan SMK/MAK kategori mandiri menggunakan sistem kredit seme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MM</cp:lastModifiedBy>
  <dcterms:modified xsi:type="dcterms:W3CDTF">2012-05-30T16:27:29Z</dcterms:modified>
  <cp:revision>5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