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39F63-2C5D-4568-97CB-67C107535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FB8D-99BC-4C85-84B0-4DF613B820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26B7-26E9-466B-85DF-20ACBD6F0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468A-615F-4BA0-BF8B-FAD3F161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5F2E-75BE-4E71-AE98-0CD3E37D5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2C9E-6558-4BCB-9059-1AFD5D6D9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BA5BC-1B94-487F-9EC0-4EF539F03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9DC2-7F39-4501-8EC1-6937551C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CB526-0714-4B76-A172-E8336E55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3511-8D39-477A-967B-5CB2773C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137CC-9E3D-42C8-9E7F-E02C5AE7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E8AF-5805-4D68-822B-74CCC623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310D-62E1-4626-94DA-8CBB7E46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733D-743F-495E-9CBE-4013B1A9D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1F0AE-DC16-487C-A7F1-9A487869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D3643-5067-4AA5-A9E4-43387B96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F4049-D176-4326-B37D-B8870706A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87E78-35B9-4783-995C-258F4B811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C650-9B87-4883-962A-632C2FEAF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0754-16C7-4260-9F83-E12624C93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6E07-F352-49E9-9AF4-7BF170365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2970-E6AF-487E-9F22-5D80728B7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C6E6-C57B-4913-9B8A-5022C5DD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EDB9-72EE-4CA3-8B3C-25FC674C1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696C-CFE1-4C26-B010-34A86149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7454-AE16-4FAA-AB3A-E2F4FF17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F4E7-1040-4000-BC93-4031DF77B428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RRY WIDYASTONO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40A9-AFE0-48C0-ACEB-26F5BE188F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5535-1BDB-49B4-9FCF-445EF4D6DF13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ERRY WIDYASTONO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2F25E-F792-4C4F-BA59-227860B407A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3399ff"/>
                </a:solidFill>
                <a:latin typeface="Impact"/>
              </a:rPr>
              <a:t>PENYELENGGARAAN</a:t>
            </a:r>
            <a:r>
              <a:rPr b="1" lang="en-US" sz="6000" spc="-1" strike="noStrike">
                <a:solidFill>
                  <a:srgbClr val="3399ff"/>
                </a:solidFill>
                <a:latin typeface="Impact"/>
              </a:rPr>
              <a:t> </a:t>
            </a:r>
            <a:br>
              <a:rPr sz="6000"/>
            </a:br>
            <a:r>
              <a:rPr b="0" lang="en-US" sz="6000" spc="-1" strike="noStrike">
                <a:solidFill>
                  <a:srgbClr val="3399ff"/>
                </a:solidFill>
                <a:latin typeface="Impact"/>
              </a:rPr>
              <a:t>SISTEM KREDIT SEMESTER</a:t>
            </a:r>
            <a:br>
              <a:rPr sz="6000"/>
            </a:br>
            <a:br>
              <a:rPr sz="4000"/>
            </a:br>
            <a:r>
              <a:rPr b="0" lang="id-ID" sz="4000" spc="-1" strike="noStrike">
                <a:solidFill>
                  <a:srgbClr val="00ffff"/>
                </a:solidFill>
                <a:latin typeface="Arial Rounded MT Bold"/>
              </a:rPr>
              <a:t>(WORKSHOP  RSBI)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0" lang="id-ID" sz="2800" spc="-1" strike="noStrike">
                <a:solidFill>
                  <a:srgbClr val="ffff00"/>
                </a:solidFill>
                <a:latin typeface="Comic Sans MS"/>
              </a:rPr>
              <a:t>SMA NEGERI 3 BANDUNG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4000"/>
            </a:b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PEMBINA UTAMA MADYA, GOL IV/d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 Rounded MT Bold"/>
              </a:rPr>
              <a:t>KEPALA BIDANG KURIKULUM PENDIDIKAN MENENGAH</a:t>
            </a:r>
            <a:br>
              <a:rPr sz="2000"/>
            </a:br>
            <a:r>
              <a:rPr b="0" lang="en-US" sz="2800" spc="-1" strike="noStrike">
                <a:solidFill>
                  <a:srgbClr val="3399ff"/>
                </a:solidFill>
                <a:latin typeface="Arial Rounded MT Bold"/>
              </a:rPr>
              <a:t>PUSAT KURIKULUM BALITBANG KEMENDIKNAS</a:t>
            </a:r>
            <a:br>
              <a:rPr sz="2800"/>
            </a:br>
            <a:r>
              <a:rPr b="0" lang="en-US" sz="2800" spc="-1" strike="noStrike">
                <a:solidFill>
                  <a:srgbClr val="3399ff"/>
                </a:solidFill>
                <a:latin typeface="Arial Rounded MT Bold"/>
              </a:rPr>
              <a:t> 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AEB1-D774-49D2-B86E-0F39CA8C587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99ff"/>
                </a:solidFill>
                <a:latin typeface="Impact"/>
              </a:rPr>
              <a:t>SISTEM KREDIT SEMESTER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ffff"/>
                </a:solidFill>
                <a:latin typeface="Comic Sans MS"/>
              </a:rPr>
              <a:t>ADALAH SISTEM PENYELENGGARAAN PROGRAM PENDIDIKAN YG 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PESERTA DIDIKNYA MENENTUKAN SENDIRI: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(1)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ff00"/>
                </a:solidFill>
                <a:latin typeface="Comic Sans MS"/>
              </a:rPr>
              <a:t>BEBAN BELAJAR </a:t>
            </a:r>
            <a:r>
              <a:rPr b="1" lang="en-US" sz="3600" spc="-1" strike="noStrike">
                <a:solidFill>
                  <a:srgbClr val="66ffff"/>
                </a:solidFill>
                <a:latin typeface="Comic Sans MS"/>
              </a:rPr>
              <a:t>DAN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(2)</a:t>
            </a:r>
            <a:r>
              <a:rPr b="1" lang="en-US" sz="3600" spc="-1" strike="noStrike">
                <a:solidFill>
                  <a:srgbClr val="66ff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ff00"/>
                </a:solidFill>
                <a:latin typeface="Comic Sans MS"/>
              </a:rPr>
              <a:t>MATA PELAJARAN </a:t>
            </a:r>
            <a:r>
              <a:rPr b="1" lang="en-US" sz="3600" spc="-1" strike="noStrike">
                <a:solidFill>
                  <a:srgbClr val="66ffff"/>
                </a:solidFill>
                <a:latin typeface="Comic Sans MS"/>
              </a:rPr>
              <a:t>YG DIIKUTI SETIAP SEMESTER PADA SATUAN PENDIDIK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ffff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66ffff"/>
                </a:solidFill>
                <a:latin typeface="Comic Sans MS"/>
              </a:rPr>
              <a:t> </a:t>
            </a:r>
            <a:r>
              <a:rPr b="1" lang="id-ID" sz="3600" spc="-1" strike="noStrike">
                <a:solidFill>
                  <a:srgbClr val="ffffff"/>
                </a:solidFill>
                <a:latin typeface="Agency FB"/>
              </a:rPr>
              <a:t>WALI</a:t>
            </a:r>
            <a:r>
              <a:rPr b="1" lang="en-US" sz="3600" spc="-1" strike="noStrike">
                <a:solidFill>
                  <a:srgbClr val="ffffff"/>
                </a:solidFill>
                <a:latin typeface="Agency FB"/>
              </a:rPr>
              <a:t> AKADEMI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ight Arrow 7"/>
          <p:cNvSpPr/>
          <p:nvPr/>
        </p:nvSpPr>
        <p:spPr>
          <a:xfrm>
            <a:off x="914400" y="5562720"/>
            <a:ext cx="4572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6C31-855F-42BC-9942-E86D1ABC7A9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99ff"/>
                </a:solidFill>
                <a:latin typeface="Impact"/>
              </a:rPr>
              <a:t>TUJUAN PENERAPAN SKS</a:t>
            </a:r>
            <a:endParaRPr b="0" lang="en-US" sz="6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MEMBERI KESEMPATAN KEPADA PESERTA DIDIK UNTUK MENYELESAIKAN STUDI </a:t>
            </a:r>
            <a:r>
              <a:rPr b="0" lang="en-US" sz="4000" spc="-1" strike="noStrike">
                <a:solidFill>
                  <a:srgbClr val="ffff00"/>
                </a:solidFill>
                <a:latin typeface="Impact"/>
              </a:rPr>
              <a:t>SESUAI DG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1143000" indent="-743040">
              <a:lnSpc>
                <a:spcPct val="90000"/>
              </a:lnSpc>
              <a:spcBef>
                <a:spcPts val="10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Impact"/>
              </a:rPr>
              <a:t>KEMAMPUAN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1143000" indent="-743040">
              <a:lnSpc>
                <a:spcPct val="90000"/>
              </a:lnSpc>
              <a:spcBef>
                <a:spcPts val="10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Impact"/>
              </a:rPr>
              <a:t>BAKAT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1143000" indent="-743040">
              <a:lnSpc>
                <a:spcPct val="90000"/>
              </a:lnSpc>
              <a:spcBef>
                <a:spcPts val="10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Impact"/>
              </a:rPr>
              <a:t>MINAT, </a:t>
            </a:r>
            <a:r>
              <a:rPr b="1" lang="en-US" sz="4000" spc="-1" strike="noStrike">
                <a:solidFill>
                  <a:srgbClr val="00ff00"/>
                </a:solidFill>
                <a:latin typeface="Comic Sans MS"/>
              </a:rPr>
              <a:t>D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1143000" indent="-743040">
              <a:lnSpc>
                <a:spcPct val="90000"/>
              </a:lnSpc>
              <a:spcBef>
                <a:spcPts val="100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Impact"/>
              </a:rPr>
              <a:t>KECEPATAN BELAJARNYA</a:t>
            </a:r>
            <a:r>
              <a:rPr b="0" lang="en-US" sz="4000" spc="-1" strike="noStrike">
                <a:solidFill>
                  <a:srgbClr val="ffff00"/>
                </a:solidFill>
                <a:latin typeface="Impact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Impact"/>
              </a:rPr>
              <a:t>PROGRAM PENDIDIKAN SESUAI DG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Impact"/>
              </a:rPr>
              <a:t>KEMAMPUAN, BAKAT, &amp; MINAT SISWA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2057400"/>
            <a:ext cx="784872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Arial Rounded MT Bold"/>
              </a:rPr>
              <a:t>IP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Arial Rounded MT Bold"/>
              </a:rPr>
              <a:t>IP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Arial Rounded MT Bold"/>
              </a:rPr>
              <a:t>BAHAS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Arial Rounded MT Bold"/>
              </a:rPr>
              <a:t>KEAGAMA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5099-58F8-4AD7-9080-D1267F090BE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Chevron 10"/>
          <p:cNvSpPr/>
          <p:nvPr/>
        </p:nvSpPr>
        <p:spPr>
          <a:xfrm>
            <a:off x="4419720" y="2286000"/>
            <a:ext cx="380880" cy="2438280"/>
          </a:xfrm>
          <a:custGeom>
            <a:avLst/>
            <a:gdLst>
              <a:gd name="textAreaLeft" fmla="*/ 0 w 380880"/>
              <a:gd name="textAreaRight" fmla="*/ 381240 w 380880"/>
              <a:gd name="textAreaTop" fmla="*/ 0 h 2438280"/>
              <a:gd name="textAreaBottom" fmla="*/ 2438640 h 243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Box 12"/>
          <p:cNvSpPr/>
          <p:nvPr/>
        </p:nvSpPr>
        <p:spPr>
          <a:xfrm>
            <a:off x="4952880" y="2362320"/>
            <a:ext cx="4191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PESERTA DIDIK DAPAT </a:t>
            </a: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MENENTUKAN SENDIRI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(1) </a:t>
            </a: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BEBAN BELAJAR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AN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(2) </a:t>
            </a: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MATA PELAJARAN 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YG DIIKUTI SETIAP SEMES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Impact"/>
              </a:rPr>
              <a:t>PROGRAM PENDIDIKAN SESUAI DG KECEPATAN BELAJAR SISWA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SISWA DAPAT MENYELESAIKAN STUDI DI SMA, SELAMA </a:t>
            </a:r>
            <a:r>
              <a:rPr b="0" lang="en-US" sz="3200" spc="-1" strike="noStrike">
                <a:solidFill>
                  <a:srgbClr val="ff0000"/>
                </a:solidFill>
                <a:latin typeface="Showcard Gothic"/>
              </a:rPr>
              <a:t>KURANG</a:t>
            </a: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 ATAU </a:t>
            </a:r>
            <a:r>
              <a:rPr b="0" lang="en-US" sz="3200" spc="-1" strike="noStrike">
                <a:solidFill>
                  <a:srgbClr val="00ff00"/>
                </a:solidFill>
                <a:latin typeface="Showcard Gothic"/>
              </a:rPr>
              <a:t>LEBIH</a:t>
            </a: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 DARI </a:t>
            </a:r>
            <a:r>
              <a:rPr b="0" lang="en-US" sz="3200" spc="-1" strike="noStrike">
                <a:solidFill>
                  <a:srgbClr val="ffffff"/>
                </a:solidFill>
                <a:latin typeface="Showcard Gothic"/>
              </a:rPr>
              <a:t>3 (TIGA) TAH</a:t>
            </a:r>
            <a:r>
              <a:rPr b="0" lang="id-ID" sz="3200" spc="-1" strike="noStrike">
                <a:solidFill>
                  <a:srgbClr val="ffffff"/>
                </a:solidFill>
                <a:latin typeface="Showcard Gothic"/>
              </a:rPr>
              <a:t>u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8A50A-7252-4B80-BD73-BCF1B412436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99ff"/>
                </a:solidFill>
                <a:latin typeface="Impact"/>
              </a:rPr>
              <a:t>PENETAPAN BEBAN BELAJAR  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Comic Sans MS"/>
              </a:rPr>
              <a:t>PADA SISTEM PAKET, BEBAN BELAJAR  MENGGUNAKAN JAM PEMBELAJARAN SETIAP MINGGU SETIAP SEMESTER DG: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Comic Sans MS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SISTEM TATAP MUKA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(T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Showcard Gothic"/>
              </a:rPr>
              <a:t>	</a:t>
            </a:r>
            <a:r>
              <a:rPr b="1" lang="en-US" sz="2800" spc="-1" strike="noStrike">
                <a:solidFill>
                  <a:srgbClr val="00ff00"/>
                </a:solidFill>
                <a:latin typeface="Arial Rounded MT Bold"/>
              </a:rPr>
              <a:t>{@ 45  menit  }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Comic Sans MS"/>
              <a:buAutoNum type="arabi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PENUGASAN TERSTRUKTUR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(TT);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&amp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Comic Sans MS"/>
              <a:buAutoNum type="arabi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KEGIATAN MANDIRI TIDAK TERSTRUKTUR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(KM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(</a:t>
            </a: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TT + KM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)</a:t>
            </a:r>
            <a:r>
              <a:rPr b="0" lang="en-US" sz="3600" spc="-1" strike="noStrike">
                <a:solidFill>
                  <a:srgbClr val="00ff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Impact"/>
              </a:rPr>
              <a:t>maks  60%  dari waktu  TM</a:t>
            </a:r>
            <a:r>
              <a:rPr b="0" lang="en-US" sz="3600" spc="-1" strike="noStrike">
                <a:solidFill>
                  <a:srgbClr val="00ff00"/>
                </a:solidFill>
                <a:latin typeface="Impact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Showcard Gothic"/>
              </a:rPr>
              <a:t>KONVERSI SISTEM PAKET KE SKS  PADA SMA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1 JAM PELAJARAN DALAM SISTEM PAKE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= 1 TM+ 1 TT + 1 KM = TM + 60% (TM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= 45’ + 60% (45’)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= 45 + 27 = 72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 Narrow"/>
              </a:rPr>
              <a:t>1 JAM PELAJARAN DALAM SK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 Narrow"/>
              </a:rPr>
              <a:t>	</a:t>
            </a:r>
            <a:r>
              <a:rPr b="1" lang="en-US" sz="3200" spc="-1" strike="noStrike">
                <a:solidFill>
                  <a:srgbClr val="00ff00"/>
                </a:solidFill>
                <a:latin typeface="Arial Narrow"/>
              </a:rPr>
              <a:t>= 1 TM + 1 TT + 1 KM = 45’ + 45’ + 45’ = 135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Comic Sans MS"/>
              </a:rPr>
              <a:t>JAD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ritannic Bold"/>
              </a:rPr>
              <a:t>1 jam sks = 1,88 jam sistem pak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DE37-6CBE-4A8B-B379-6CACD668012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38EA-833B-47F6-89D4-F4F93131161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80880" y="990360"/>
            <a:ext cx="83822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Arial Rounded MT Bold"/>
              </a:rPr>
              <a:t>BERDASAR KETENTUAN TSB, MK JUMLAH BEBAN BELAJAR SISTEM PAKET</a:t>
            </a:r>
            <a:r>
              <a:rPr b="1" lang="en-US" sz="4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ff"/>
                </a:solidFill>
                <a:latin typeface="Arial Rounded MT Bold"/>
              </a:rPr>
              <a:t>	</a:t>
            </a:r>
            <a:r>
              <a:rPr b="1" lang="en-US" sz="4400" spc="-1" strike="noStrike">
                <a:solidFill>
                  <a:srgbClr val="66ffff"/>
                </a:solidFill>
                <a:latin typeface="Arial Rounded MT Bold"/>
              </a:rPr>
              <a:t>di SMA: 114 - 1</a:t>
            </a:r>
            <a:r>
              <a:rPr b="1" lang="id-ID" sz="4400" spc="-1" strike="noStrike">
                <a:solidFill>
                  <a:srgbClr val="66ffff"/>
                </a:solidFill>
                <a:latin typeface="Arial Rounded MT Bold"/>
              </a:rPr>
              <a:t>26</a:t>
            </a:r>
            <a:r>
              <a:rPr b="1" lang="en-US" sz="4400" spc="-1" strike="noStrike">
                <a:solidFill>
                  <a:srgbClr val="66ffff"/>
                </a:solidFill>
                <a:latin typeface="Arial Rounded MT Bold"/>
              </a:rPr>
              <a:t> sk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ffff"/>
                </a:solidFill>
                <a:latin typeface="Arial Rounded MT Bold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66ffff"/>
                </a:solidFill>
                <a:latin typeface="Comic Sans MS"/>
              </a:rPr>
              <a:t>	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1905120" y="3657600"/>
            <a:ext cx="2666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99ff"/>
                </a:solidFill>
                <a:latin typeface="Showcard Gothic"/>
              </a:rPr>
              <a:t>KOMPOSISI </a:t>
            </a:r>
            <a:br>
              <a:rPr sz="4000"/>
            </a:br>
            <a:r>
              <a:rPr b="0" lang="en-US" sz="4000" spc="-1" strike="noStrike">
                <a:solidFill>
                  <a:srgbClr val="3399ff"/>
                </a:solidFill>
                <a:latin typeface="Showcard Gothic"/>
              </a:rPr>
              <a:t>STRUKTUR KURIKULUM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Impact"/>
              </a:rPr>
              <a:t>KOMPONEN KURIKULUM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Rounded MT Bold"/>
              </a:rPr>
              <a:t>MATA PELAJARAN </a:t>
            </a:r>
            <a:r>
              <a:rPr b="0" lang="en-US" sz="3200" spc="-1" strike="noStrike">
                <a:solidFill>
                  <a:srgbClr val="00ff00"/>
                </a:solidFill>
                <a:latin typeface="Arial Rounded MT Bold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Arial Rounded MT Bold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Arial Rounded MT Bold"/>
              </a:rPr>
              <a:t>= 8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MUATAN LOKAL</a:t>
            </a: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= 1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 Rounded MT Bold"/>
              </a:rPr>
              <a:t>PENGEMBANGAN DIRI</a:t>
            </a:r>
            <a:r>
              <a:rPr b="0" lang="en-US" sz="3200" spc="-1" strike="noStrike">
                <a:solidFill>
                  <a:srgbClr val="00ff00"/>
                </a:solidFill>
                <a:latin typeface="Arial Rounded MT Bold"/>
              </a:rPr>
              <a:t>	</a:t>
            </a:r>
            <a:r>
              <a:rPr b="0" lang="en-US" sz="3200" spc="-1" strike="noStrike">
                <a:solidFill>
                  <a:srgbClr val="00ff00"/>
                </a:solidFill>
                <a:latin typeface="Arial Rounded MT Bold"/>
              </a:rPr>
              <a:t>= 1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DD76-BD23-416D-AEFE-5497475BE0D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b2b2b2"/>
                </a:solidFill>
                <a:latin typeface="Arial"/>
              </a:rPr>
              <a:t>STRUKTUR KURIKULUM PAKET PROGRAM IPA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6320" y="914400"/>
          <a:ext cx="8991360" cy="6553080"/>
        </p:xfrm>
        <a:graphic>
          <a:graphicData uri="http://schemas.openxmlformats.org/drawingml/2006/table">
            <a:tbl>
              <a:tblPr/>
              <a:tblGrid>
                <a:gridCol w="2106360"/>
                <a:gridCol w="1170000"/>
                <a:gridCol w="868320"/>
                <a:gridCol w="982800"/>
                <a:gridCol w="984240"/>
                <a:gridCol w="912960"/>
                <a:gridCol w="912600"/>
                <a:gridCol w="1054080"/>
              </a:tblGrid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mpon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s 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26676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t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s 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t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s X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t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s X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t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s X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t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s X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t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562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. Mata Pelajar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Pendidikan Aga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Pend. Kewarganegara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ahasa Indones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ahasa Inggr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atemati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isik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Kim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iolog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ejara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Geograf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Ekonom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osiolog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eni Buday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Penjaske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I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Ketr/Bahasa Asin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. Muatan Lok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Pengembangan Dir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*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*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*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*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*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*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*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335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ff0000"/>
                </a:solidFill>
                <a:latin typeface="Impact"/>
              </a:rPr>
              <a:t>KONVERSI  PAKET KE SKS IPA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28600" y="685800"/>
          <a:ext cx="8686800" cy="6902280"/>
        </p:xfrm>
        <a:graphic>
          <a:graphicData uri="http://schemas.openxmlformats.org/drawingml/2006/table">
            <a:tbl>
              <a:tblPr/>
              <a:tblGrid>
                <a:gridCol w="2664000"/>
                <a:gridCol w="1755720"/>
                <a:gridCol w="1350720"/>
                <a:gridCol w="1457280"/>
                <a:gridCol w="14590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KOMPON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BEBAN BELAJAR</a:t>
                      </a:r>
                      <a:r>
                        <a:rPr b="0" lang="id-ID" sz="18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 PAK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BEBAN BELAJAR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S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MIN-MAK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ffffff"/>
                          </a:solidFill>
                          <a:latin typeface="Impact"/>
                        </a:rPr>
                        <a:t>Jumlah sks yang ditetapk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</a:tr>
              <a:tr h="506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199"/>
                          </a:solidFill>
                          <a:latin typeface="Impact"/>
                        </a:rPr>
                        <a:t>A. MATA PELAJAR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SzPct val="70000"/>
                        <a:buFont typeface="Impact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Pend. Agam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SzPct val="70000"/>
                        <a:buFont typeface="Impact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Pend. Kewarganegara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SzPct val="70000"/>
                        <a:buFont typeface="Impact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Bahasa Indones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SzPct val="70000"/>
                        <a:buFont typeface="Impact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Bahasa Inggri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SzPct val="70000"/>
                        <a:buFont typeface="Impact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Matemati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SzPct val="70000"/>
                        <a:buFont typeface="Impact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Fisik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SzPct val="70000"/>
                        <a:buFont typeface="Impact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Kimi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SzPct val="70000"/>
                        <a:buFont typeface="Impact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Biolog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SzPct val="70000"/>
                        <a:buFont typeface="Impact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Sejarah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SzPct val="70000"/>
                        <a:buFont typeface="Impact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Geograf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SzPct val="70000"/>
                        <a:buFont typeface="Impact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Ekonom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SzPct val="70000"/>
                        <a:buFont typeface="Impact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Sosiolog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SzPct val="70000"/>
                        <a:buFont typeface="Impact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Seni Buday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SzPct val="70000"/>
                        <a:buFont typeface="Impact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Penjas, Olahraga dan Kesehata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SzPct val="70000"/>
                        <a:buFont typeface="Impact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TIK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lnSpc>
                          <a:spcPct val="100000"/>
                        </a:lnSpc>
                        <a:spcBef>
                          <a:spcPts val="349"/>
                        </a:spcBef>
                        <a:buClr>
                          <a:srgbClr val="000000"/>
                        </a:buClr>
                        <a:buSzPct val="70000"/>
                        <a:buFont typeface="Impact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Keterampilan/ Bhs. Asin</a:t>
                      </a: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2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6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6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2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2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2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0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0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0,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3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2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2,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6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6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6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6-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6-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2-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2-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2-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0-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0-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0-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3-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-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2-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2-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6-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6-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6-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00000"/>
                          </a:solidFill>
                          <a:latin typeface="Impact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199"/>
                          </a:solidFill>
                          <a:latin typeface="Impact"/>
                        </a:rPr>
                        <a:t>B. MUATAN LOK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199"/>
                          </a:solidFill>
                          <a:latin typeface="Impact"/>
                        </a:rPr>
                        <a:t>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199"/>
                          </a:solidFill>
                          <a:latin typeface="Impact"/>
                        </a:rPr>
                        <a:t>6,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199"/>
                          </a:solidFill>
                          <a:latin typeface="Impact"/>
                        </a:rPr>
                        <a:t>6-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Impact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199"/>
                          </a:solidFill>
                          <a:latin typeface="Impact"/>
                        </a:rPr>
                        <a:t>C. PENGEMBANGAN DIR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199"/>
                          </a:solidFill>
                          <a:latin typeface="Impact"/>
                        </a:rPr>
                        <a:t>12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199"/>
                          </a:solidFill>
                          <a:latin typeface="Impact"/>
                        </a:rPr>
                        <a:t>6,4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10199"/>
                          </a:solidFill>
                          <a:latin typeface="Impact"/>
                        </a:rPr>
                        <a:t>6-7*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400" spc="-1" strike="noStrike">
                          <a:solidFill>
                            <a:srgbClr val="010199"/>
                          </a:solidFill>
                          <a:latin typeface="Impact"/>
                        </a:rPr>
                        <a:t>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10199"/>
                          </a:solidFill>
                          <a:latin typeface="Impact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10199"/>
                          </a:solidFill>
                          <a:latin typeface="Impact"/>
                        </a:rPr>
                        <a:t>23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10199"/>
                          </a:solidFill>
                          <a:latin typeface="Impact"/>
                        </a:rPr>
                        <a:t>123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10199"/>
                          </a:solidFill>
                          <a:latin typeface="Impact"/>
                        </a:rPr>
                        <a:t>110-12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b2b2b2"/>
                </a:solidFill>
                <a:latin typeface="Arial"/>
              </a:rPr>
              <a:t>DASAR HUKUM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0" y="18288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1. Undang-Undang Nomor 20 Tahun 2003 tentang Sistem Pendidikan Nasional pada Pasal 12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ya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aturan Pemerintah Republik Indonesia Nomor19 Tahun 2005 tentang Standar Nasional Pendidikan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 pada pasal 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3. Peraturan Menteri Pendidikan Nasional Nomor 22 Tahun 2006 tentang Standar Isi Untuk Satuan Pendidikan Dasar dan Menenga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4. Peraturan Menteri Pendidikan Nasional Nomor 23 Tahun 2006 tentang Standar Kompetisi Lulusan Untuk Satuan Pendidikan Dasar dan Menenga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aturan Ment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i Pendidikan Nasional Nomor 24 Tahun 2006 tentang Pelaksanaan Peraturan Mentri Pendidikan Nasional Nomor 22 tahun 2006</a:t>
            </a: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ffffff"/>
                </a:solidFill>
                <a:latin typeface="Arial"/>
              </a:rPr>
              <a:t>6. Peraturan Menteri No. 78 tahun 2009 tentang Penyelenggaraan Sekolah Bertaraf Internasional pada jenjang Pendidikan Dasar dan Menenga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349"/>
              </a:spcBef>
              <a:buClr>
                <a:srgbClr val="ffffcc"/>
              </a:buClr>
              <a:buSzPct val="7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2913C-7F78-4519-A052-EF56CF88A1B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b2b2b2"/>
                </a:solidFill>
                <a:latin typeface="Arial"/>
              </a:rPr>
              <a:t>	</a:t>
            </a:r>
            <a:r>
              <a:rPr b="0" lang="id-ID" sz="1800" spc="-1" strike="noStrike">
                <a:solidFill>
                  <a:srgbClr val="b2b2b2"/>
                </a:solidFill>
                <a:latin typeface="Arial"/>
              </a:rPr>
              <a:t>MODEL STRUKTUR KURIKULUM SKS 4 Smt IPA</a:t>
            </a:r>
            <a:br>
              <a:rPr sz="1800"/>
            </a:br>
            <a:endParaRPr b="0" lang="en-US" sz="18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066680" y="627120"/>
          <a:ext cx="7239240" cy="8364600"/>
        </p:xfrm>
        <a:graphic>
          <a:graphicData uri="http://schemas.openxmlformats.org/drawingml/2006/table">
            <a:tbl>
              <a:tblPr/>
              <a:tblGrid>
                <a:gridCol w="1809720"/>
                <a:gridCol w="1810080"/>
                <a:gridCol w="904680"/>
                <a:gridCol w="905040"/>
                <a:gridCol w="904680"/>
                <a:gridCol w="905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mpone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l sks yg Ditetapk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okasi Wakt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buClr>
                          <a:srgbClr val="010199"/>
                        </a:buClr>
                        <a:buFont typeface="Arial"/>
                        <a:buAutoNum type="alphaU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ATA PELAJARA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mt 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mt 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mt 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mt 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Pendidikan Agam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Pend. Kewarganegaraa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ahasa Indones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ahasa Inggr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atematik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isik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Kim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iolog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ejarah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Geograf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Ekonom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osiolog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eni Buday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Penjask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I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Ketr/Bahasa As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. Muatan Lok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C. Pengembangan Dir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*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*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*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</a:tbl>
          </a:graphicData>
        </a:graphic>
      </p:graphicFrame>
      <p:sp>
        <p:nvSpPr>
          <p:cNvPr id="16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7E4F-6316-4D90-82D7-83C27B61E97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b2b2b2"/>
                </a:solidFill>
                <a:latin typeface="Arial"/>
              </a:rPr>
              <a:t>MODEL PEMBAGIAN MATA PELAJARAN PADA SEMESTER GASAL DAN GENAP PROGRAM IPA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-304920" y="1600200"/>
          <a:ext cx="9677520" cy="5908680"/>
        </p:xfrm>
        <a:graphic>
          <a:graphicData uri="http://schemas.openxmlformats.org/drawingml/2006/table">
            <a:tbl>
              <a:tblPr/>
              <a:tblGrid>
                <a:gridCol w="484200"/>
                <a:gridCol w="2741760"/>
                <a:gridCol w="565200"/>
                <a:gridCol w="1369800"/>
                <a:gridCol w="403200"/>
                <a:gridCol w="2419560"/>
                <a:gridCol w="484200"/>
                <a:gridCol w="1209600"/>
              </a:tblGrid>
              <a:tr h="422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MESTER GASA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MESTER GENAP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ata Pelajara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Jm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k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yara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ata Pelajara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Jm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k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yara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Pendidikan Agama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Pendidikan Agama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Pendidikan Kewarganegaraan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Pendidikan Kewarganegaraan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ahasa Indonesia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ahasa Indonesia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Lulus Bhs. Ind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ahasa Indonesia 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Lulus Bhs. Ind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ahasa Indonesia 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Lulus Bhs. Ind 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ahasa Inggris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ahasa Inggris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Lulus Bhs. Ing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ahasa Inggris 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Lulus Bhs. Ing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ahasa Inggris 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Lulus Bhs. Ing 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atematika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atematika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Lulus Mat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atematika 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Lulus Mat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atematika 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Lulus Mat 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isika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isika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Lulus Fis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isika 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Lulus Fisika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isika 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Lulus Fis 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Kimia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Kimia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Lulus Kim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0" y="0"/>
          <a:ext cx="9144000" cy="7005600"/>
        </p:xfrm>
        <a:graphic>
          <a:graphicData uri="http://schemas.openxmlformats.org/drawingml/2006/table">
            <a:tbl>
              <a:tblPr/>
              <a:tblGrid>
                <a:gridCol w="533520"/>
                <a:gridCol w="2209680"/>
                <a:gridCol w="685800"/>
                <a:gridCol w="1143000"/>
                <a:gridCol w="533520"/>
                <a:gridCol w="2057400"/>
                <a:gridCol w="685800"/>
                <a:gridCol w="1295280"/>
              </a:tblGrid>
              <a:tr h="533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MESTER GASA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d-ID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MESTER GENAP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99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ata Pelajara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Jm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k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yara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ata Pelajara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Jm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k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yara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Kimia 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Lulus Kimia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Kimia 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Lulus Kim 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iologi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iologi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Lulus Biologi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iologi 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Lulus Biologi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iologi 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Lulus Biologi 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ejarah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ejarah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Geografi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eni Budaya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Ekonomi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eni Budaya 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osiologi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Penjaskes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eni Budaya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Penjaskes 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Penjaskes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IK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IK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Lulus TIK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IK 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Lulus TIK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Keterampilan/Bahasa Asing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Keterampilan/Bahasa Asing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Lulus Ket?Bhs. Asing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Keterampilan/Bahasa Asing 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Lulus Ketr/Bhs. Asing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uatan Lokal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uatan Lokal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Pengembangan Diri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uatan Lokal 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Pengembangan Diri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ff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Pengembangan Diri 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d-ID" sz="11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eff"/>
                    </a:solidFill>
                  </a:tcPr>
                </a:tc>
              </a:tr>
            </a:tbl>
          </a:graphicData>
        </a:graphic>
      </p:graphicFrame>
      <p:sp>
        <p:nvSpPr>
          <p:cNvPr id="1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8FF9-9E01-4CE4-9BC3-5550E27AE3F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b2b2b2"/>
                </a:solidFill>
                <a:latin typeface="Arial"/>
              </a:rPr>
              <a:t>PENILAIA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Nilai Mata Pelajar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Menentukan Ketuntasan Mata Pelajar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8960" indent="-49896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Indeks Prestas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98960" indent="-49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Menentukan Pengambilan Beban Belaj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9D7A1-1EBF-4AA7-B011-4AE32CFE277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b2b2b2"/>
                </a:solidFill>
                <a:latin typeface="Arial"/>
              </a:rPr>
              <a:t>KRITERIA PENGAMBILAN BEBAN BELAJAR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1523520"/>
            <a:ext cx="89917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Semester 1 semua peserta didik memperoleh beban belajar yang sam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Semester Berikutnya tergantung perolehan Indeks Prestasi(IP) semester sebelumny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IP=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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(N X sk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0" lang="id-ID" sz="32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EA1C-575C-4A1D-81CB-D11E7155C33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ff"/>
                </a:solidFill>
                <a:latin typeface="Symbol"/>
                <a:ea typeface="Symbol"/>
              </a:rPr>
              <a:t></a:t>
            </a:r>
            <a:r>
              <a:rPr b="0" lang="en-US" sz="4000" spc="-1" strike="noStrike">
                <a:solidFill>
                  <a:srgbClr val="66ffff"/>
                </a:solidFill>
                <a:latin typeface="Impact"/>
              </a:rPr>
              <a:t> </a:t>
            </a:r>
            <a:r>
              <a:rPr b="0" lang="en-US" sz="4000" spc="-1" strike="noStrike">
                <a:solidFill>
                  <a:srgbClr val="66ffff"/>
                </a:solidFill>
                <a:latin typeface="Impact"/>
              </a:rPr>
              <a:t>sks MAKSIMAL YG DAPAT DIAMBIL </a:t>
            </a:r>
            <a:br>
              <a:rPr sz="4000"/>
            </a:br>
            <a:r>
              <a:rPr b="0" lang="en-US" sz="4000" spc="-1" strike="noStrike">
                <a:solidFill>
                  <a:srgbClr val="66ffff"/>
                </a:solidFill>
                <a:latin typeface="Impact"/>
              </a:rPr>
              <a:t>SISWA SMA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IP &gt; 8,5       dapat mengambil  ≤ 36 s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IP 7,1 – 8,5 dapat mengambil  ≤ 28 s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P 6,0 – 7,0 dapat mengambil  ≤ 20 s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P 5,0 – 5,9 dapat mengambil  ≤ 14 s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P &lt; 5,0       dapat mengambil  ≤ 10 s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90D7A-1310-4A16-A2D1-32DD1D9BD96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7D6C-F459-47F5-B377-D00E87EADF0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80880" y="2282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SEKOLAH  MELAKSANAKAN SMT PENDEK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UNT</a:t>
            </a:r>
            <a:r>
              <a:rPr b="1" lang="id-ID" sz="2400" spc="-1" strike="noStrike">
                <a:solidFill>
                  <a:srgbClr val="ff0000"/>
                </a:solidFill>
                <a:latin typeface="Comic Sans MS"/>
              </a:rPr>
              <a:t>UK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PERBAIKAN NILAI </a:t>
            </a: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YG TLH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ff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DITEMPUH PD SMT SEBELUMNY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ff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Comic Sans MS"/>
              </a:rPr>
              <a:t>PENYELENGGARAAN SMT PENDEK PD </a:t>
            </a:r>
            <a:r>
              <a:rPr b="1" lang="id-ID" sz="2400" spc="-1" strike="noStrike">
                <a:solidFill>
                  <a:srgbClr val="00ff00"/>
                </a:solidFill>
                <a:latin typeface="Comic Sans MS"/>
              </a:rPr>
              <a:t>AKHI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ff00"/>
                </a:solidFill>
                <a:latin typeface="Comic Sans MS"/>
              </a:rPr>
              <a:t>  </a:t>
            </a:r>
            <a:r>
              <a:rPr b="1" lang="id-ID" sz="2400" spc="-1" strike="noStrike">
                <a:solidFill>
                  <a:srgbClr val="00ff00"/>
                </a:solidFill>
                <a:latin typeface="Comic Sans MS"/>
              </a:rPr>
              <a:t>\SEMESTER YANG BERSANGKUTAN SELAMA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ff00"/>
                </a:solidFill>
                <a:latin typeface="Comic Sans MS"/>
              </a:rPr>
              <a:t>   </a:t>
            </a:r>
            <a:r>
              <a:rPr b="1" lang="id-ID" sz="2400" spc="-1" strike="noStrike">
                <a:solidFill>
                  <a:srgbClr val="00ff00"/>
                </a:solidFill>
                <a:latin typeface="Comic Sans MS"/>
              </a:rPr>
              <a:t>MINGG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A3F0-E7EF-46B7-98CC-A3204D59375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28600" y="-360"/>
            <a:ext cx="8610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SEKOLAH WAJIB MENERAPKAN SISTEM KREDIT SEMESTER DG BENAR, MELIPUTI: TATAP MUKA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(TM)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, TUGAS TERSTRUKTUR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(TT)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, &amp; KEGIATAN MANDIRI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(KM)</a:t>
            </a: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Impact"/>
              </a:rPr>
              <a:t>1 sks = 45’ TM + 45’ TT + 45’ KM 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PENETAPAN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TT</a:t>
            </a:r>
            <a:r>
              <a:rPr b="1" lang="en-US" sz="3200" spc="-1" strike="noStrike">
                <a:solidFill>
                  <a:srgbClr val="00ff00"/>
                </a:solidFill>
                <a:latin typeface="Comic Sans MS"/>
              </a:rPr>
              <a:t> DPT DILAKUKAN DG 2 CARA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Impact"/>
              </a:rPr>
              <a:t>DIINTEGRASIKAN LANGSUNG DALAM </a:t>
            </a:r>
            <a:r>
              <a:rPr b="0" lang="en-US" sz="3200" spc="-1" strike="noStrike">
                <a:solidFill>
                  <a:srgbClr val="ff0000"/>
                </a:solidFill>
                <a:latin typeface="Impact"/>
              </a:rPr>
              <a:t>TM</a:t>
            </a:r>
            <a:r>
              <a:rPr b="0" lang="en-US" sz="3200" spc="-1" strike="noStrike">
                <a:solidFill>
                  <a:srgbClr val="ffff00"/>
                </a:solidFill>
                <a:latin typeface="Impact"/>
              </a:rPr>
              <a:t>,</a:t>
            </a:r>
            <a:r>
              <a:rPr b="0" lang="en-US" sz="3200" spc="-1" strike="noStrike">
                <a:solidFill>
                  <a:srgbClr val="b2b2b2"/>
                </a:solidFill>
                <a:latin typeface="Impact"/>
              </a:rPr>
              <a:t>  </a:t>
            </a:r>
            <a:r>
              <a:rPr b="1" lang="en-US" sz="2800" spc="-1" strike="noStrike">
                <a:solidFill>
                  <a:srgbClr val="b2b2b2"/>
                </a:solidFill>
                <a:latin typeface="Comic Sans MS"/>
              </a:rPr>
              <a:t>MISALNYA MATEMATIKA 2 sks, DILAKSANAKAN (2 X 45’) + (2 X 45’) = 180’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Impact"/>
              </a:rPr>
              <a:t>DILAKSANAKAN TERSENDIRI</a:t>
            </a:r>
            <a:r>
              <a:rPr b="0" lang="en-US" sz="3200" spc="-1" strike="noStrike">
                <a:solidFill>
                  <a:srgbClr val="66ffff"/>
                </a:solidFill>
                <a:latin typeface="Impact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Impact"/>
              </a:rPr>
              <a:t>STLH SEMUA KEGIATAN </a:t>
            </a:r>
            <a:r>
              <a:rPr b="0" lang="en-US" sz="3200" spc="-1" strike="noStrike">
                <a:solidFill>
                  <a:srgbClr val="ff0000"/>
                </a:solidFill>
                <a:latin typeface="Impact"/>
              </a:rPr>
              <a:t>TM</a:t>
            </a:r>
            <a:r>
              <a:rPr b="0" lang="en-US" sz="3200" spc="-1" strike="noStrike">
                <a:solidFill>
                  <a:srgbClr val="ffff00"/>
                </a:solidFill>
                <a:latin typeface="Impact"/>
              </a:rPr>
              <a:t> DISELESAIKAN DALAM 1 HARI</a:t>
            </a:r>
            <a:r>
              <a:rPr b="0" lang="en-US" sz="3200" spc="-1" strike="noStrike">
                <a:solidFill>
                  <a:srgbClr val="66ffff"/>
                </a:solidFill>
                <a:latin typeface="Impact"/>
              </a:rPr>
              <a:t>, </a:t>
            </a:r>
            <a:r>
              <a:rPr b="1" lang="en-US" sz="2800" spc="-1" strike="noStrike">
                <a:solidFill>
                  <a:srgbClr val="66ffff"/>
                </a:solidFill>
                <a:latin typeface="Comic Sans MS"/>
              </a:rPr>
              <a:t>MISALNYA 1 HARI MATA PELAJARAN MATEMATIKA 2 sks &amp; FISIKA 2 sks. TM MATEMATIKA DILAKSANAKAN 2 X 45’ = 90’  DILANJUTKAN TM FISIKA 2 X 45’ = 90’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66ffff"/>
                </a:solidFill>
                <a:latin typeface="Comic Sans MS"/>
              </a:rPr>
              <a:t>KEMUDIAN  DITERUSKAN TT MATEMATIKA 90’, DAN TT FISIKA 90’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8DE9-D7D4-410C-A075-3186C0F2292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b2b2b2"/>
                </a:solidFill>
                <a:latin typeface="Arial"/>
              </a:rPr>
              <a:t>ATURAN PENJURUSA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njurusan </a:t>
            </a: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dapa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lak</a:t>
            </a: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sanakan pad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emester</a:t>
            </a: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 pertama tahun pertam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arat Penjurusan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3200" spc="-1" strike="noStrike">
                <a:solidFill>
                  <a:srgbClr val="ffffff"/>
                </a:solidFill>
                <a:latin typeface="Arial"/>
              </a:rPr>
              <a:t>Program IP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Penjurusan program IPA dipertimbangkan berdasarkan nilai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ta Pelajaran Khas jurusan, yaitu :  Fisika, Kimia, dan Biologi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E77A1-C0D8-4EFF-88B1-59D04D429D2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b2b2b2"/>
                </a:solidFill>
                <a:latin typeface="Arial"/>
              </a:rPr>
              <a:t>UU SISDIKNAS TAHUN 2003  PASAL 12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Ayat 1b menyatakan bahwa:“Setiap peserta didik pada setiap satuan pendidikan berhak mendapatkan pelayanan pendidikan sesuai dengan bakat, minat, dan kemampuannya”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Ayat  1f menyataka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bahwa</a:t>
            </a: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: “Peserta didik pada setiap satuan pendidikan berhak menyelesaikan pendidikan sesuai dengan kecepatan belajar masing-masing dan tidak menyimpang dari ketentuan batas waktu yang ditetapkan”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F3D26-7E18-4EDC-800F-217CC230622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3200" spc="-1" strike="noStrike">
                <a:solidFill>
                  <a:srgbClr val="ffffff"/>
                </a:solidFill>
                <a:latin typeface="Arial"/>
              </a:rPr>
              <a:t>Program I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Penjurusan Program IPS dipertimbangkan berdasarkan nilai mata pelajaran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has jurusan </a:t>
            </a: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ekonomi, sosiolog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dan geografi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E39C6-2EBD-4A4A-BB8C-8345C138221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b2b2b2"/>
                </a:solidFill>
                <a:latin typeface="Arial"/>
              </a:rPr>
              <a:t>ATURAN KELULUSA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A. Kelulusan siswa dari tingkat satuan pendidikan dilakukan setiap akhir seme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swa program IPA dan IPS dinyatakan lulus dari tingkat satuan pendidikan apabila memenuhi ketentuan sebagai beriku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1.  Menyelesaikan seluruh program pembelajar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7320" indent="-517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2. Memperoleh nilai minimal baik pada penilaian akhir untuk seluruh mata pelajaran kelompok mata pelajaran agama dan akhlak mulia, kelompok mata pelajaran kewarganegaraan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2162F-6F65-4B70-89AB-F29A12E7D7D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457200"/>
            <a:ext cx="8229600" cy="567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dan kepribadian, kelompok mata pelajaran estetika dan kelompok mata pelajaran jasmani, olah raga dan kesehatan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ulus  Ujian Nas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ulus Ujian Sekola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8387-3E20-4E2E-97DD-E22D9435F9B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b2b2b2"/>
                </a:solidFill>
                <a:latin typeface="Arial"/>
              </a:rPr>
              <a:t>DAFTAR PUSTAKA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Arial"/>
              </a:rPr>
              <a:t>Badan Standar Nasional Pendidikan(2010), Panduan Penyelenggaraan Sistem Kredit Semester. Jakar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Arial"/>
              </a:rPr>
              <a:t>Dr. Herry Widyastono (2010), Penyelenggaraan Sistem Kredit Semester S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ffff"/>
                </a:solidFill>
                <a:latin typeface="Arial"/>
              </a:rPr>
              <a:t>3.   Dr. Herry Widyastono dan Firman Syah Noor M.Pd,  (2010), Panduan Teknis Pengembangan Kurikulum SBI. Jakarta : Depdik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677D-6D8D-4EBD-90F8-744D99B9D13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B6CF-A443-482E-907D-D7CF28DC569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152280" y="2514600"/>
            <a:ext cx="8610840" cy="58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500" spc="-1" strike="noStrike">
                <a:solidFill>
                  <a:srgbClr val="00ffff"/>
                </a:solidFill>
                <a:latin typeface="Rage Italic"/>
              </a:rPr>
              <a:t>Terima Kasih</a:t>
            </a:r>
            <a:endParaRPr b="0" lang="en-US" sz="125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5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b2b2b2"/>
                </a:solidFill>
                <a:latin typeface="Arial"/>
              </a:rPr>
              <a:t>IMPLEMENTASI PAKE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2949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Sistem Paket kurang memberi kesempatan pada peserta didik pada setiap satuan pendidikan untuk menyelesaikan pendidikan sesuai dengan kecepatan belajar masing-mas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F0026-8847-45D3-8592-4BD69D6C0D2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76212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ban belajar dengan S</a:t>
            </a: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istem Paket hanya memberi satu kemungkinan, yaitu seluruh peserta didik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jib </a:t>
            </a: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menggunakan cara yang sama untuk menyelesaikan program belajarnya. Implikasi dari hal tersebut yaitu antara lai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hwa </a:t>
            </a: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peserta didik yang pandai akan dipaksa untuk mengikuti peserta didik lainnya yang memiliki kemampua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n kecepatan belajar standar</a:t>
            </a: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Sistem Paket kurang dapa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ngakomodasi</a:t>
            </a:r>
            <a:r>
              <a:rPr b="0" lang="id-ID" sz="2800" spc="-1" strike="noStrike">
                <a:solidFill>
                  <a:srgbClr val="ffffff"/>
                </a:solidFill>
                <a:latin typeface="Arial"/>
              </a:rPr>
              <a:t> kemajemukan potensi peserta didi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8010-D456-4FBC-A219-CEF9853C0D1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533520"/>
            <a:ext cx="8229600" cy="55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Melalui Paket, peserta didik tida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dimungkinkan untuk menyelesaikan program pendidikannya lebih cepa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ri periode belajar yang ditentukan dalam setiap satuan pendidikan</a:t>
            </a: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Sistem pembelajaran semacam itu dianggap kurang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mberikan ruang yang </a:t>
            </a: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demokratis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gi pengembangan potensi</a:t>
            </a: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 peserta didik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ang mencakup </a:t>
            </a: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kemampuan, bakat, dan mina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4062E-F374-4BB3-968B-2B863824E05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5ACE-51A8-48ED-99B3-86B06B6335B2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6ffff"/>
                </a:solidFill>
                <a:latin typeface="Showcard Gothic"/>
              </a:rPr>
              <a:t>KATEGORI SEKOLAH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457200" y="2971800"/>
            <a:ext cx="8229600" cy="312408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1981080" y="1905120"/>
            <a:ext cx="670572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5181480" y="1143000"/>
            <a:ext cx="3505320" cy="762120"/>
          </a:xfrm>
          <a:prstGeom prst="rect">
            <a:avLst/>
          </a:prstGeom>
          <a:solidFill>
            <a:srgbClr val="00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457200" y="41148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SEKOLAH KATEGORI STANDA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3048120" y="205740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SEKOLAH KATEGORI MANDIRI </a:t>
            </a:r>
            <a:r>
              <a:rPr b="1" lang="en-US" sz="2400" spc="-1" strike="noStrike">
                <a:solidFill>
                  <a:srgbClr val="000000"/>
                </a:solidFill>
                <a:latin typeface="Agency FB"/>
              </a:rPr>
              <a:t>(SEKOLAH STANDAR NASIONAL / SS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5334120" y="11430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Impact"/>
              </a:rPr>
              <a:t>SEKOLAH BERTARAF INTERNASIONAL (SBI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AutoShape 13"/>
          <p:cNvSpPr/>
          <p:nvPr/>
        </p:nvSpPr>
        <p:spPr>
          <a:xfrm>
            <a:off x="914400" y="1600200"/>
            <a:ext cx="533520" cy="990720"/>
          </a:xfrm>
          <a:prstGeom prst="upArrow">
            <a:avLst>
              <a:gd name="adj1" fmla="val 50000"/>
              <a:gd name="adj2" fmla="val 46424"/>
            </a:avLst>
          </a:prstGeom>
          <a:gradFill rotWithShape="0">
            <a:gsLst>
              <a:gs pos="0">
                <a:srgbClr val="0066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Rectangle 14"/>
          <p:cNvSpPr/>
          <p:nvPr/>
        </p:nvSpPr>
        <p:spPr>
          <a:xfrm>
            <a:off x="1981080" y="1143000"/>
            <a:ext cx="3200400" cy="762120"/>
          </a:xfrm>
          <a:prstGeom prst="rect">
            <a:avLst/>
          </a:pr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SEKOLAH BERBASIS KEUNGGULAN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Impact"/>
              </a:rPr>
              <a:t>LOKAL (SBKL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1981080" y="1371600"/>
            <a:ext cx="3200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B061-FDBC-4708-9193-079F11AAF79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800" spc="-1" strike="noStrike">
                <a:solidFill>
                  <a:srgbClr val="00b0f0"/>
                </a:solidFill>
                <a:latin typeface="Showcard Gothic"/>
              </a:rPr>
              <a:t>PP 19 TAHUN 2005</a:t>
            </a:r>
            <a:br>
              <a:rPr sz="4800"/>
            </a:br>
            <a:r>
              <a:rPr b="1" lang="id-ID" sz="2800" spc="-1" strike="noStrike">
                <a:solidFill>
                  <a:srgbClr val="0070c0"/>
                </a:solidFill>
                <a:latin typeface="Agency FB"/>
              </a:rPr>
              <a:t>TENTANG STANDAR NASIONAL PENDIDIKAN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30592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BEBAN BELAJAR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MA/SMK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PADA JALUR PENDIDIKAN FORMAL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KATEGORI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TANDAR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 Rounded MT Bold"/>
              </a:rPr>
              <a:t>DAPAT</a:t>
            </a:r>
            <a:r>
              <a:rPr b="1" lang="en-US" sz="28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DINYATAKAN DALAM </a:t>
            </a:r>
            <a:r>
              <a:rPr b="1" lang="en-US" sz="3200" spc="-1" strike="noStrike">
                <a:solidFill>
                  <a:srgbClr val="ffff00"/>
                </a:solidFill>
                <a:latin typeface="Showcard Gothic"/>
              </a:rPr>
              <a:t>S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BEBAN BELAJAR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MA/SMK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 PADA JALUR PENDIDIKAN FORMAL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KATEGORI MANDIRI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[&amp;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ERTARAF INTERNASIONAL]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ff00"/>
                </a:solidFill>
                <a:latin typeface="Arial Rounded MT Bold"/>
              </a:rPr>
              <a:t>DINYATAKAN </a:t>
            </a:r>
            <a:r>
              <a:rPr b="1" lang="en-US" sz="2800" spc="-1" strike="noStrike">
                <a:solidFill>
                  <a:srgbClr val="00ff00"/>
                </a:solidFill>
                <a:latin typeface="Comic Sans MS"/>
              </a:rPr>
              <a:t>DALAM </a:t>
            </a:r>
            <a:r>
              <a:rPr b="0" lang="en-US" sz="3200" spc="-1" strike="noStrike">
                <a:solidFill>
                  <a:srgbClr val="00ff00"/>
                </a:solidFill>
                <a:latin typeface="Showcard Gothic"/>
              </a:rPr>
              <a:t>S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9D45-1815-4978-9A7C-CA304458E4B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153280" cy="1017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b0f0"/>
                </a:solidFill>
                <a:latin typeface="Showcard Gothic"/>
              </a:rPr>
              <a:t>PERMENDIKNAS TAHUN 2006</a:t>
            </a:r>
            <a:br>
              <a:rPr sz="4000"/>
            </a:br>
            <a:r>
              <a:rPr b="0" lang="id-ID" sz="4000" spc="-1" strike="noStrike">
                <a:solidFill>
                  <a:srgbClr val="00b0f0"/>
                </a:solidFill>
                <a:latin typeface="Showcard Gothic"/>
              </a:rPr>
              <a:t>Nomor 22 ttg StaNDAR iSI</a:t>
            </a:r>
            <a:br>
              <a:rPr sz="40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Satuan pendidikan pada semua jenis dan jenjang pendidikan menyelenggarakan program pendidikan dengan menggunakan sistem paket atau sistem kredit semes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2)</a:t>
            </a:r>
            <a:r>
              <a:rPr b="0" lang="id-ID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tuan pendidikan SMA/MA/SMALB dan SMK/MAK kategori mandiri menggunakan sistem kredit semes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4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MM</cp:lastModifiedBy>
  <dcterms:modified xsi:type="dcterms:W3CDTF">2012-05-30T16:27:29Z</dcterms:modified>
  <cp:revision>5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