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CFE-72AA-4869-BB83-9B94D658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3DE-E767-4766-85DA-B6E60C72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2FB-C580-4B61-A67E-8A182C6B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AE2-324A-44B7-9E72-4C1E5B36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1E4-C529-44B6-980C-6B60A29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18B-4390-499F-8486-D044E975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8C4-960F-4C9E-8272-09242DEB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A50-8A56-4284-986F-5A20ED70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40D-1291-40A2-AA68-C7C8BE7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A15-D813-42E2-8499-8BD78AE2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185-7711-4D04-BCFA-2CB194B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B09-1DFE-46AF-8860-DB70996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69C5E-327E-4AF6-A5EC-AA8628669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4EF6E-9C0D-4D9E-87C2-64209CFE4A2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6:58:25Z</dcterms:created>
  <dc:creator>최봉수</dc:creator>
  <dc:description/>
  <dc:language>en-US</dc:language>
  <cp:lastModifiedBy>군만두 맛있다</cp:lastModifiedBy>
  <dcterms:modified xsi:type="dcterms:W3CDTF">2023-07-12T05:45:12Z</dcterms:modified>
  <cp:revision>2</cp:revision>
  <dc:subject/>
  <dc:title>슬라이드 1</dc:title>
</cp:coreProperties>
</file>