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E0C-9D79-4FFD-910A-E2D68759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B2B-0727-4B44-ACE8-85E921C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5A3-E759-4A6B-8DE3-1B469A66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16E-E022-4C22-A727-159B8E67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8CA-E086-4BA8-AEBD-DC272F5E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D8C-59B2-4BEF-AECF-FDCCECCA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78C-3913-4EF4-B8BF-CDF42A2D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5F7-7BD1-4233-92A4-D8F33F4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F4A-C4DE-4C8C-92C0-F5B77014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B6D-8857-4E19-A852-C5E0D35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7C6-09A1-4E0D-A77F-2ED5386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B0F-627A-4D58-B831-46D3466A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867A2-0FD5-45EA-907E-47C9DBD92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9D2B1-849F-41DF-8E00-32F5DC3A851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6:58:25Z</dcterms:created>
  <dc:creator>최봉수</dc:creator>
  <dc:description/>
  <dc:language>en-US</dc:language>
  <cp:lastModifiedBy>군만두 맛있다</cp:lastModifiedBy>
  <dcterms:modified xsi:type="dcterms:W3CDTF">2023-07-12T05:45:12Z</dcterms:modified>
  <cp:revision>2</cp:revision>
  <dc:subject/>
  <dc:title>슬라이드 1</dc:title>
</cp:coreProperties>
</file>