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457-DDF5-42E7-889D-6E6F83E8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5B9-DCC5-4C03-A43B-35844C40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AB4-31C1-4B3E-AC5C-7D3B0784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CAB-7ACD-4251-B923-8E6AF49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A39-478A-4D6A-A8E7-077415C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74D-69E1-4C29-ADFD-015E77D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9F8-AF16-4AFB-AC74-CDB1DCE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B0B-AF2C-426A-BD91-0C8DFFB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C77-E43F-4B78-A575-5994F40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FF5-1BA7-4FAB-A1E6-A32ED56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E9D-9A4C-4B1D-9235-95C227D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99D-0F2A-4EC6-B753-B65E9B9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864E3-6C22-45ED-99AC-F9C366A23F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1C4F7-1833-45B2-B48D-10E96993D48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58:01Z</dcterms:created>
  <dc:creator>최봉수</dc:creator>
  <dc:description/>
  <dc:language>en-US</dc:language>
  <cp:lastModifiedBy>맛있다 군만두</cp:lastModifiedBy>
  <dcterms:modified xsi:type="dcterms:W3CDTF">2023-07-13T11:10:54Z</dcterms:modified>
  <cp:revision>3</cp:revision>
  <dc:subject/>
  <dc:title>슬라이드 1</dc:title>
</cp:coreProperties>
</file>