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B3B-623F-416F-814D-682EA9FD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429-EB1B-43D9-9044-8DD0BC7F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2DB-5AE6-42CD-99B8-DB4BECF6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343-7C9E-44DF-83A0-42831CDE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F0A-4C09-4FAD-B84B-8F50A934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92A-B150-47FA-9E9E-78A501D4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86A-5D04-460D-82F3-A9BCF562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6DE-5745-4738-9485-2337E310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E0D-ECFD-4904-9AB4-6FED6E3D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363-B4DB-4959-A250-C7563B3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27A-F596-4572-93D9-5EE34854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38D-7621-4756-BD10-361C67B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972C6-DC83-4A9D-A9D3-985EE727F47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F6850-1B5F-4F74-BD56-7A48DDAF722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7:58:01Z</dcterms:created>
  <dc:creator>최봉수</dc:creator>
  <dc:description/>
  <dc:language>en-US</dc:language>
  <cp:lastModifiedBy>맛있다 군만두</cp:lastModifiedBy>
  <dcterms:modified xsi:type="dcterms:W3CDTF">2023-07-13T11:10:54Z</dcterms:modified>
  <cp:revision>3</cp:revision>
  <dc:subject/>
  <dc:title>슬라이드 1</dc:title>
</cp:coreProperties>
</file>