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10F-5877-4498-A8AA-2A692ABE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8CB-1A0B-4914-96D5-4EA7394B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A2B-B423-48CA-A28F-0ED2855B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28D-0C4B-4AB9-B0A1-BA8509C0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200-2D74-4B53-AAFA-5E8F504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39C-185F-4EAF-8472-DB338F75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CEC-6CDF-43FC-90B6-A0FBC65E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124-BF0A-436E-855A-2D04B750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6A2-A472-42C8-A0A3-8F10C17E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753-B577-488E-AE01-3EFE444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92B-8628-453F-9B54-6CD450F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104-3393-4031-A883-4E780C60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76DF3-D168-40E3-A8FB-C60131769C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A1054-4FF5-4ACC-9792-1222AF0753C9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8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1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3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4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6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7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50:58Z</dcterms:created>
  <dc:creator>최봉수</dc:creator>
  <dc:description/>
  <dc:language>en-US</dc:language>
  <cp:lastModifiedBy>맛있다 군만두</cp:lastModifiedBy>
  <dcterms:modified xsi:type="dcterms:W3CDTF">2024-10-01T02:45:50Z</dcterms:modified>
  <cp:revision>4</cp:revision>
  <dc:subject/>
  <dc:title>슬라이드 1</dc:title>
</cp:coreProperties>
</file>