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D19-D760-476B-B521-ADB5014C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894-F208-467D-844B-6378430D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F61-BAD2-446D-8E0F-3A0A5AD7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0D2-121C-49CC-B95A-DC3539FF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336-FF67-4D6C-B16C-020310A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CF0-8D5D-48B3-8E63-F8B0537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1BD-00D5-402D-9D9C-FC6B366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F12-01F3-4FB1-9ED1-3958CBF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DF9-7C0A-4452-A330-9475BF84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39E-E5BD-42D6-90A7-64B11DF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6D6-61B5-4488-915A-367D8BD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70C-5D39-497F-90E6-171F773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80160-B6FB-4ED0-AF51-69AB5B4EF1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A40D7-93F7-4191-BB80-42F07E7018EF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4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6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7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50:58Z</dcterms:created>
  <dc:creator>최봉수</dc:creator>
  <dc:description/>
  <dc:language>en-US</dc:language>
  <cp:lastModifiedBy>맛있다 군만두</cp:lastModifiedBy>
  <dcterms:modified xsi:type="dcterms:W3CDTF">2024-10-01T02:45:50Z</dcterms:modified>
  <cp:revision>4</cp:revision>
  <dc:subject/>
  <dc:title>슬라이드 1</dc:title>
</cp:coreProperties>
</file>