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969-CB50-420A-A0F9-8663733B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102-C0DF-44FD-916A-E0931493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51A-2363-4A02-A14A-927349BD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EA5-9CA4-4F30-AB58-5C89488C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CF8-1F77-454B-805D-77CEA95E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33D-86EA-49E2-9F89-D1A90BAA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999-162D-4EC9-BAF3-9B7ACD5B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04D-8169-46B5-8D7E-6A8861A5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E7A-3463-494E-96A1-DFF0D97B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9D0-589E-46EF-8A5D-3600868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876-1606-40A4-9D56-D24BBDE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FC3-87A9-45A7-96B5-87E0ABF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114D3-0A9C-4DC5-BAB1-2C9B558EA2E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0D7C5-F0B5-4839-A3EA-2CE938B129A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8:05:26Z</dcterms:created>
  <dc:creator>최봉수</dc:creator>
  <dc:description/>
  <dc:language>en-US</dc:language>
  <cp:lastModifiedBy>맛있다 군만두</cp:lastModifiedBy>
  <dcterms:modified xsi:type="dcterms:W3CDTF">2024-09-24T08:19:13Z</dcterms:modified>
  <cp:revision>3</cp:revision>
  <dc:subject/>
  <dc:title>슬라이드 1</dc:title>
</cp:coreProperties>
</file>