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130A-AF7B-4FCB-BB6E-86266742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EEF-9F01-4394-9035-D46CA812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E01-62BA-4584-BCFA-AACB122D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1072-4FBD-4372-A917-B42BE594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28D-22F8-4921-9F22-5CA7501C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C8A-8B47-4224-A65A-7148AF11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4A19-B5EA-4A8B-9AF0-57A06DDF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AAC-3400-407C-8BD4-B682378E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B8D4-9D99-44BC-BFF5-0A77B477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C79A-4EFA-4836-87FF-78C175C5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21F-0AB5-4B5F-83CA-5CDF4577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919A-89DE-488F-B823-29CE863A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8BEB7-FBC6-4097-BECF-3FD3B6EBA1B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F2B9E-6F8E-457D-B1C7-36BDF89E3E06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7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5.xml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3.xml"/><Relationship Id="rId12" Type="http://schemas.openxmlformats.org/officeDocument/2006/relationships/image" Target="../media/image3.png"/><Relationship Id="rId13" Type="http://schemas.openxmlformats.org/officeDocument/2006/relationships/slide" Target="slide1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slide" Target="slide3.xml"/><Relationship Id="rId8" Type="http://schemas.openxmlformats.org/officeDocument/2006/relationships/image" Target="../media/image3.png"/><Relationship Id="rId9" Type="http://schemas.openxmlformats.org/officeDocument/2006/relationships/slide" Target="slide3.xml"/><Relationship Id="rId10" Type="http://schemas.openxmlformats.org/officeDocument/2006/relationships/image" Target="../media/image3.png"/><Relationship Id="rId11" Type="http://schemas.openxmlformats.org/officeDocument/2006/relationships/slide" Target="slide1.xml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1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2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3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6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9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10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1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5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6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08:05:26Z</dcterms:created>
  <dc:creator>최봉수</dc:creator>
  <dc:description/>
  <dc:language>en-US</dc:language>
  <cp:lastModifiedBy>맛있다 군만두</cp:lastModifiedBy>
  <dcterms:modified xsi:type="dcterms:W3CDTF">2024-09-24T08:19:13Z</dcterms:modified>
  <cp:revision>3</cp:revision>
  <dc:subject/>
  <dc:title>슬라이드 1</dc:title>
</cp:coreProperties>
</file>