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7DFC-7923-4920-B2B2-C4943C37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31E8-1BC2-4DAD-A808-009485AD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83B0-92BE-4441-8A5F-B88A1649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389B-5F7A-4E9B-8021-93D18FD6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A43F-6F26-4692-9142-DDAE93ED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E086-D65E-4705-8FA9-21065E00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E963-6569-4BDB-9100-8B0E5828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F65A-2EFF-4A75-919C-2C7AF2B7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B2D4-963E-4CEC-963C-B54FDB49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E15E-541C-4C1B-844A-4D08D96E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22F1-525D-4409-B855-9C3F71F4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C09C-4AC4-418D-B280-AB3F6099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1A157-5F47-43A8-B2D2-E316451A3B2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F0E95B-CA77-4262-85D2-2DB176C96103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1">
              <a:hlinkClick r:id="rId7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3" descr=""/>
            <p:cNvPicPr/>
            <p:nvPr/>
          </p:nvPicPr>
          <p:blipFill>
            <a:blip r:embed="rId8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4">
              <a:hlinkClick r:id="rId9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0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3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17" descr=""/>
          <p:cNvPicPr/>
          <p:nvPr/>
        </p:nvPicPr>
        <p:blipFill>
          <a:blip r:embed="rId13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14:48:06Z</dcterms:created>
  <dc:creator>최봉수</dc:creator>
  <dc:description/>
  <dc:language>en-US</dc:language>
  <cp:lastModifiedBy>맛있다 군만두</cp:lastModifiedBy>
  <dcterms:modified xsi:type="dcterms:W3CDTF">2024-09-24T08:17:53Z</dcterms:modified>
  <cp:revision>4</cp:revision>
  <dc:subject/>
  <dc:title>슬라이드 1</dc:title>
</cp:coreProperties>
</file>