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510-93AC-488C-8BD7-6BABB0D0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F4D-766F-4959-8E59-C7B735D0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261-B902-4879-9A0D-1E417C56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AB7-98BC-4766-9021-7DF06996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8B1-6F1B-41B6-8224-BDABBF30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FC4-AFD7-4B5C-A6D8-B2B9F609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B07-4628-4F20-BF2C-C73646A8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9E0-9655-441F-BE5E-02DED63F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D6F-43E1-4A27-9870-A4EC5D4B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4AF-ED9B-4C0D-A9A9-E85012DF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016-0CAB-4BDC-9013-D80BBECA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BF3-70CA-4F2C-A5D8-97DD4336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4C0B5-5858-418C-B379-547A5A74792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67171-D24B-42B1-8F24-D4C66A0F5D6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0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17" descr=""/>
          <p:cNvPicPr/>
          <p:nvPr/>
        </p:nvPicPr>
        <p:blipFill>
          <a:blip r:embed="rId13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4:48:06Z</dcterms:created>
  <dc:creator>최봉수</dc:creator>
  <dc:description/>
  <dc:language>en-US</dc:language>
  <cp:lastModifiedBy>맛있다 군만두</cp:lastModifiedBy>
  <dcterms:modified xsi:type="dcterms:W3CDTF">2024-09-24T08:17:53Z</dcterms:modified>
  <cp:revision>4</cp:revision>
  <dc:subject/>
  <dc:title>슬라이드 1</dc:title>
</cp:coreProperties>
</file>