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4.png" ContentType="image/png"/>
  <Override PartName="/ppt/media/image17.wmf" ContentType="image/x-wmf"/>
  <Override PartName="/ppt/media/image13.png" ContentType="image/png"/>
  <Override PartName="/ppt/media/image37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7D6-58FC-4E55-BD0F-E4A94312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DDA-CEFA-4CC2-A91C-C845DEBE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D86-783B-4910-9FC0-C3A1DDBC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4BF-9B42-46B1-982E-92B332DA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12C-BEB6-46FB-A9DA-1F8E64C9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D9C-0AEB-452F-AC0A-02E6056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FEB4-0038-4E80-AAF8-73CACC3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BA9-C551-4328-9257-DB27B6C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D33B-5719-46E9-9F64-2324ECD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CE18-3F89-4880-A1E2-E5E07D8B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8514-5DBE-469B-A910-F797280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6FF-EE8C-4836-928B-7AA992B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27DF-8535-42DC-91C9-2EA5C41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F6D2-1795-4F43-BB41-147B210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CBD8-B65E-4DA3-88BE-4559BA9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464E-F583-4C5F-8A30-B21B12C6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B84-6F53-4C89-BC48-B9F1F3BD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BB5-D808-49FF-BB8A-0B9CB368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EFC-3FD1-42B5-B764-D7F2B41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6C9-3FB9-4F9B-B67A-89C156CB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E5F-0C93-4F26-8011-2A67EF61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65F-E81D-45EA-B1F3-4AD4A66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CAB-FB61-40FC-A52F-7C6FB49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210-FEFB-42CD-A05F-61A90FE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5E1-4FBE-4362-B26D-71B4D4ADD55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461C-E09A-455D-B525-E3A1976CFD2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647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ropods of Medical Importanc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3716280"/>
            <a:ext cx="4608360" cy="2699280"/>
          </a:xfrm>
          <a:prstGeom prst="rect">
            <a:avLst/>
          </a:prstGeom>
          <a:noFill/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edical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echanism of disease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4643280" y="378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Practical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3851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Reading for oral)</a:t>
            </a:r>
            <a:r>
              <a:rPr b="0" lang="ar-EG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340000" y="220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7596360" y="2997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7596360" y="6165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ulex mosquito 1"/>
          <p:cNvPicPr/>
          <p:nvPr/>
        </p:nvPicPr>
        <p:blipFill>
          <a:blip r:embed="rId1"/>
          <a:stretch/>
        </p:blipFill>
        <p:spPr>
          <a:xfrm>
            <a:off x="250920" y="91440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cap\Pictures\sandfly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484360" y="1413000"/>
            <a:ext cx="1166760" cy="79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79280" y="2781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usca domestica 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211640" y="1008000"/>
            <a:ext cx="138420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442764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female Cimex"/>
          <p:cNvPicPr/>
          <p:nvPr/>
        </p:nvPicPr>
        <p:blipFill>
          <a:blip r:embed="rId4"/>
          <a:stretch/>
        </p:blipFill>
        <p:spPr>
          <a:xfrm>
            <a:off x="7451640" y="981000"/>
            <a:ext cx="125100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zza\Desktop\f pulex.gif"/>
          <p:cNvPicPr/>
          <p:nvPr/>
        </p:nvPicPr>
        <p:blipFill>
          <a:blip r:embed="rId5"/>
          <a:stretch/>
        </p:blipFill>
        <p:spPr>
          <a:xfrm>
            <a:off x="250920" y="3500280"/>
            <a:ext cx="1728720" cy="1808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111600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Pediculus male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5867280" y="950760"/>
            <a:ext cx="1376640" cy="2190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5"/>
          <p:cNvSpPr/>
          <p:nvPr/>
        </p:nvSpPr>
        <p:spPr>
          <a:xfrm>
            <a:off x="6012000" y="306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8" descr="hard tick male"/>
          <p:cNvPicPr/>
          <p:nvPr/>
        </p:nvPicPr>
        <p:blipFill>
          <a:blip r:embed="rId7"/>
          <a:stretch/>
        </p:blipFill>
        <p:spPr>
          <a:xfrm>
            <a:off x="7265880" y="3500280"/>
            <a:ext cx="1693800" cy="1729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9"/>
          <p:cNvSpPr/>
          <p:nvPr/>
        </p:nvSpPr>
        <p:spPr>
          <a:xfrm>
            <a:off x="7524720" y="501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ust mite"/>
          <p:cNvPicPr/>
          <p:nvPr/>
        </p:nvPicPr>
        <p:blipFill>
          <a:blip r:embed="rId8"/>
          <a:stretch/>
        </p:blipFill>
        <p:spPr>
          <a:xfrm>
            <a:off x="7667640" y="562284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yclops"/>
          <p:cNvPicPr/>
          <p:nvPr/>
        </p:nvPicPr>
        <p:blipFill>
          <a:blip r:embed="rId9"/>
          <a:stretch/>
        </p:blipFill>
        <p:spPr>
          <a:xfrm>
            <a:off x="179280" y="5373720"/>
            <a:ext cx="1594080" cy="1198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3"/>
          <p:cNvSpPr/>
          <p:nvPr/>
        </p:nvSpPr>
        <p:spPr>
          <a:xfrm>
            <a:off x="250920" y="623736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yc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414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diagnosis is an important tool for diagnosis of Toxoplasm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5157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mpling may be impossible or hazardous e.g. cerebral toxoplasm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250920" y="981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nsidered an opportunistic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250920" y="1484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oxoplasmosis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symptom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 the great majority of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250920" y="2276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f it infects an immunocompromized patient, the pat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vel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cute dissemin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oxoplasm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at may end fat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476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4 cerebral complications for congenital toxoplasm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- Hydroceph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 Micro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- Conv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- mental retar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ydrocephalus"/>
          <p:cNvPicPr/>
          <p:nvPr/>
        </p:nvPicPr>
        <p:blipFill>
          <a:blip r:embed="rId1"/>
          <a:stretch/>
        </p:blipFill>
        <p:spPr>
          <a:xfrm>
            <a:off x="6732720" y="1700280"/>
            <a:ext cx="1798560" cy="180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images"/>
          <p:cNvPicPr/>
          <p:nvPr/>
        </p:nvPicPr>
        <p:blipFill>
          <a:blip r:embed="rId2"/>
          <a:stretch/>
        </p:blipFill>
        <p:spPr>
          <a:xfrm>
            <a:off x="4427640" y="1700280"/>
            <a:ext cx="1873080" cy="182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convulsions"/>
          <p:cNvPicPr/>
          <p:nvPr/>
        </p:nvPicPr>
        <p:blipFill>
          <a:blip r:embed="rId3"/>
          <a:stretch/>
        </p:blipFill>
        <p:spPr>
          <a:xfrm>
            <a:off x="4788000" y="3789360"/>
            <a:ext cx="31687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ffffff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toxoplasmosis CAN NOT OCCUR when mothers have latent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ngenital toxoplasmosis CAN OCCUR when mothers have latent infection when they becom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mmunosuppressed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and their old dormant infection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lare up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resulting in parasitaemia thus infecting the foe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6659640" y="1773360"/>
            <a:ext cx="1871640" cy="7905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58000" y="1916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533520" y="23623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tent infection means pa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crosporidi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4724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057400" y="990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microsporid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microsporidia electron micr"/>
          <p:cNvPicPr/>
          <p:nvPr/>
        </p:nvPicPr>
        <p:blipFill>
          <a:blip r:embed="rId1"/>
          <a:stretch/>
        </p:blipFill>
        <p:spPr>
          <a:xfrm>
            <a:off x="5943600" y="2286000"/>
            <a:ext cx="2652840" cy="24890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547056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e spore as seen by the electron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57200" y="571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sidered one of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pportunistic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9" descr="microsp 1 - Copy"/>
          <p:cNvPicPr/>
          <p:nvPr/>
        </p:nvPicPr>
        <p:blipFill>
          <a:blip r:embed="rId2"/>
          <a:stretch/>
        </p:blipFill>
        <p:spPr>
          <a:xfrm>
            <a:off x="7162920" y="1676520"/>
            <a:ext cx="255600" cy="304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315200" y="16002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x 5 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228600" y="2438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ore is th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fectiv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280" y="1523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crosporidia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e form of sp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228600" y="30481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of infection: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30492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ges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11430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a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15238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ular expo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Geographical Distribution of Microspori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Geog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07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8683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Microsporidia in infected huma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microsp 2"/>
          <p:cNvPicPr/>
          <p:nvPr/>
        </p:nvPicPr>
        <p:blipFill>
          <a:blip r:embed="rId1"/>
          <a:stretch/>
        </p:blipFill>
        <p:spPr>
          <a:xfrm>
            <a:off x="1295280" y="2133720"/>
            <a:ext cx="1143000" cy="55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microsp 3"/>
          <p:cNvPicPr/>
          <p:nvPr/>
        </p:nvPicPr>
        <p:blipFill>
          <a:blip r:embed="rId2"/>
          <a:stretch/>
        </p:blipFill>
        <p:spPr>
          <a:xfrm>
            <a:off x="2438280" y="2057400"/>
            <a:ext cx="100008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microsp 4"/>
          <p:cNvPicPr/>
          <p:nvPr/>
        </p:nvPicPr>
        <p:blipFill>
          <a:blip r:embed="rId3"/>
          <a:stretch/>
        </p:blipFill>
        <p:spPr>
          <a:xfrm>
            <a:off x="3581280" y="205740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microsp 5"/>
          <p:cNvPicPr/>
          <p:nvPr/>
        </p:nvPicPr>
        <p:blipFill>
          <a:blip r:embed="rId4"/>
          <a:stretch/>
        </p:blipFill>
        <p:spPr>
          <a:xfrm>
            <a:off x="5486400" y="2057400"/>
            <a:ext cx="981000" cy="1981080"/>
          </a:xfrm>
          <a:prstGeom prst="rect">
            <a:avLst/>
          </a:prstGeom>
          <a:ln w="0">
            <a:noFill/>
          </a:ln>
        </p:spPr>
      </p:pic>
      <p:sp>
        <p:nvSpPr>
          <p:cNvPr id="230" name="Line 17"/>
          <p:cNvSpPr/>
          <p:nvPr/>
        </p:nvSpPr>
        <p:spPr>
          <a:xfrm flipH="1">
            <a:off x="838080" y="4952880"/>
            <a:ext cx="79250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 flipV="1">
            <a:off x="838080" y="3504960"/>
            <a:ext cx="0" cy="1447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182880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1295280" y="3048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olar 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 flipV="1">
            <a:off x="434340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3581280" y="31240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poropla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p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17524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atient’s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27432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2438280" y="23623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-pla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0" descr="Microsp 6"/>
          <p:cNvPicPr/>
          <p:nvPr/>
        </p:nvPicPr>
        <p:blipFill>
          <a:blip r:embed="rId5"/>
          <a:stretch/>
        </p:blipFill>
        <p:spPr>
          <a:xfrm>
            <a:off x="6477120" y="2057400"/>
            <a:ext cx="9903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1" descr="Microsp 6 - Copy"/>
          <p:cNvPicPr/>
          <p:nvPr/>
        </p:nvPicPr>
        <p:blipFill>
          <a:blip r:embed="rId6"/>
          <a:stretch/>
        </p:blipFill>
        <p:spPr>
          <a:xfrm>
            <a:off x="6705720" y="2438280"/>
            <a:ext cx="550800" cy="838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microsp 7"/>
          <p:cNvPicPr/>
          <p:nvPr/>
        </p:nvPicPr>
        <p:blipFill>
          <a:blip r:embed="rId7"/>
          <a:stretch/>
        </p:blipFill>
        <p:spPr>
          <a:xfrm>
            <a:off x="7467480" y="2057400"/>
            <a:ext cx="1370160" cy="198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4" descr="microsp 7 - Copy"/>
          <p:cNvPicPr/>
          <p:nvPr/>
        </p:nvPicPr>
        <p:blipFill>
          <a:blip r:embed="rId8"/>
          <a:stretch/>
        </p:blipFill>
        <p:spPr>
          <a:xfrm>
            <a:off x="7848720" y="2438280"/>
            <a:ext cx="990360" cy="887400"/>
          </a:xfrm>
          <a:prstGeom prst="rect">
            <a:avLst/>
          </a:prstGeom>
          <a:ln w="0">
            <a:noFill/>
          </a:ln>
        </p:spPr>
      </p:pic>
      <p:sp>
        <p:nvSpPr>
          <p:cNvPr id="244" name="Line 35"/>
          <p:cNvSpPr/>
          <p:nvPr/>
        </p:nvSpPr>
        <p:spPr>
          <a:xfrm>
            <a:off x="8763120" y="3048120"/>
            <a:ext cx="0" cy="1904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6019920" y="4114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porogo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7" descr="microsp 1 - Copy"/>
          <p:cNvPicPr/>
          <p:nvPr/>
        </p:nvPicPr>
        <p:blipFill>
          <a:blip r:embed="rId9"/>
          <a:stretch/>
        </p:blipFill>
        <p:spPr>
          <a:xfrm>
            <a:off x="457200" y="2209680"/>
            <a:ext cx="314280" cy="263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9" descr="microsp 1 - Copy"/>
          <p:cNvPicPr/>
          <p:nvPr/>
        </p:nvPicPr>
        <p:blipFill>
          <a:blip r:embed="rId10"/>
          <a:stretch/>
        </p:blipFill>
        <p:spPr>
          <a:xfrm>
            <a:off x="457200" y="2666880"/>
            <a:ext cx="304920" cy="255600"/>
          </a:xfrm>
          <a:prstGeom prst="rect">
            <a:avLst/>
          </a:prstGeom>
          <a:ln w="0">
            <a:noFill/>
          </a:ln>
        </p:spPr>
      </p:pic>
      <p:sp>
        <p:nvSpPr>
          <p:cNvPr id="248" name="Line 41"/>
          <p:cNvSpPr/>
          <p:nvPr/>
        </p:nvSpPr>
        <p:spPr>
          <a:xfrm>
            <a:off x="914400" y="2362320"/>
            <a:ext cx="3049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685800" y="5029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leased spores re-infect new cells ending in their ru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71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 and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04920" y="9144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form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380880" y="167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, prolonged diarrhoea (AIDS), malabsorption &amp; dehyd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2286000" y="1981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estinal microsporid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04920" y="2819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vitis, keratitis, corneal ulcers (healthy and HIV pati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236232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cular microsporid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228600" y="4724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muscle weakness, fever, myalgia, weight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962520" y="5029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crospridial myo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304920" y="5715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several systems: intestinal, biliary tract, ocular, hepatic, renal and respiratory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457200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ystemic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azza\Desktop\conjunctivitis.jpg"/>
          <p:cNvPicPr/>
          <p:nvPr/>
        </p:nvPicPr>
        <p:blipFill>
          <a:blip r:embed="rId1"/>
          <a:stretch/>
        </p:blipFill>
        <p:spPr>
          <a:xfrm>
            <a:off x="6934320" y="3276720"/>
            <a:ext cx="1981080" cy="1423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C:\Users\azza\Desktop\images.jpg"/>
          <p:cNvPicPr/>
          <p:nvPr/>
        </p:nvPicPr>
        <p:blipFill>
          <a:blip r:embed="rId2"/>
          <a:stretch/>
        </p:blipFill>
        <p:spPr>
          <a:xfrm>
            <a:off x="3429000" y="3657600"/>
            <a:ext cx="1046160" cy="98892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14"/>
          <p:cNvCxnSpPr>
            <a:stCxn id="263" idx="3"/>
          </p:cNvCxnSpPr>
          <p:nvPr/>
        </p:nvCxnSpPr>
        <p:spPr>
          <a:xfrm flipV="1">
            <a:off x="6857640" y="4190760"/>
            <a:ext cx="76284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15"/>
          <p:cNvSpPr/>
          <p:nvPr/>
        </p:nvSpPr>
        <p:spPr>
          <a:xfrm>
            <a:off x="48769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v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7"/>
          <p:cNvCxnSpPr/>
          <p:nvPr/>
        </p:nvCxnSpPr>
        <p:spPr>
          <a:xfrm flipV="1">
            <a:off x="3047760" y="4266360"/>
            <a:ext cx="610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TextBox 19"/>
          <p:cNvSpPr/>
          <p:nvPr/>
        </p:nvSpPr>
        <p:spPr>
          <a:xfrm>
            <a:off x="17524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8"/>
          <p:cNvSpPr/>
          <p:nvPr/>
        </p:nvSpPr>
        <p:spPr>
          <a:xfrm>
            <a:off x="3049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Intestinal inf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3808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Ocular inf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534160" cy="70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says are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microsporidia stained"/>
          <p:cNvPicPr/>
          <p:nvPr/>
        </p:nvPicPr>
        <p:blipFill>
          <a:blip r:embed="rId1"/>
          <a:stretch/>
        </p:blipFill>
        <p:spPr>
          <a:xfrm>
            <a:off x="6781680" y="1143000"/>
            <a:ext cx="1933560" cy="148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1" name="Picture 5" descr="microsporidia electron micr"/>
          <p:cNvPicPr/>
          <p:nvPr/>
        </p:nvPicPr>
        <p:blipFill>
          <a:blip r:embed="rId2"/>
          <a:stretch/>
        </p:blipFill>
        <p:spPr>
          <a:xfrm>
            <a:off x="6172200" y="3200400"/>
            <a:ext cx="2519280" cy="236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7010280" y="2590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x 5 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228600" y="1371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380880" y="1905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amination of excreta and body fluids to see the spores microscop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80880" y="2819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iop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380880" y="33526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ectron mic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5105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pread of HIV infections and AIDS, microsporidia have become a cause of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portunis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04920" y="182880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lbendazole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intestinal, disseminat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228600" y="2743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pical fumagillin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ocular le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C:\Users\azza\Desktop\imagesCA6F6RP6.jpg"/>
          <p:cNvPicPr/>
          <p:nvPr/>
        </p:nvPicPr>
        <p:blipFill>
          <a:blip r:embed="rId1"/>
          <a:stretch/>
        </p:blipFill>
        <p:spPr>
          <a:xfrm>
            <a:off x="6248520" y="99072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7"/>
          <p:cNvSpPr/>
          <p:nvPr/>
        </p:nvSpPr>
        <p:spPr>
          <a:xfrm>
            <a:off x="304920" y="4572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poridia are widespread in 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304920" y="8380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tazoxanide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intestin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0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633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                      developed                                         with no mucus or blood. Stool examination showed no eggs of helminths. Diagnosis was confirmed by microscopic examination of stained stool smear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 What is (are) the revealed causative parasite 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 Name the type of stain used to reveal the causative parasite 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 If the parasite could be transmitted by autoinfection, what would be your diagn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ryptosporidium parvum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infection and may be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Isospora belli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fection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39640" y="83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427640" y="83664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 watery diarrho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95280" y="2492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s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324000" y="3357720"/>
            <a:ext cx="85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Cryptosporidium parvum, Cyclospora cyaetenensis, Isospora bel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1258920" y="458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dified Ziehl-Neelsen 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1219320" y="3733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Microsporidia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ffecting patient’s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0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24000" y="189000"/>
            <a:ext cx="8496000" cy="647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ffffff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50920" y="83664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gnant female attending an outpatient clinic for pregnancy follow up (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متابعة حم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as asked to do some investigations. Among these was testing fo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gG anti-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oxoplas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odies that proved to be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79280" y="2637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- How would the doctor pro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24000" y="2997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6307"/>
                </a:solidFill>
                <a:latin typeface="Arial"/>
              </a:rPr>
              <a:t>The doctor should repeat the test after 2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79280" y="357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- How would the doctor interpret the results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611280" y="3933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- The titer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859280" y="3933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- There is rising t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179280" y="486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- Mention other immunoglobulin classes that are of value to the diag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6920" y="4292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6307"/>
                </a:solidFill>
                <a:latin typeface="Arial"/>
              </a:rPr>
              <a:t>Treatment is not ind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219640" y="4292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6307"/>
                </a:solidFill>
                <a:latin typeface="Arial"/>
              </a:rPr>
              <a:t>Treatment is ind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2268360" y="5229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6307"/>
                </a:solidFill>
                <a:latin typeface="Arial"/>
              </a:rPr>
              <a:t>Detection of IgM anti-Toxoplasma anti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179280" y="5732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- If treatment is indicated, what drug would you prescri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684360" y="6165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6307"/>
                </a:solidFill>
                <a:latin typeface="Arial"/>
              </a:rPr>
              <a:t>Spiramycin is the indicated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C.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" descr="microsp 4"/>
          <p:cNvPicPr/>
          <p:nvPr/>
        </p:nvPicPr>
        <p:blipFill>
          <a:blip r:embed="rId1"/>
          <a:stretch/>
        </p:blipFill>
        <p:spPr>
          <a:xfrm>
            <a:off x="6019920" y="3276720"/>
            <a:ext cx="1341360" cy="1366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microsp 2"/>
          <p:cNvPicPr/>
          <p:nvPr/>
        </p:nvPicPr>
        <p:blipFill>
          <a:blip r:embed="rId2"/>
          <a:stretch/>
        </p:blipFill>
        <p:spPr>
          <a:xfrm>
            <a:off x="2133720" y="3505320"/>
            <a:ext cx="838080" cy="407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microsp 3"/>
          <p:cNvPicPr/>
          <p:nvPr/>
        </p:nvPicPr>
        <p:blipFill>
          <a:blip r:embed="rId3"/>
          <a:stretch/>
        </p:blipFill>
        <p:spPr>
          <a:xfrm>
            <a:off x="4078440" y="3276720"/>
            <a:ext cx="691920" cy="1371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5" descr="microsp 1 - Copy"/>
          <p:cNvPicPr/>
          <p:nvPr/>
        </p:nvPicPr>
        <p:blipFill>
          <a:blip r:embed="rId4"/>
          <a:stretch/>
        </p:blipFill>
        <p:spPr>
          <a:xfrm>
            <a:off x="762120" y="3581280"/>
            <a:ext cx="237960" cy="200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304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152388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 fi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47242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7315200" y="3505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oplasm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>
            <a:off x="1143000" y="3657600"/>
            <a:ext cx="6858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>
            <a:off x="3276720" y="3657600"/>
            <a:ext cx="6858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"/>
          <p:cNvSpPr/>
          <p:nvPr/>
        </p:nvSpPr>
        <p:spPr>
          <a:xfrm>
            <a:off x="5410080" y="3657600"/>
            <a:ext cx="6858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4"/>
          <p:cNvSpPr/>
          <p:nvPr/>
        </p:nvSpPr>
        <p:spPr>
          <a:xfrm>
            <a:off x="228600" y="914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poridia infect host cell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228600" y="1371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- Attachment to host cell by sucking d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6"/>
          <p:cNvSpPr/>
          <p:nvPr/>
        </p:nvSpPr>
        <p:spPr>
          <a:xfrm>
            <a:off x="228600" y="18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- Injection of sporoplasm through polar fila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228600" y="2286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- Lysis of host cell membrane by lytic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8"/>
          <p:cNvSpPr/>
          <p:nvPr/>
        </p:nvSpPr>
        <p:spPr>
          <a:xfrm>
            <a:off x="228600" y="2743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- Phagocytosis of opsonized s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228600" y="4876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poridia a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22860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- The human cor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228600" y="5791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- The human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4267080" y="5334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- The human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267080" y="5791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-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1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524" dur="1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525" dur="1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0" dur="1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22" dur="1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80880" y="762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by was born suffering from congenital anomaly as shown in the figure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ydrocephalus"/>
          <p:cNvPicPr/>
          <p:nvPr/>
        </p:nvPicPr>
        <p:blipFill>
          <a:blip r:embed="rId1"/>
          <a:stretch/>
        </p:blipFill>
        <p:spPr>
          <a:xfrm>
            <a:off x="6934320" y="1295280"/>
            <a:ext cx="1800000" cy="18036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2860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- What is your diagnosis? &amp; name this anom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04920" y="2514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e of congenital toxoplasmosis, the name of this anomaly is hydrocepha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04920" y="3276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- How was the baby in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04920" y="3657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chyzoites</a:t>
            </a:r>
            <a:r>
              <a:rPr b="0" lang="en-US" sz="2400" spc="-1" strike="noStrike">
                <a:solidFill>
                  <a:srgbClr val="00b4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fected mother crossed the placenta</a:t>
            </a:r>
            <a:r>
              <a:rPr b="0" lang="en-US" sz="2400" spc="-1" strike="noStrike">
                <a:solidFill>
                  <a:srgbClr val="00b4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fected the fo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22860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- How can you confirm your diagn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304920" y="4952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ti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oxoplasma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I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ibod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aby’s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30492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xopl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A in infant’s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380880" y="1523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complaint was fever &amp;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C:\cap\separating serum.jpg"/>
          <p:cNvPicPr/>
          <p:nvPr/>
        </p:nvPicPr>
        <p:blipFill>
          <a:blip r:embed="rId2"/>
          <a:stretch/>
        </p:blipFill>
        <p:spPr>
          <a:xfrm>
            <a:off x="7391520" y="3200400"/>
            <a:ext cx="1417680" cy="2330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304920" y="5715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ri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ti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oxoplasm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ibodies in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0" y="685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- What are the factors affecting the severity of foetal da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28600" y="1143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age of the foetus at the time of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2860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protective immunity of the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2280" y="2362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- Mention other congenital anomalies which may be presented due to such inf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04920" y="3124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ly neonatal manifestations in the form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380880" y="3581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NS af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crocephaly, spasticity, palsy &amp; convul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380880" y="3962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 af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tinochoroid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380880" y="4419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ic manifes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ver, pneumonitis, hepatomegaly, jaundice &amp; lymphaden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0492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 manifestations in the form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38088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retardation &amp; eye af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C.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7928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ations of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genital toxoplasm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irst seen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0920" y="162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neonatal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50920" y="206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child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24360" y="1628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995640" y="2060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79280" y="2637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oplasmosis i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tal in AI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by ca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179280" y="3068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Nephrotic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179280" y="3500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Disseminated encepha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79280" y="3933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Megacolon &amp;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79280" y="443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Megaoesophagus &amp; dysph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179280" y="508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cys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gondii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179280" y="551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Brain of chronic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4572000" y="551664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Tissues of infecte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9"/>
          <p:cNvSpPr/>
          <p:nvPr/>
        </p:nvSpPr>
        <p:spPr>
          <a:xfrm>
            <a:off x="179280" y="59500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Faeces of infected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4572000" y="595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Faeces of infecte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396" dur="1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6" dur="1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37" dur="1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551640" y="907920"/>
            <a:ext cx="2592360" cy="19209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57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C.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indnes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35280" y="1268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Optic neu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708360" y="1700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Panophthalm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500720" y="378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Sleeping s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500720" y="33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Cerebral toxopla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179280" y="3789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Naegleria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encepha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79280" y="3357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Cerebral ma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179280" y="2924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cephalus can occur in the following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79280" y="515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cys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250920" y="5589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Stool of 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250920" y="6021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Stool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4211640" y="558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Human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211640" y="6021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Huma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179280" y="1700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Retinochoroi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179280" y="1268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Corneal o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ydrocephalus"/>
          <p:cNvPicPr/>
          <p:nvPr/>
        </p:nvPicPr>
        <p:blipFill>
          <a:blip r:embed="rId2"/>
          <a:stretch/>
        </p:blipFill>
        <p:spPr>
          <a:xfrm>
            <a:off x="7020000" y="4292640"/>
            <a:ext cx="151272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1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541" dur="1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542" dur="1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629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ection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during pregnanc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 ante natal as well as post natal follow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nte natal follow up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is needed to detect activity of infection, serological test is done to detect IgM or rising titre of Ig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f either is found, this indicates a risk of foetal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ost natally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, babies should be tested for IgM antibodies and when found should be tre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C.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quelae </a:t>
            </a:r>
            <a:r>
              <a:rPr b="0" lang="ar-EG" sz="2800" spc="-1" strike="noStrike">
                <a:solidFill>
                  <a:srgbClr val="cc0000"/>
                </a:solidFill>
                <a:latin typeface="Arial"/>
              </a:rPr>
              <a:t>الآثار الناتجة عن</a:t>
            </a:r>
            <a:r>
              <a:rPr b="0" lang="ar-EG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fect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immune status of infected hu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age of infected hu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virulence of the infecting parasite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non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e-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cys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und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- Stool of 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- Infected huma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40360" y="5013360"/>
            <a:ext cx="30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- Meat of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211640" y="551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- Stool of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slide show 1-3"/>
          <p:cNvPicPr/>
          <p:nvPr/>
        </p:nvPicPr>
        <p:blipFill>
          <a:blip r:embed="rId1"/>
          <a:stretch/>
        </p:blipFill>
        <p:spPr>
          <a:xfrm>
            <a:off x="7596360" y="2781360"/>
            <a:ext cx="869760" cy="869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slide show 1-2"/>
          <p:cNvPicPr/>
          <p:nvPr/>
        </p:nvPicPr>
        <p:blipFill>
          <a:blip r:embed="rId2"/>
          <a:stretch/>
        </p:blipFill>
        <p:spPr>
          <a:xfrm>
            <a:off x="759636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slide show 1-4"/>
          <p:cNvPicPr/>
          <p:nvPr/>
        </p:nvPicPr>
        <p:blipFill>
          <a:blip r:embed="rId3"/>
          <a:stretch/>
        </p:blipFill>
        <p:spPr>
          <a:xfrm>
            <a:off x="7380360" y="5460840"/>
            <a:ext cx="1152360" cy="884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6948360" y="357336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cy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7093080" y="4869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c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6516720" y="6237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ulated ooc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94836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hyzo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1" descr="slide show 1-1"/>
          <p:cNvPicPr/>
          <p:nvPr/>
        </p:nvPicPr>
        <p:blipFill>
          <a:blip r:embed="rId4"/>
          <a:stretch/>
        </p:blipFill>
        <p:spPr>
          <a:xfrm>
            <a:off x="7524720" y="1268280"/>
            <a:ext cx="1006560" cy="8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15" dur="1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51" dur="1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2" dur="1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ant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xoplas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g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in blood of a pregnant woman does not necessarily indicate foetal infection, while their detection in foetal blood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480960" y="3938760"/>
          <a:ext cx="81820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38760"/>
                    <a:ext cx="81820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7"/>
          <p:cNvSpPr/>
          <p:nvPr/>
        </p:nvSpPr>
        <p:spPr>
          <a:xfrm>
            <a:off x="755640" y="35733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tection of IgM in mother’s blood indicates active infection of the moth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gM antibodies cannot cross the placent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o its presence in foetal blood is an indication of foet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8:30:06Z</dcterms:created>
  <dc:creator>azza</dc:creator>
  <dc:description/>
  <dc:language>en-US</dc:language>
  <cp:lastModifiedBy>azza</cp:lastModifiedBy>
  <dcterms:modified xsi:type="dcterms:W3CDTF">2012-03-27T07:48:00Z</dcterms:modified>
  <cp:revision>195</cp:revision>
  <dc:subject/>
  <dc:title>Opportunistic Protozoa</dc:title>
</cp:coreProperties>
</file>