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3FD70-4F85-4E3C-839C-DB9D28124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E3EC0-81DC-4A95-BC54-91B06F12B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F4262-0D35-49CD-928D-08700D2A4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5DF9E-AAFD-4687-A119-C0A066E5E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8F193-F872-4259-86BB-11FB4D960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06C2-9344-436C-ABB1-B876487C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6E82-7481-4CE1-A605-C8FA6F35F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6A5E-C1A5-461C-A819-B6529BAE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239A2-9909-4055-A1C0-27DC1E450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E8F07-D0D1-4F52-9ADF-AEC61D9B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B6FD-DF08-4EE7-A7E3-2CC8A3A2E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E560-FFE7-4A31-93E5-0FA8F8D2F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C360-2FA9-4E2F-8B2E-6FF13E3BEA22}"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571320"/>
            <a:ext cx="82152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Segoe UI Semibold"/>
                <a:ea typeface="Times New Roman"/>
              </a:rPr>
              <a:t>Love Problem Solution</a:t>
            </a:r>
            <a:endParaRPr b="0" lang="en-US" sz="3200" spc="-1" strike="noStrike">
              <a:solidFill>
                <a:srgbClr val="000000"/>
              </a:solidFill>
              <a:latin typeface="Calibri"/>
            </a:endParaRPr>
          </a:p>
        </p:txBody>
      </p:sp>
      <p:sp>
        <p:nvSpPr>
          <p:cNvPr id="42" name="PlaceHolder 2"/>
          <p:cNvSpPr>
            <a:spLocks noGrp="1"/>
          </p:cNvSpPr>
          <p:nvPr>
            <p:ph type="subTitle"/>
          </p:nvPr>
        </p:nvSpPr>
        <p:spPr>
          <a:xfrm>
            <a:off x="1357200" y="221472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dian Astrologer </a:t>
            </a:r>
            <a:r>
              <a:rPr b="0" lang="en-US" sz="2800" spc="-1" strike="noStrike">
                <a:solidFill>
                  <a:srgbClr val="000000"/>
                </a:solidFill>
                <a:latin typeface="Times New Roman"/>
                <a:ea typeface="Times New Roman"/>
              </a:rPr>
              <a:t> will help you in getting rid of all kind of complications. He will make you the master of your relationship and no one will leave you ever again. </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 has developed the mantra with a lot of exploration and hard work, that is why these mantras are very efficient and they will change any scenario. All you have to do is to reach our specialist and get access to an uncluttered love life. You just let him know about the troubles that you have been facing, and he will serve you according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l you have to do is to reach our specialist and get access to an uncluttered love life. You just let him know about the troubles that you have been facing, and he will serve you according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0000"/>
                </a:solidFill>
                <a:latin typeface="Times New Roman"/>
                <a:ea typeface="Times New Roman"/>
              </a:rPr>
              <a:t>Visit Us:</a:t>
            </a:r>
            <a:endParaRPr b="0" lang="en-US" sz="3200" spc="-1" strike="noStrike">
              <a:solidFill>
                <a:srgbClr val="000000"/>
              </a:solidFill>
              <a:latin typeface="Calibri"/>
            </a:endParaRPr>
          </a:p>
        </p:txBody>
      </p:sp>
      <p:sp>
        <p:nvSpPr>
          <p:cNvPr id="48" name=""/>
          <p:cNvSpPr txBox="1"/>
          <p:nvPr/>
        </p:nvSpPr>
        <p:spPr>
          <a:xfrm>
            <a:off x="500040" y="2785680"/>
            <a:ext cx="8072640" cy="3357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it Karan Sharm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http://www.famouspandit.co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 id: panditkaransharma@gmail.co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e No.: +9198555682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4:51:16Z</dcterms:created>
  <dc:creator>KS</dc:creator>
  <dc:description/>
  <dc:language>en-US</dc:language>
  <cp:lastModifiedBy>admin</cp:lastModifiedBy>
  <dcterms:modified xsi:type="dcterms:W3CDTF">2018-04-14T05:42:46Z</dcterms:modified>
  <cp:revision>6</cp:revision>
  <dc:subject/>
  <dc:title>Indian Astrologer in Sydney</dc:title>
</cp:coreProperties>
</file>