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gif" ContentType="image/gif"/>
  <Override PartName="/ppt/media/image1.jpeg" ContentType="image/jpeg"/>
  <Override PartName="/ppt/media/george%20zamfir%20-%20ave%20maria%20(panfluit)%20(1)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2C94-0183-49D5-9EFB-04E8A2D8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FF7-BCE0-425D-BD6E-0FF86AD7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373D-35A9-4906-B84A-D8AA8003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D34F-6CA1-46CA-A07F-CACE93DA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925-F9F9-4866-B4EA-BD023C66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87FD-443E-4937-B4F6-258C50AB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3E1D-E941-4747-A0F1-181818DD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F06D-DF81-4BD4-B673-788A7D17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29C2-1601-4E4C-949A-42EE98D1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3BED-F998-44D1-B18B-F6A0FCCA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F19-E187-49BF-A8BE-17A649C4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480D-E359-485A-9569-B6D76989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9C3D-6351-4EF4-8A91-F336AA9EE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eorge%20zamfir%20-%20ave%20maria%20(panfluit)%20(1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8160" y="-28440"/>
            <a:ext cx="9220320" cy="691488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newsflash/>
    <p:sndAc>
      <p:stSnd>
        <p:snd r:embed="rId2" name="george%20zamfir%20-%20ave%20maria%20(panfluit)%20(1)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8160" y="-28440"/>
            <a:ext cx="9220320" cy="691488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8160" y="-28440"/>
            <a:ext cx="9220320" cy="691488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8160" y="-28440"/>
            <a:ext cx="9220320" cy="691488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1403280" y="4365720"/>
            <a:ext cx="6337440" cy="936360"/>
            <a:chOff x="1403280" y="4365720"/>
            <a:chExt cx="6337440" cy="936360"/>
          </a:xfrm>
        </p:grpSpPr>
        <p:sp>
          <p:nvSpPr>
            <p:cNvPr id="54" name=""/>
            <p:cNvSpPr/>
            <p:nvPr/>
          </p:nvSpPr>
          <p:spPr>
            <a:xfrm>
              <a:off x="1403280" y="4365720"/>
              <a:ext cx="6337440" cy="936360"/>
            </a:xfrm>
            <a:prstGeom prst="octagon">
              <a:avLst>
                <a:gd name="adj" fmla="val 29287"/>
              </a:avLst>
            </a:prstGeom>
            <a:blipFill rotWithShape="0">
              <a:blip r:embed="rId2">
                <a:alphaModFix amt="48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2556000" y="4752720"/>
              <a:ext cx="4533840" cy="342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latin typeface="Poor Richard"/>
                </a:rPr>
                <a:t>www.free-powerpoints.goedbegin.be</a:t>
              </a:r>
              <a:endPara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  <a:ea typeface="Poor Richard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1692360" y="4537080"/>
              <a:ext cx="5952960" cy="199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latin typeface="Bookman Old Style"/>
                </a:rPr>
                <a:t>voor meer dan 2500 Powerpoints, click op onderstaande hyperlink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  <a:ea typeface="Bookman Old Style"/>
              </a:endParaRPr>
            </a:p>
          </p:txBody>
        </p:sp>
      </p:grp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8160" y="-28440"/>
            <a:ext cx="9220320" cy="691488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8160" y="114480"/>
            <a:ext cx="9220320" cy="662940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8160" y="-28440"/>
            <a:ext cx="9220320" cy="691488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8160" y="-28440"/>
            <a:ext cx="9220320" cy="691488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8160" y="-28440"/>
            <a:ext cx="9220320" cy="691488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8160" y="9360"/>
            <a:ext cx="9220320" cy="683928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8160" y="-28440"/>
            <a:ext cx="9220320" cy="691488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8160" y="-28440"/>
            <a:ext cx="9220320" cy="691488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5:14:52Z</dcterms:created>
  <dc:creator/>
  <dc:description/>
  <dc:language>en-US</dc:language>
  <cp:lastModifiedBy>Smets</cp:lastModifiedBy>
  <dcterms:modified xsi:type="dcterms:W3CDTF">2011-12-11T06:11:10Z</dcterms:modified>
  <cp:revision>5</cp:revision>
  <dc:subject/>
  <dc:title>Dia 1</dc:title>
</cp:coreProperties>
</file>