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F10-7753-4D4B-AB80-3CFAAC65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7EE-DB3C-4D2A-AA85-B3F64DF8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8B2-64DF-4AB8-B964-5FB0DD30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5E6-27C1-45C1-A893-D335F315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1DD-948A-4412-98BD-327B73DF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3A2-29D1-4E7A-9911-DD142C0D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EC8-4E89-4755-9CFE-83FE3E6B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144-B4EA-4219-82C5-2E3FF724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7C7-3D65-4F35-A6A4-DF34CB79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19F-F5A3-4BE2-9F62-51A1C6C6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239-AD48-48F1-81F2-CC0CF5E3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809-C932-4A5D-8705-FE54B6C5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C041-75FA-4BA5-B94F-A3B7D66AFF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06T08:33:17Z</dcterms:modified>
  <cp:revision>28</cp:revision>
  <dc:subject/>
  <dc:title>슬라이드 1</dc:title>
</cp:coreProperties>
</file>