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02E-B323-4808-8BCA-A7E172D2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BA4-FB71-4557-888C-FACC85CD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654-9416-434B-AC58-954E40E7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4DF-23B7-4646-AEA1-74E46B4F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2C2-DFB0-41A6-9777-D7E8325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76B-B845-4613-B5E7-BC1284B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999-0C1D-4414-952E-7CB37541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C37-FE47-4D41-837E-08B4103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5E7-ED4A-4994-A17F-0AE528C5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E38-46FE-482A-87A9-BCC87B4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202-6361-41F4-9631-650C205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AB0-A310-44D1-8E8D-6F50FDD9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76B8-85A0-4435-8819-65C7445110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08:33:17Z</dcterms:modified>
  <cp:revision>28</cp:revision>
  <dc:subject/>
  <dc:title>슬라이드 1</dc:title>
</cp:coreProperties>
</file>