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C4F-7325-49B1-9DA4-8DEBEDD3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506-1434-43AB-B7E1-924A7AF4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B69-E015-4199-B42F-0853CA5F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0F1-6AD5-4199-89FA-6C2FB79D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825-F133-4103-835A-8E1CDA05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286-FE3F-4985-AFBA-2DEC6153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43C-C56E-4DDB-B165-2B6B4677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F40-78CD-4737-B21E-9C38CE6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E1C-F674-4D57-AF97-750560EE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52C-0454-4802-B0DD-90388109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11C-B243-47DF-9C77-B3A8963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7EF-47D4-451D-AAF6-EE4678C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B10E2-EFFA-4D1C-A449-2425C0E7DB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6DD42-966A-4AEA-A79E-4BBB9029F96C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7:44:37Z</dcterms:created>
  <dc:creator>최봉수</dc:creator>
  <dc:description/>
  <dc:language>en-US</dc:language>
  <cp:lastModifiedBy>맛있다 군만두</cp:lastModifiedBy>
  <dcterms:modified xsi:type="dcterms:W3CDTF">2023-07-13T07:05:00Z</dcterms:modified>
  <cp:revision>4</cp:revision>
  <dc:subject/>
  <dc:title>슬라이드 1</dc:title>
</cp:coreProperties>
</file>