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8FFF-CB4A-4B97-8B54-6A7BB17D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A34D-F979-4D9F-9D61-7DB5E463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B339-2C6B-4A32-AD66-97294C52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C7CF-1A10-4C63-BCE6-05A71AAA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06EA-ED53-46C9-A9F3-4CE8D970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B83E-C299-44E6-AADF-A77CC13B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CC2B-6104-4C8D-9D83-CD4B15CB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88D4-C123-48AC-9DDE-867B97B4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774-FF43-480C-9FFF-A2D863B6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D07F-FB4F-4E7C-901A-8E1FA39D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3F54-C820-400A-852F-C67C8FD5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58E2-D694-4E0F-9369-7F6027B4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44BF5-FD5A-412E-91D8-C0E47032A8E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DC1B2A-B72F-46E1-B1D7-0FD7C7FCA2ED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7:44:37Z</dcterms:created>
  <dc:creator>최봉수</dc:creator>
  <dc:description/>
  <dc:language>en-US</dc:language>
  <cp:lastModifiedBy>맛있다 군만두</cp:lastModifiedBy>
  <dcterms:modified xsi:type="dcterms:W3CDTF">2023-07-13T07:05:00Z</dcterms:modified>
  <cp:revision>4</cp:revision>
  <dc:subject/>
  <dc:title>슬라이드 1</dc:title>
</cp:coreProperties>
</file>